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F83-D93E-4504-9B59-49F07449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5640" y="199440"/>
            <a:ext cx="791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7993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0560" y="3538440"/>
            <a:ext cx="7993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FBB-BC9E-4D77-993F-E5148553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5640" y="199440"/>
            <a:ext cx="791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3900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6640" y="981000"/>
            <a:ext cx="3900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0560" y="3538440"/>
            <a:ext cx="3900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46640" y="3538440"/>
            <a:ext cx="3900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9808-D367-4B3F-A61D-B8039FB1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199440"/>
            <a:ext cx="791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2573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53440" y="981000"/>
            <a:ext cx="2573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55960" y="981000"/>
            <a:ext cx="2573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0560" y="3538440"/>
            <a:ext cx="2573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53440" y="3538440"/>
            <a:ext cx="2573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55960" y="3538440"/>
            <a:ext cx="2573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685-4AD0-4A75-8870-D96B8197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33FA-EFBE-4B6E-B69C-4D0D1355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5640" y="199440"/>
            <a:ext cx="791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50560" y="98100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CCE5-28E4-480A-B128-EA606AF1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5640" y="199440"/>
            <a:ext cx="791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863E-714E-4EDC-9916-ECDAB43C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5640" y="199440"/>
            <a:ext cx="791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3900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46640" y="981000"/>
            <a:ext cx="3900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F7EE-1A07-4B07-83F2-53D2ED5D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199440"/>
            <a:ext cx="791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EEAB-8534-494B-96CA-E46AC934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15640" y="215640"/>
            <a:ext cx="791676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E035-9E42-40CC-B82C-A15B8E6D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5640" y="199440"/>
            <a:ext cx="791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3900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46640" y="981000"/>
            <a:ext cx="3900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0560" y="3538440"/>
            <a:ext cx="3900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A89C-280C-43A9-8098-0CE4E336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199440"/>
            <a:ext cx="791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0560" y="98100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1FD-4CB7-4824-8FA7-17E93085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199440"/>
            <a:ext cx="791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3900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46640" y="981000"/>
            <a:ext cx="3900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46640" y="3538440"/>
            <a:ext cx="3900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52EC-AFE1-4177-BA28-9D37E839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199440"/>
            <a:ext cx="791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3900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46640" y="981000"/>
            <a:ext cx="3900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50560" y="3538440"/>
            <a:ext cx="7993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01BD-BDC5-4F28-84D2-299639D1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199440"/>
            <a:ext cx="791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7993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50560" y="3538440"/>
            <a:ext cx="7993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EDB3-6A74-4C7B-9BA4-31466D88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5640" y="199440"/>
            <a:ext cx="791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3900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6640" y="981000"/>
            <a:ext cx="3900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50560" y="3538440"/>
            <a:ext cx="3900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46640" y="3538440"/>
            <a:ext cx="3900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F614-6FF1-4816-97B2-7B9C5C6D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199440"/>
            <a:ext cx="791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2573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53440" y="981000"/>
            <a:ext cx="2573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55960" y="981000"/>
            <a:ext cx="2573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50560" y="3538440"/>
            <a:ext cx="2573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53440" y="3538440"/>
            <a:ext cx="2573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55960" y="3538440"/>
            <a:ext cx="2573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FB87-0D3A-4504-87EC-5D0805A2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5640" y="199440"/>
            <a:ext cx="791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6D70-7A83-479B-94E7-9EA3E5DF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5640" y="199440"/>
            <a:ext cx="791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3900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46640" y="981000"/>
            <a:ext cx="3900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ECD-77BD-4375-92C9-03722336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199440"/>
            <a:ext cx="791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3F8-EECA-4B3B-93C9-B6FFC7B6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5640" y="215640"/>
            <a:ext cx="791676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09E-39EC-4555-807D-1742115C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199440"/>
            <a:ext cx="791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3900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46640" y="981000"/>
            <a:ext cx="3900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0560" y="3538440"/>
            <a:ext cx="3900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AC2E-3604-4628-A196-66911E40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5640" y="199440"/>
            <a:ext cx="791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3900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46640" y="981000"/>
            <a:ext cx="3900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46640" y="3538440"/>
            <a:ext cx="3900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E75-D7E7-44A5-9B06-365848DB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5640" y="199440"/>
            <a:ext cx="791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3900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46640" y="981000"/>
            <a:ext cx="3900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0560" y="3538440"/>
            <a:ext cx="7993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26F-2EF6-4345-A8B1-D831646E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5640" y="215640"/>
            <a:ext cx="79167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50560" y="98100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67280" y="6381360"/>
            <a:ext cx="148572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755640" y="6381360"/>
            <a:ext cx="6840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78920" y="6381360"/>
            <a:ext cx="46836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2904-5C1F-42BB-BF14-580C2DE60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44280"/>
            <a:ext cx="863640" cy="836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8091360" y="5719680"/>
            <a:ext cx="1052640" cy="113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2565000"/>
            <a:ext cx="77058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667280" y="6381360"/>
            <a:ext cx="148572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755640" y="6381360"/>
            <a:ext cx="6840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178920" y="6381360"/>
            <a:ext cx="46836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E18F-B720-4460-83E7-8BC034B82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79280" y="44280"/>
            <a:ext cx="863640" cy="836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06440" cy="1413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619280" y="4437000"/>
            <a:ext cx="6480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d Palm Hotel and Casino Gaborone, Botswa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nd to 5th Sept 200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5507280" cy="27651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347640" y="404640"/>
            <a:ext cx="2879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SA 0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5640" y="215640"/>
            <a:ext cx="79167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 to have good Materials Engineers, Technicians and 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 to come to CAPSA to consolidate the good practices of the past with a view to the 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215640"/>
            <a:ext cx="79167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Days and 3 Nigh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 and Comp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side – Exhib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Form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on Practic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5640" y="215640"/>
            <a:ext cx="79167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call for pap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ited Pap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 Speak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 Moderators – Mostly O’Se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Well Structured Worksho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 Plan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 Facilit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sure Participation and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215640"/>
            <a:ext cx="79167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nday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Icebrea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day 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 Safety and Environment (H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 Mix Asphalt (HM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parallel worksho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hibitors Braa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5640" y="215640"/>
            <a:ext cx="79167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es 4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facing Se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t Sta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parallel workshop sessions (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la Dinn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dnesday 5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parallel workshop sessions (4 and 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215640"/>
            <a:ext cx="79167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e to Participate, Learn and Enjo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s get Southern Africa back on the World Map in terms of our materials knowledge, pavement design and asset management expertis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5640" y="215640"/>
            <a:ext cx="79167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olidating Best Pract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es this me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15640"/>
            <a:ext cx="79167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rge Subcontin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18988" t="0" r="16096" b="13682"/>
          <a:stretch/>
        </p:blipFill>
        <p:spPr>
          <a:xfrm>
            <a:off x="1332000" y="1052640"/>
            <a:ext cx="6480000" cy="564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5640" y="215640"/>
            <a:ext cx="79167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riable Population Density and Long Dista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8697" t="29208" r="44091" b="9377"/>
          <a:stretch/>
        </p:blipFill>
        <p:spPr>
          <a:xfrm>
            <a:off x="2003400" y="981000"/>
            <a:ext cx="5592960" cy="576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5640" y="215640"/>
            <a:ext cx="79167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9529" r="0" b="0"/>
          <a:stretch/>
        </p:blipFill>
        <p:spPr>
          <a:xfrm>
            <a:off x="2340000" y="907920"/>
            <a:ext cx="5114880" cy="587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5640" y="215640"/>
            <a:ext cx="79167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vy Loa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24611" b="23228"/>
          <a:stretch/>
        </p:blipFill>
        <p:spPr>
          <a:xfrm>
            <a:off x="1330200" y="954000"/>
            <a:ext cx="6481800" cy="495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5640" y="215640"/>
            <a:ext cx="79167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s and Enviro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ly Good Variety of Materi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ly benign climate for road-buil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215640"/>
            <a:ext cx="79167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ing Count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ker Govern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Fu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5640" y="215640"/>
            <a:ext cx="79167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0560" y="98100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to get the most bang for our buck spent on pav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to maximise use of local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to optimise use of expensive manufactured materi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thin waterproof surfac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good pavement and surfacing management to ensure that what is built lasts for its design life and beyon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08:46:15Z</dcterms:created>
  <dc:creator>Arthur Taute</dc:creator>
  <dc:description/>
  <dc:language>en-US</dc:language>
  <cp:lastModifiedBy>Arthur Taute</cp:lastModifiedBy>
  <dcterms:modified xsi:type="dcterms:W3CDTF">2007-05-08T04:23:59Z</dcterms:modified>
  <cp:revision>9</cp:revision>
  <dc:subject/>
  <dc:title>CAPSA 07</dc:title>
</cp:coreProperties>
</file>