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D7CD-AF7F-4EB3-856A-144FFD4C3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olitical – not technical foc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 12 to $ 34 /t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 2007 $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$20 to $100/ton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04A-DCE1-4F7F-BF53-861CB2BD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40856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8AC-FFD1-4466-812D-988D39FC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42100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40856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40856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753-D68C-4C4B-84C8-F082AE6A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264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421000"/>
            <a:ext cx="264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421000"/>
            <a:ext cx="264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408560"/>
            <a:ext cx="264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408560"/>
            <a:ext cx="264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408560"/>
            <a:ext cx="264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F86-4BEF-4D7B-A057-2F8D604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4D4-8E4D-4F2E-ACBB-20502CD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F07-1714-469A-B229-325625B7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40158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421000"/>
            <a:ext cx="40158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3F8-7FD7-4CB4-A7B4-ECF4FE90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C06-7A11-47A4-B309-C466ABDC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E2F-D969-496F-9774-B20FC46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421000"/>
            <a:ext cx="40158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40856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494-98D8-4D67-A156-0991F41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40158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42100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40856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B40-EF39-4403-B01B-5A3CBF2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421000"/>
            <a:ext cx="40158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40856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E01-1B7C-4AB6-9BE4-EE9F4FA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421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077D-0564-4F20-AEFE-A88772335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23</a:t>
            </a:r>
            <a:r>
              <a:rPr b="1" lang="en-US" sz="4400" spc="-1" strike="noStrike" baseline="30000">
                <a:solidFill>
                  <a:srgbClr val="ffff66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World Road Congres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360" y="3213000"/>
            <a:ext cx="5219640" cy="349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72360" y="2781360"/>
            <a:ext cx="25732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Reduction in Future Cost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rvation of infra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focus on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 management of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life pav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e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Modulus Asphalt (Hi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 industry point of view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elop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uld not be perceived as a new series of constraints hampering our activities but rather a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ening of our field activities and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able development rapidly becoming a new multi-billion industry with innovation being a major cataly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8-2007: “the Oil Age” – next 100 year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act Shee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604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niversary of PIA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6 countries, 34 African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5000 delegates &amp; exhibitors, 48 South Afric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200 exhibitions, 16 national pavilions (including 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 Ministers of Transport (including 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plenary sessions (opening, Ministers’ &amp; closing sess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trategic direction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PIARC committee feedback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 special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8 half-day sessions = 24 full-day equivalents in 3.5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 technical visits during Con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social event (gala din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1182600"/>
            <a:ext cx="2730240" cy="2048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50120" y="5043600"/>
            <a:ext cx="27302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50120" y="3227400"/>
            <a:ext cx="2730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ubject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tain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ster miti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ban intermod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a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tion of road adminis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ance &amp; integ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in road tu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nerability of road systems to climate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ad system econom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field pa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98900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ad asse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a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bility for vulnerable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-road inte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ding to HR 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thworks, drainage &amp; sub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roads &amp;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dges &amp; related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ad pa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ed urban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ight transport &amp; intermod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choice for Sustainable Developmen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080" y="2082960"/>
            <a:ext cx="761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oice for sustainable development has been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very make-up of the French government 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2007, when road issues were delegat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ry of Ecology, Sustainable Developmen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tial Planning … We must satisfy the legi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irations of populations concerning mobil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, without further thwarting the plane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and without reaching the stage of exhau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resources, rendering every sort o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ssible for generations to com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7120" y="601488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ean-Louis Borloo, Ministre d’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me Facts – Gore-y detail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last 10 years, climatic catastrophes have caused 0.9 million deaths, disrupted 2.6 billion people and financial losses exceeding $21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st ever recorded average temperature in France in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2050, 40% reduction in ice barrier, causing sea level rise that will affect 1.2 billion people and create 200 million climatic refug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d to reduc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issions by 20%, compared to 2002 benchmark, within 1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hanging road user behavio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of transport costs (taxation &amp; to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users to use road space more ratio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 rebalance towards less polluting modes of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ly improve alternative choices and render them attractiv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tolls found to be an effective means to reduce congestion and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ed that raising road charges may have undesired consequences on a country’s economic and social fab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ctions by decision maker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ly respond to four key challenges: the environment &amp; climate change, congestion, access &amp; mobility,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b transport consum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other modes of transport &amp; implement efficient inter-modal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lectronic toll collec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systems (ITS) to optimise the usage of existing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itional line item in tender to assess environmental damage caused by proposed construction methods/materials (e.g. $/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daptation of technologi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9636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ft in focus: resistance of structur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ility of engineering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issions and energy consum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, half-warm &amp; col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up to 60% of recycled asphalt (50% on A28) with new plant at a production rate of 300t/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use of existing pavement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building rubble &amp; industrial by-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echnical Innovatio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use of natural raw materials that a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ew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-fluxes to reduce viscosity of bitumen (by-products of renewable natural fats that polymerises with bitu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-cleaners with superior solvent power to protect/clean equipment (replace fuel oil type produ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-emuls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-road mar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-bind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-fu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-pollu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roa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Asphalt”: surfacings which induce a negative charge and thus able to attract suspended particulate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catalystic coatings (Ti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ich neutralise 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2:33:57Z</dcterms:created>
  <dc:creator>Verhaeghe</dc:creator>
  <dc:description/>
  <dc:language>en-US</dc:language>
  <cp:lastModifiedBy>Vutivo</cp:lastModifiedBy>
  <dcterms:modified xsi:type="dcterms:W3CDTF">2007-11-20T11:36:04Z</dcterms:modified>
  <cp:revision>19</cp:revision>
  <dc:subject/>
  <dc:title>Slide 1</dc:title>
</cp:coreProperties>
</file>