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B8C0-3BCF-4342-B6CF-11BE18F13B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7BAF-C8B1-4A97-8E6C-3D63B8CE4B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5F1F-BDBF-440B-9A2A-B57975EE09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7623-411D-4A68-BF7C-F6D50CF6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C570-44FC-46EA-A78B-F181FB2D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E28B-0BDD-43FF-8E21-E8CBE329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345E-31CB-40CA-B1BC-4487BAED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4413-4183-4956-BF94-AA662AE7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A8CB-9601-40BD-BB1A-3D446150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E900-AAFA-4D55-8ECF-F46D3CBE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29A5-0041-48B5-9049-DA49F971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5C10-779B-4BB9-9E29-08C9C10D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2686-DD90-4B76-B319-708A5355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645-F766-47C9-96C7-478B78F8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76B2-0D53-4E29-A620-914C91C6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b1b1"/>
            </a:gs>
            <a:gs pos="100000">
              <a:srgbClr val="eaea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4108-7E84-4111-9FDE-47CDDE746A54}" type="slidenum"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80880" y="5867280"/>
            <a:ext cx="1352520" cy="590760"/>
            <a:chOff x="380880" y="5867280"/>
            <a:chExt cx="1352520" cy="590760"/>
          </a:xfrm>
        </p:grpSpPr>
        <p:sp>
          <p:nvSpPr>
            <p:cNvPr id="6" name=""/>
            <p:cNvSpPr/>
            <p:nvPr/>
          </p:nvSpPr>
          <p:spPr>
            <a:xfrm>
              <a:off x="380880" y="5867280"/>
              <a:ext cx="135252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graphicFrame>
          <p:nvGraphicFramePr>
            <p:cNvPr id="7" name=""/>
            <p:cNvGraphicFramePr/>
            <p:nvPr/>
          </p:nvGraphicFramePr>
          <p:xfrm>
            <a:off x="380880" y="5867280"/>
            <a:ext cx="1338480" cy="57528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5867280"/>
                      <a:ext cx="1338480" cy="57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" name=""/>
          <p:cNvSpPr/>
          <p:nvPr/>
        </p:nvSpPr>
        <p:spPr>
          <a:xfrm>
            <a:off x="380880" y="533520"/>
            <a:ext cx="0" cy="525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752480" y="6400800"/>
            <a:ext cx="6705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bryan@cnci.org.za" TargetMode="External"/><Relationship Id="rId2" Type="http://schemas.openxmlformats.org/officeDocument/2006/relationships/hyperlink" Target="mailto:gill@cnci.org.z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b1b1"/>
            </a:gs>
            <a:gs pos="100000">
              <a:srgbClr val="eaea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76360" y="765000"/>
            <a:ext cx="6334200" cy="1028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76720" y="2492280"/>
            <a:ext cx="2676240" cy="314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03280" y="3284640"/>
            <a:ext cx="6821640" cy="453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84360" y="4076640"/>
            <a:ext cx="1742760" cy="905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443640" y="3933720"/>
            <a:ext cx="1552680" cy="1276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3635280" y="5013360"/>
            <a:ext cx="1648080" cy="13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b1b1"/>
            </a:gs>
            <a:gs pos="100000">
              <a:srgbClr val="eaea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772400" cy="647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843280" y="2997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www.cnci.org.za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b1b1"/>
            </a:gs>
            <a:gs pos="100000">
              <a:srgbClr val="eaea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1080" y="2895120"/>
            <a:ext cx="83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4400" spc="-1" strike="noStrike">
              <a:solidFill>
                <a:srgbClr val="0000cc"/>
              </a:solidFill>
              <a:latin typeface="Century Schoolbook"/>
            </a:endParaRPr>
          </a:p>
        </p:txBody>
      </p:sp>
      <p:sp>
        <p:nvSpPr>
          <p:cNvPr id="83" name=""/>
          <p:cNvSpPr/>
          <p:nvPr/>
        </p:nvSpPr>
        <p:spPr>
          <a:xfrm>
            <a:off x="1440" y="31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93960" y="313992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0" y="314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93960" y="314640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93960" y="306720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3362040" cy="4248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542960" y="5299560"/>
            <a:ext cx="66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10-14, 2008 in San Francisco, California, US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b1b1"/>
            </a:gs>
            <a:gs pos="100000">
              <a:srgbClr val="eaea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1080" y="2895120"/>
            <a:ext cx="83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4400" spc="-1" strike="noStrike">
              <a:solidFill>
                <a:srgbClr val="0000cc"/>
              </a:solidFill>
              <a:latin typeface="Century Schoolbook"/>
            </a:endParaRPr>
          </a:p>
        </p:txBody>
      </p:sp>
      <p:sp>
        <p:nvSpPr>
          <p:cNvPr id="91" name=""/>
          <p:cNvSpPr/>
          <p:nvPr/>
        </p:nvSpPr>
        <p:spPr>
          <a:xfrm>
            <a:off x="1440" y="31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93960" y="313992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0" y="314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93960" y="314640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93960" y="306720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5680" y="620640"/>
            <a:ext cx="795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http://www.concretepavements.org/9thiccp/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71640" y="1773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www.cnci.org.za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b1b1"/>
            </a:gs>
            <a:gs pos="100000">
              <a:srgbClr val="eaea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00"/>
                </a:solidFill>
                <a:latin typeface="Arial"/>
              </a:rPr>
              <a:t>Speakers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Nazir Alli, SANRAL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Dr Ernest J Barenberg, University of Illinois at Urbana Champaign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Leif Wathn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American Concrete Pavement Association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Dr Jamshid Armaghani,  </a:t>
            </a:r>
            <a:r>
              <a:rPr b="0" lang="en-ZA" sz="3200" spc="-1" strike="noStrike">
                <a:solidFill>
                  <a:srgbClr val="ff0000"/>
                </a:solidFill>
                <a:latin typeface="Arial"/>
                <a:ea typeface="SimSun"/>
              </a:rPr>
              <a:t>Florida Concrete and Products Associatio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b1b1"/>
            </a:gs>
            <a:gs pos="100000">
              <a:srgbClr val="eaea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00"/>
                </a:solidFill>
                <a:latin typeface="Arial"/>
              </a:rPr>
              <a:t>Speakers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Dr Mark B Snyder, Secretary ISCP and Engineering Consultant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Dr. Michael Darter, Principal Engineer, Applied Research Associates, Inc.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Prof Jose T Balbo, University of Sao Paulo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Juan Pablo Covarrubias, ICH, Chile  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b1b1"/>
            </a:gs>
            <a:gs pos="100000">
              <a:srgbClr val="eaea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00"/>
                </a:solidFill>
                <a:latin typeface="Arial"/>
              </a:rPr>
              <a:t>Speakers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Louw Kannemeyer, SANRA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Dr Neeraj Buch, Michigan State University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Prof. Dan Zollinger, Texas A&amp;M University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Jim Grove, National Concrete Pavement Technology Center, Iowa State University 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b1b1"/>
            </a:gs>
            <a:gs pos="100000">
              <a:srgbClr val="eaea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00"/>
                </a:solidFill>
                <a:latin typeface="Arial"/>
              </a:rPr>
              <a:t>Speakers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Dr Shiraz Tayabji, CTLGroup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Dr Anna-Carin Brink, Consultant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Dr Pieter Strauss, Consultant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Andre Jasienski, FEBELCEM  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b1b1"/>
            </a:gs>
            <a:gs pos="100000">
              <a:srgbClr val="eaea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00"/>
                </a:solidFill>
                <a:latin typeface="Arial"/>
              </a:rPr>
              <a:t>Exhibition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12 stand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imSun"/>
              </a:rPr>
              <a:t>Equipment manufacture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imSun"/>
              </a:rPr>
              <a:t>Admixture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imSun"/>
              </a:rPr>
              <a:t>Cement Supplie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Cocktail party 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b1b1"/>
            </a:gs>
            <a:gs pos="100000">
              <a:srgbClr val="eaea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00"/>
                </a:solidFill>
                <a:latin typeface="Arial"/>
              </a:rPr>
              <a:t>Details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www.cnci.org.za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ea typeface="SimSun"/>
                <a:hlinkClick r:id="rId1"/>
              </a:rPr>
              <a:t>bryan@cnci.org.za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ea typeface="SimSun"/>
                <a:hlinkClick r:id="rId2"/>
              </a:rPr>
              <a:t>gill@cnci.org.za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b1b1"/>
            </a:gs>
            <a:gs pos="100000">
              <a:srgbClr val="eaea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2098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481040" y="3252960"/>
            <a:ext cx="6181920" cy="352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979640" y="3716280"/>
            <a:ext cx="2036880" cy="2517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724360" y="3645000"/>
            <a:ext cx="206856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b1b1"/>
            </a:gs>
            <a:gs pos="100000">
              <a:srgbClr val="eaea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95280" y="779400"/>
            <a:ext cx="8481960" cy="492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05:40:08Z</dcterms:created>
  <dc:creator>DR GRAHAM GRIEVE</dc:creator>
  <dc:description/>
  <dc:language>en-US</dc:language>
  <cp:lastModifiedBy>bryan</cp:lastModifiedBy>
  <cp:lastPrinted>2003-10-07T06:35:22Z</cp:lastPrinted>
  <dcterms:modified xsi:type="dcterms:W3CDTF">2007-05-07T12:47:50Z</dcterms:modified>
  <cp:revision>217</cp:revision>
  <dc:subject/>
  <dc:title>Fitness-for-purpose</dc:title>
</cp:coreProperties>
</file>