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8.wmf" ContentType="image/x-wmf"/>
  <Override PartName="/ppt/media/image10.png" ContentType="image/png"/>
  <Override PartName="/ppt/media/image30.wmf" ContentType="image/x-wmf"/>
  <Override PartName="/ppt/media/image20.wmf" ContentType="image/x-wmf"/>
  <Override PartName="/ppt/media/image6.png" ContentType="image/png"/>
  <Override PartName="/ppt/media/image11.png" ContentType="image/png"/>
  <Override PartName="/ppt/media/image31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35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9.wmf" ContentType="image/x-wmf"/>
  <Override PartName="/ppt/media/image1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8.wmf" ContentType="image/x-wmf"/>
  <Override PartName="/ppt/media/image36.jpeg" ContentType="image/jpeg"/>
  <Override PartName="/ppt/media/image1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1ADD-CB01-404B-9103-BB057455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EA5E-6280-4073-B5CF-6D024D3E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A89A-9FCE-4D2D-86B1-8387BC6F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0204-CAE8-47CE-B908-33A748090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3781-8D01-4B87-9B45-6F6E1E83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EF88-87AB-42E6-BAAD-A1EC403F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EE22-735E-4A74-A839-0C8F5DE3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061C-D633-45C2-A116-92304092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598E-9D74-4975-A5BC-9213CF71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E1F7-B0FC-4237-9180-6C55E505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13FB-EFBE-48DB-ABC0-3650130C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607C-1E8B-4114-9D67-5A3441B1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35D4-52AA-4973-B32B-D30EAD840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828800"/>
            <a:chOff x="0" y="0"/>
            <a:chExt cx="9144000" cy="1828800"/>
          </a:xfrm>
        </p:grpSpPr>
        <p:pic>
          <p:nvPicPr>
            <p:cNvPr id="6" name="top_r1_c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top_r1_c2" descr=""/>
            <p:cNvPicPr/>
            <p:nvPr/>
          </p:nvPicPr>
          <p:blipFill>
            <a:blip r:embed="rId3"/>
            <a:stretch/>
          </p:blipFill>
          <p:spPr>
            <a:xfrm>
              <a:off x="914400" y="0"/>
              <a:ext cx="13716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top_r1_c3" descr=""/>
            <p:cNvPicPr/>
            <p:nvPr/>
          </p:nvPicPr>
          <p:blipFill>
            <a:blip r:embed="rId4"/>
            <a:stretch/>
          </p:blipFill>
          <p:spPr>
            <a:xfrm>
              <a:off x="2286000" y="0"/>
              <a:ext cx="14479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top_r1_c4" descr=""/>
            <p:cNvPicPr/>
            <p:nvPr/>
          </p:nvPicPr>
          <p:blipFill>
            <a:blip r:embed="rId5"/>
            <a:stretch/>
          </p:blipFill>
          <p:spPr>
            <a:xfrm>
              <a:off x="3733920" y="0"/>
              <a:ext cx="144756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6"/>
            <a:stretch/>
          </p:blipFill>
          <p:spPr>
            <a:xfrm>
              <a:off x="5181480" y="0"/>
              <a:ext cx="1447920" cy="91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" descr=""/>
            <p:cNvPicPr/>
            <p:nvPr/>
          </p:nvPicPr>
          <p:blipFill>
            <a:blip r:embed="rId7"/>
            <a:stretch/>
          </p:blipFill>
          <p:spPr>
            <a:xfrm>
              <a:off x="6629400" y="0"/>
              <a:ext cx="16002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" descr=""/>
            <p:cNvPicPr/>
            <p:nvPr/>
          </p:nvPicPr>
          <p:blipFill>
            <a:blip r:embed="rId8"/>
            <a:stretch/>
          </p:blipFill>
          <p:spPr>
            <a:xfrm>
              <a:off x="8229600" y="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top_r2_c1" descr=""/>
            <p:cNvPicPr/>
            <p:nvPr/>
          </p:nvPicPr>
          <p:blipFill>
            <a:blip r:embed="rId9"/>
            <a:stretch/>
          </p:blipFill>
          <p:spPr>
            <a:xfrm>
              <a:off x="0" y="91440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" name="top_r2_c2" descr=""/>
            <p:cNvPicPr/>
            <p:nvPr/>
          </p:nvPicPr>
          <p:blipFill>
            <a:blip r:embed="rId10"/>
            <a:stretch/>
          </p:blipFill>
          <p:spPr>
            <a:xfrm>
              <a:off x="914400" y="914400"/>
              <a:ext cx="13716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" name="top_r2_c3" descr=""/>
            <p:cNvPicPr/>
            <p:nvPr/>
          </p:nvPicPr>
          <p:blipFill>
            <a:blip r:embed="rId11"/>
            <a:stretch/>
          </p:blipFill>
          <p:spPr>
            <a:xfrm>
              <a:off x="2286000" y="914400"/>
              <a:ext cx="1447920" cy="83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" name="top_r2_c4" descr=""/>
            <p:cNvPicPr/>
            <p:nvPr/>
          </p:nvPicPr>
          <p:blipFill>
            <a:blip r:embed="rId12"/>
            <a:stretch/>
          </p:blipFill>
          <p:spPr>
            <a:xfrm>
              <a:off x="3733920" y="914400"/>
              <a:ext cx="144756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" name="top_r2_c6" descr=""/>
            <p:cNvPicPr/>
            <p:nvPr/>
          </p:nvPicPr>
          <p:blipFill>
            <a:blip r:embed="rId13"/>
            <a:stretch/>
          </p:blipFill>
          <p:spPr>
            <a:xfrm>
              <a:off x="6629400" y="914400"/>
              <a:ext cx="15238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" name="top_r2_c7" descr=""/>
            <p:cNvPicPr/>
            <p:nvPr/>
          </p:nvPicPr>
          <p:blipFill>
            <a:blip r:embed="rId14"/>
            <a:stretch/>
          </p:blipFill>
          <p:spPr>
            <a:xfrm>
              <a:off x="8153280" y="914400"/>
              <a:ext cx="9907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" name="" descr=""/>
            <p:cNvPicPr/>
            <p:nvPr/>
          </p:nvPicPr>
          <p:blipFill>
            <a:blip r:embed="rId15"/>
            <a:stretch/>
          </p:blipFill>
          <p:spPr>
            <a:xfrm>
              <a:off x="5181480" y="914400"/>
              <a:ext cx="1447920" cy="8380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image" Target="../media/image25.wmf"/><Relationship Id="rId10" Type="http://schemas.openxmlformats.org/officeDocument/2006/relationships/image" Target="../media/image26.wmf"/><Relationship Id="rId11" Type="http://schemas.openxmlformats.org/officeDocument/2006/relationships/image" Target="../media/image27.wmf"/><Relationship Id="rId12" Type="http://schemas.openxmlformats.org/officeDocument/2006/relationships/image" Target="../media/image28.wmf"/><Relationship Id="rId13" Type="http://schemas.openxmlformats.org/officeDocument/2006/relationships/image" Target="../media/image29.wm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130120"/>
            <a:ext cx="876312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32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227664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0000cc"/>
                </a:solidFill>
                <a:latin typeface="Arial"/>
              </a:rPr>
              <a:t>Expanded Public Works Program – Overview</a:t>
            </a:r>
            <a:r>
              <a:rPr b="1" lang="en-ZA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124000" y="5013000"/>
            <a:ext cx="6400800" cy="123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Mr. Gilberto Mart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B Arch [ Wits] MI Arch Arch 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Deputy Director General: Public 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Gauteng Department of Public Transport, Roads and 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6 May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124080" y="1916280"/>
            <a:ext cx="6019920" cy="4587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8600" y="1712880"/>
            <a:ext cx="3733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  <a:ea typeface="Arial"/>
              </a:rPr>
              <a:t>More than 36% of road network is heavily conges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  <a:ea typeface="Arial"/>
              </a:rPr>
              <a:t>A further 17% should be considered for </a:t>
            </a:r>
            <a:r>
              <a:rPr b="1" lang="en-ZA" sz="1800" spc="-1" strike="noStrike">
                <a:solidFill>
                  <a:srgbClr val="0000cc"/>
                </a:solidFill>
                <a:latin typeface="Arial"/>
                <a:ea typeface="Arial"/>
              </a:rPr>
              <a:t>capacity upgrading,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  <a:ea typeface="Arial"/>
              </a:rPr>
              <a:t> and are congested during peak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  <a:ea typeface="Arial"/>
              </a:rPr>
              <a:t>Congested roads contributing to maintenance problems (e.g. use of gravel road shoulders) and road safety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  <a:ea typeface="Arial"/>
              </a:rPr>
              <a:t>Heavily congested roads are generally the </a:t>
            </a:r>
            <a:r>
              <a:rPr b="1" lang="en-ZA" sz="1800" spc="-1" strike="noStrike">
                <a:solidFill>
                  <a:srgbClr val="0000cc"/>
                </a:solidFill>
                <a:latin typeface="Arial"/>
                <a:ea typeface="Arial"/>
              </a:rPr>
              <a:t>older roads which needs rehabil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cc"/>
                </a:solidFill>
                <a:latin typeface="Arial"/>
                <a:ea typeface="Arial"/>
              </a:rPr>
              <a:t>*</a:t>
            </a:r>
            <a:r>
              <a:rPr b="1" lang="en-ZA" sz="1800" spc="-1" strike="noStrike">
                <a:solidFill>
                  <a:srgbClr val="0000cc"/>
                </a:solidFill>
                <a:latin typeface="Arial"/>
                <a:ea typeface="Arial"/>
              </a:rPr>
              <a:t>AADT= Annual 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en-ZA" sz="18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en-ZA" sz="1800" spc="-1" strike="noStrike">
                <a:solidFill>
                  <a:srgbClr val="0000cc"/>
                </a:solidFill>
                <a:latin typeface="Arial"/>
                <a:ea typeface="Arial"/>
              </a:rPr>
              <a:t>daily traffic 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Additional R5.4bn to Provinces for up-scaling of EPWP from 2007/08 (PIG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Gauteng decision to increase amounts even further from Provincial fun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2006/2007 amount from R52m to R17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2007/08 amount from     R82m to R262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2008/09 amount from   R103m to R32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Total R 752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urther </a:t>
            </a: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funding bid 09/10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 MTEF allocation [ R 1 Bil ?]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2400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cc"/>
                </a:solidFill>
                <a:latin typeface="Arial"/>
              </a:rPr>
              <a:t>Up-scaling of EPWP in Roads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35164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1412640"/>
            <a:ext cx="75596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HE CHALLEN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749016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hallen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Backlog on provincial road network – </a:t>
            </a: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82%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 of network </a:t>
            </a: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older tha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App </a:t>
            </a: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3000km Gravel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 road – townshi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Agreements on </a:t>
            </a:r>
            <a:r>
              <a:rPr b="1" i="1" lang="en-ZA" sz="2800" spc="-1" strike="noStrike">
                <a:solidFill>
                  <a:srgbClr val="000000"/>
                </a:solidFill>
                <a:latin typeface="Arial"/>
              </a:rPr>
              <a:t>appropriate</a:t>
            </a:r>
            <a:r>
              <a:rPr b="0" i="1" lang="en-ZA" sz="2800" spc="-1" strike="noStrike">
                <a:solidFill>
                  <a:srgbClr val="000000"/>
                </a:solidFill>
                <a:latin typeface="Arial"/>
              </a:rPr>
              <a:t> norms, standards, desig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Resistance to change-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 innovative contracting models, materials, construction methods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600200" y="213372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SHANGU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ERIDGEVIL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MELO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NSIEVIL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WE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BOKE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TAN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IPATO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PHELO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ARPVIL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2880" y="2133720"/>
            <a:ext cx="3353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VEYT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UDU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MBI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AGI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OKO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ATLEHO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HLAKE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TTVIL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WA-TH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SAK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-1217880" y="380844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 Identified tow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hallen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Cost for township road less 500 car per day currently ranging </a:t>
            </a: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R6m to R10m per kilometr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Inexperienced contractors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 – tender process and documentation not fully underst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Contractor access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 to finance, materials, equipment problem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Professional </a:t>
            </a: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site manag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Skills development basket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 roads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560" y="1773000"/>
            <a:ext cx="84978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RE-DR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8137440" cy="3889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580000" y="3068640"/>
            <a:ext cx="3024360" cy="34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88000" y="2565360"/>
            <a:ext cx="2305080" cy="40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170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Innov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Reduce construction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 construction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Alternative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 construction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Innovative and </a:t>
            </a: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appropriate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 pavement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 and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New contracting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Appropriate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 norms and standards for all r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Consistently applied across all </a:t>
            </a: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metros/ municip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 flipV="1" rot="21582000">
            <a:off x="1828800" y="4266000"/>
            <a:ext cx="4343400" cy="480960"/>
          </a:xfrm>
          <a:custGeom>
            <a:avLst/>
            <a:gdLst/>
            <a:ahLst/>
            <a:rect l="l" t="t" r="r" b="b"/>
            <a:pathLst>
              <a:path w="2118" h="303">
                <a:moveTo>
                  <a:pt x="0" y="303"/>
                </a:moveTo>
                <a:lnTo>
                  <a:pt x="2118" y="303"/>
                </a:lnTo>
                <a:lnTo>
                  <a:pt x="2118" y="196"/>
                </a:lnTo>
                <a:lnTo>
                  <a:pt x="1155" y="0"/>
                </a:lnTo>
                <a:lnTo>
                  <a:pt x="998" y="0"/>
                </a:lnTo>
                <a:lnTo>
                  <a:pt x="0" y="178"/>
                </a:lnTo>
                <a:lnTo>
                  <a:pt x="0" y="3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4419720"/>
            <a:ext cx="223920" cy="2235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8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4724280"/>
            <a:ext cx="1981080" cy="914400"/>
          </a:xfrm>
          <a:custGeom>
            <a:avLst/>
            <a:gdLst/>
            <a:ahLst/>
            <a:rect l="l" t="t" r="r" b="b"/>
            <a:pathLst>
              <a:path w="1045" h="1923">
                <a:moveTo>
                  <a:pt x="523" y="0"/>
                </a:moveTo>
                <a:lnTo>
                  <a:pt x="679" y="872"/>
                </a:lnTo>
                <a:lnTo>
                  <a:pt x="679" y="1620"/>
                </a:lnTo>
                <a:lnTo>
                  <a:pt x="784" y="1620"/>
                </a:lnTo>
                <a:lnTo>
                  <a:pt x="1045" y="1745"/>
                </a:lnTo>
                <a:lnTo>
                  <a:pt x="1045" y="1923"/>
                </a:lnTo>
                <a:lnTo>
                  <a:pt x="0" y="1923"/>
                </a:lnTo>
                <a:lnTo>
                  <a:pt x="0" y="1763"/>
                </a:lnTo>
                <a:lnTo>
                  <a:pt x="209" y="1638"/>
                </a:lnTo>
                <a:lnTo>
                  <a:pt x="331" y="1638"/>
                </a:lnTo>
                <a:lnTo>
                  <a:pt x="331" y="872"/>
                </a:lnTo>
                <a:lnTo>
                  <a:pt x="523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3809880"/>
            <a:ext cx="2133360" cy="346320"/>
          </a:xfrm>
          <a:custGeom>
            <a:avLst/>
            <a:gdLst/>
            <a:ahLst/>
            <a:rect l="l" t="t" r="r" b="b"/>
            <a:pathLst>
              <a:path w="1214" h="410">
                <a:moveTo>
                  <a:pt x="6" y="0"/>
                </a:moveTo>
                <a:lnTo>
                  <a:pt x="0" y="43"/>
                </a:lnTo>
                <a:lnTo>
                  <a:pt x="6" y="98"/>
                </a:lnTo>
                <a:lnTo>
                  <a:pt x="24" y="153"/>
                </a:lnTo>
                <a:lnTo>
                  <a:pt x="57" y="208"/>
                </a:lnTo>
                <a:lnTo>
                  <a:pt x="109" y="257"/>
                </a:lnTo>
                <a:lnTo>
                  <a:pt x="172" y="303"/>
                </a:lnTo>
                <a:lnTo>
                  <a:pt x="236" y="334"/>
                </a:lnTo>
                <a:lnTo>
                  <a:pt x="290" y="355"/>
                </a:lnTo>
                <a:lnTo>
                  <a:pt x="350" y="376"/>
                </a:lnTo>
                <a:lnTo>
                  <a:pt x="408" y="389"/>
                </a:lnTo>
                <a:lnTo>
                  <a:pt x="465" y="398"/>
                </a:lnTo>
                <a:lnTo>
                  <a:pt x="519" y="404"/>
                </a:lnTo>
                <a:lnTo>
                  <a:pt x="589" y="410"/>
                </a:lnTo>
                <a:lnTo>
                  <a:pt x="655" y="407"/>
                </a:lnTo>
                <a:lnTo>
                  <a:pt x="719" y="404"/>
                </a:lnTo>
                <a:lnTo>
                  <a:pt x="794" y="395"/>
                </a:lnTo>
                <a:lnTo>
                  <a:pt x="849" y="382"/>
                </a:lnTo>
                <a:lnTo>
                  <a:pt x="909" y="364"/>
                </a:lnTo>
                <a:lnTo>
                  <a:pt x="966" y="343"/>
                </a:lnTo>
                <a:lnTo>
                  <a:pt x="1006" y="327"/>
                </a:lnTo>
                <a:lnTo>
                  <a:pt x="1048" y="300"/>
                </a:lnTo>
                <a:lnTo>
                  <a:pt x="1081" y="278"/>
                </a:lnTo>
                <a:lnTo>
                  <a:pt x="1117" y="248"/>
                </a:lnTo>
                <a:lnTo>
                  <a:pt x="1151" y="220"/>
                </a:lnTo>
                <a:lnTo>
                  <a:pt x="1172" y="187"/>
                </a:lnTo>
                <a:lnTo>
                  <a:pt x="1193" y="150"/>
                </a:lnTo>
                <a:lnTo>
                  <a:pt x="1208" y="110"/>
                </a:lnTo>
                <a:lnTo>
                  <a:pt x="1214" y="61"/>
                </a:lnTo>
                <a:lnTo>
                  <a:pt x="1211" y="3"/>
                </a:lnTo>
                <a:lnTo>
                  <a:pt x="6" y="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3809880"/>
            <a:ext cx="2133720" cy="381240"/>
          </a:xfrm>
          <a:custGeom>
            <a:avLst/>
            <a:gdLst/>
            <a:ahLst/>
            <a:rect l="l" t="t" r="r" b="b"/>
            <a:pathLst>
              <a:path w="1214" h="410">
                <a:moveTo>
                  <a:pt x="6" y="0"/>
                </a:moveTo>
                <a:lnTo>
                  <a:pt x="0" y="43"/>
                </a:lnTo>
                <a:lnTo>
                  <a:pt x="6" y="98"/>
                </a:lnTo>
                <a:lnTo>
                  <a:pt x="24" y="153"/>
                </a:lnTo>
                <a:lnTo>
                  <a:pt x="57" y="208"/>
                </a:lnTo>
                <a:lnTo>
                  <a:pt x="109" y="257"/>
                </a:lnTo>
                <a:lnTo>
                  <a:pt x="172" y="303"/>
                </a:lnTo>
                <a:lnTo>
                  <a:pt x="236" y="334"/>
                </a:lnTo>
                <a:lnTo>
                  <a:pt x="290" y="355"/>
                </a:lnTo>
                <a:lnTo>
                  <a:pt x="350" y="376"/>
                </a:lnTo>
                <a:lnTo>
                  <a:pt x="408" y="389"/>
                </a:lnTo>
                <a:lnTo>
                  <a:pt x="465" y="398"/>
                </a:lnTo>
                <a:lnTo>
                  <a:pt x="519" y="404"/>
                </a:lnTo>
                <a:lnTo>
                  <a:pt x="589" y="410"/>
                </a:lnTo>
                <a:lnTo>
                  <a:pt x="655" y="407"/>
                </a:lnTo>
                <a:lnTo>
                  <a:pt x="719" y="404"/>
                </a:lnTo>
                <a:lnTo>
                  <a:pt x="794" y="395"/>
                </a:lnTo>
                <a:lnTo>
                  <a:pt x="849" y="382"/>
                </a:lnTo>
                <a:lnTo>
                  <a:pt x="909" y="364"/>
                </a:lnTo>
                <a:lnTo>
                  <a:pt x="966" y="343"/>
                </a:lnTo>
                <a:lnTo>
                  <a:pt x="1006" y="327"/>
                </a:lnTo>
                <a:lnTo>
                  <a:pt x="1048" y="300"/>
                </a:lnTo>
                <a:lnTo>
                  <a:pt x="1081" y="278"/>
                </a:lnTo>
                <a:lnTo>
                  <a:pt x="1117" y="248"/>
                </a:lnTo>
                <a:lnTo>
                  <a:pt x="1151" y="220"/>
                </a:lnTo>
                <a:lnTo>
                  <a:pt x="1172" y="187"/>
                </a:lnTo>
                <a:lnTo>
                  <a:pt x="1193" y="150"/>
                </a:lnTo>
                <a:lnTo>
                  <a:pt x="1208" y="110"/>
                </a:lnTo>
                <a:lnTo>
                  <a:pt x="1214" y="61"/>
                </a:lnTo>
                <a:lnTo>
                  <a:pt x="1211" y="3"/>
                </a:lnTo>
                <a:lnTo>
                  <a:pt x="6" y="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594360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vice Delivery Model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696080" y="4343400"/>
            <a:ext cx="1067040" cy="1371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391520" y="2438280"/>
            <a:ext cx="1752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Effective, Efficient, Value For Money, Service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2743200"/>
            <a:ext cx="0" cy="53352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05320" y="2971800"/>
            <a:ext cx="60948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3048120"/>
            <a:ext cx="60948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05720" y="2895480"/>
            <a:ext cx="60948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2286000"/>
            <a:ext cx="1981080" cy="1219320"/>
          </a:xfrm>
          <a:prstGeom prst="ellipse">
            <a:avLst/>
          </a:prstGeom>
          <a:solidFill>
            <a:srgbClr val="0066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2438280"/>
            <a:ext cx="2057400" cy="1067040"/>
          </a:xfrm>
          <a:prstGeom prst="ellipse">
            <a:avLst/>
          </a:prstGeom>
          <a:solidFill>
            <a:srgbClr val="00cc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AUTENG 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7690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294920" y="1828440"/>
            <a:ext cx="7086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2438280"/>
            <a:ext cx="6637320" cy="1166760"/>
          </a:xfrm>
          <a:custGeom>
            <a:avLst/>
            <a:gdLst/>
            <a:ahLst/>
            <a:rect l="l" t="t" r="r" b="b"/>
            <a:pathLst>
              <a:path w="4565" h="1167">
                <a:moveTo>
                  <a:pt x="311" y="480"/>
                </a:moveTo>
                <a:cubicBezTo>
                  <a:pt x="238" y="468"/>
                  <a:pt x="166" y="471"/>
                  <a:pt x="93" y="487"/>
                </a:cubicBezTo>
                <a:cubicBezTo>
                  <a:pt x="65" y="507"/>
                  <a:pt x="49" y="525"/>
                  <a:pt x="39" y="558"/>
                </a:cubicBezTo>
                <a:cubicBezTo>
                  <a:pt x="44" y="581"/>
                  <a:pt x="43" y="607"/>
                  <a:pt x="54" y="628"/>
                </a:cubicBezTo>
                <a:cubicBezTo>
                  <a:pt x="75" y="670"/>
                  <a:pt x="166" y="670"/>
                  <a:pt x="202" y="674"/>
                </a:cubicBezTo>
                <a:cubicBezTo>
                  <a:pt x="369" y="664"/>
                  <a:pt x="337" y="682"/>
                  <a:pt x="327" y="511"/>
                </a:cubicBezTo>
                <a:cubicBezTo>
                  <a:pt x="314" y="600"/>
                  <a:pt x="308" y="685"/>
                  <a:pt x="303" y="775"/>
                </a:cubicBezTo>
                <a:cubicBezTo>
                  <a:pt x="300" y="879"/>
                  <a:pt x="311" y="984"/>
                  <a:pt x="295" y="1087"/>
                </a:cubicBezTo>
                <a:cubicBezTo>
                  <a:pt x="292" y="1105"/>
                  <a:pt x="249" y="1118"/>
                  <a:pt x="249" y="1118"/>
                </a:cubicBezTo>
                <a:cubicBezTo>
                  <a:pt x="135" y="1114"/>
                  <a:pt x="25" y="1167"/>
                  <a:pt x="0" y="1056"/>
                </a:cubicBezTo>
                <a:cubicBezTo>
                  <a:pt x="8" y="1033"/>
                  <a:pt x="7" y="1004"/>
                  <a:pt x="23" y="986"/>
                </a:cubicBezTo>
                <a:cubicBezTo>
                  <a:pt x="42" y="965"/>
                  <a:pt x="144" y="951"/>
                  <a:pt x="163" y="947"/>
                </a:cubicBezTo>
                <a:cubicBezTo>
                  <a:pt x="252" y="927"/>
                  <a:pt x="340" y="905"/>
                  <a:pt x="428" y="884"/>
                </a:cubicBezTo>
                <a:cubicBezTo>
                  <a:pt x="452" y="878"/>
                  <a:pt x="515" y="846"/>
                  <a:pt x="529" y="838"/>
                </a:cubicBezTo>
                <a:cubicBezTo>
                  <a:pt x="566" y="816"/>
                  <a:pt x="638" y="768"/>
                  <a:pt x="638" y="768"/>
                </a:cubicBezTo>
                <a:cubicBezTo>
                  <a:pt x="661" y="729"/>
                  <a:pt x="680" y="687"/>
                  <a:pt x="692" y="643"/>
                </a:cubicBezTo>
                <a:cubicBezTo>
                  <a:pt x="699" y="617"/>
                  <a:pt x="703" y="591"/>
                  <a:pt x="708" y="565"/>
                </a:cubicBezTo>
                <a:cubicBezTo>
                  <a:pt x="711" y="552"/>
                  <a:pt x="716" y="526"/>
                  <a:pt x="716" y="526"/>
                </a:cubicBezTo>
                <a:cubicBezTo>
                  <a:pt x="769" y="643"/>
                  <a:pt x="841" y="727"/>
                  <a:pt x="965" y="775"/>
                </a:cubicBezTo>
                <a:cubicBezTo>
                  <a:pt x="1035" y="762"/>
                  <a:pt x="1033" y="730"/>
                  <a:pt x="1050" y="667"/>
                </a:cubicBezTo>
                <a:cubicBezTo>
                  <a:pt x="1068" y="492"/>
                  <a:pt x="1070" y="290"/>
                  <a:pt x="988" y="129"/>
                </a:cubicBezTo>
                <a:cubicBezTo>
                  <a:pt x="971" y="262"/>
                  <a:pt x="1013" y="344"/>
                  <a:pt x="1082" y="456"/>
                </a:cubicBezTo>
                <a:cubicBezTo>
                  <a:pt x="1106" y="495"/>
                  <a:pt x="1194" y="655"/>
                  <a:pt x="1245" y="690"/>
                </a:cubicBezTo>
                <a:cubicBezTo>
                  <a:pt x="1279" y="714"/>
                  <a:pt x="1340" y="721"/>
                  <a:pt x="1377" y="729"/>
                </a:cubicBezTo>
                <a:cubicBezTo>
                  <a:pt x="1395" y="724"/>
                  <a:pt x="1418" y="726"/>
                  <a:pt x="1432" y="713"/>
                </a:cubicBezTo>
                <a:cubicBezTo>
                  <a:pt x="1443" y="702"/>
                  <a:pt x="1438" y="682"/>
                  <a:pt x="1440" y="667"/>
                </a:cubicBezTo>
                <a:cubicBezTo>
                  <a:pt x="1446" y="620"/>
                  <a:pt x="1450" y="573"/>
                  <a:pt x="1455" y="526"/>
                </a:cubicBezTo>
                <a:cubicBezTo>
                  <a:pt x="1446" y="419"/>
                  <a:pt x="1451" y="279"/>
                  <a:pt x="1385" y="184"/>
                </a:cubicBezTo>
                <a:cubicBezTo>
                  <a:pt x="1359" y="265"/>
                  <a:pt x="1369" y="204"/>
                  <a:pt x="1393" y="316"/>
                </a:cubicBezTo>
                <a:cubicBezTo>
                  <a:pt x="1400" y="347"/>
                  <a:pt x="1397" y="380"/>
                  <a:pt x="1408" y="410"/>
                </a:cubicBezTo>
                <a:cubicBezTo>
                  <a:pt x="1452" y="535"/>
                  <a:pt x="1525" y="742"/>
                  <a:pt x="1665" y="799"/>
                </a:cubicBezTo>
                <a:cubicBezTo>
                  <a:pt x="1738" y="657"/>
                  <a:pt x="1632" y="707"/>
                  <a:pt x="1907" y="698"/>
                </a:cubicBezTo>
                <a:cubicBezTo>
                  <a:pt x="1939" y="688"/>
                  <a:pt x="2000" y="682"/>
                  <a:pt x="2000" y="651"/>
                </a:cubicBezTo>
                <a:cubicBezTo>
                  <a:pt x="2000" y="637"/>
                  <a:pt x="1993" y="623"/>
                  <a:pt x="1984" y="612"/>
                </a:cubicBezTo>
                <a:cubicBezTo>
                  <a:pt x="1972" y="598"/>
                  <a:pt x="1938" y="581"/>
                  <a:pt x="1938" y="581"/>
                </a:cubicBezTo>
                <a:cubicBezTo>
                  <a:pt x="1877" y="593"/>
                  <a:pt x="1887" y="600"/>
                  <a:pt x="1868" y="659"/>
                </a:cubicBezTo>
                <a:cubicBezTo>
                  <a:pt x="1888" y="790"/>
                  <a:pt x="1867" y="766"/>
                  <a:pt x="1984" y="783"/>
                </a:cubicBezTo>
                <a:cubicBezTo>
                  <a:pt x="2018" y="778"/>
                  <a:pt x="2048" y="778"/>
                  <a:pt x="2078" y="760"/>
                </a:cubicBezTo>
                <a:cubicBezTo>
                  <a:pt x="2144" y="721"/>
                  <a:pt x="2153" y="659"/>
                  <a:pt x="2218" y="620"/>
                </a:cubicBezTo>
                <a:cubicBezTo>
                  <a:pt x="2244" y="636"/>
                  <a:pt x="2276" y="644"/>
                  <a:pt x="2296" y="667"/>
                </a:cubicBezTo>
                <a:cubicBezTo>
                  <a:pt x="2299" y="670"/>
                  <a:pt x="2362" y="788"/>
                  <a:pt x="2374" y="822"/>
                </a:cubicBezTo>
                <a:cubicBezTo>
                  <a:pt x="2380" y="773"/>
                  <a:pt x="2389" y="737"/>
                  <a:pt x="2405" y="690"/>
                </a:cubicBezTo>
                <a:cubicBezTo>
                  <a:pt x="2408" y="669"/>
                  <a:pt x="2394" y="636"/>
                  <a:pt x="2413" y="628"/>
                </a:cubicBezTo>
                <a:cubicBezTo>
                  <a:pt x="2473" y="602"/>
                  <a:pt x="2547" y="629"/>
                  <a:pt x="2607" y="604"/>
                </a:cubicBezTo>
                <a:cubicBezTo>
                  <a:pt x="2703" y="479"/>
                  <a:pt x="2750" y="312"/>
                  <a:pt x="2810" y="168"/>
                </a:cubicBezTo>
                <a:cubicBezTo>
                  <a:pt x="2815" y="140"/>
                  <a:pt x="2819" y="111"/>
                  <a:pt x="2825" y="83"/>
                </a:cubicBezTo>
                <a:cubicBezTo>
                  <a:pt x="2829" y="62"/>
                  <a:pt x="2834" y="0"/>
                  <a:pt x="2841" y="20"/>
                </a:cubicBezTo>
                <a:cubicBezTo>
                  <a:pt x="2858" y="67"/>
                  <a:pt x="2848" y="119"/>
                  <a:pt x="2856" y="168"/>
                </a:cubicBezTo>
                <a:cubicBezTo>
                  <a:pt x="2882" y="321"/>
                  <a:pt x="2929" y="516"/>
                  <a:pt x="2973" y="667"/>
                </a:cubicBezTo>
                <a:cubicBezTo>
                  <a:pt x="2985" y="707"/>
                  <a:pt x="3015" y="802"/>
                  <a:pt x="3051" y="838"/>
                </a:cubicBezTo>
                <a:cubicBezTo>
                  <a:pt x="3124" y="911"/>
                  <a:pt x="3142" y="901"/>
                  <a:pt x="3238" y="923"/>
                </a:cubicBezTo>
                <a:cubicBezTo>
                  <a:pt x="3303" y="921"/>
                  <a:pt x="3370" y="935"/>
                  <a:pt x="3432" y="916"/>
                </a:cubicBezTo>
                <a:cubicBezTo>
                  <a:pt x="3662" y="846"/>
                  <a:pt x="3767" y="708"/>
                  <a:pt x="3954" y="573"/>
                </a:cubicBezTo>
                <a:cubicBezTo>
                  <a:pt x="3995" y="544"/>
                  <a:pt x="4037" y="523"/>
                  <a:pt x="4078" y="495"/>
                </a:cubicBezTo>
                <a:cubicBezTo>
                  <a:pt x="4051" y="550"/>
                  <a:pt x="4039" y="590"/>
                  <a:pt x="4032" y="651"/>
                </a:cubicBezTo>
                <a:cubicBezTo>
                  <a:pt x="4040" y="667"/>
                  <a:pt x="4038" y="693"/>
                  <a:pt x="4055" y="698"/>
                </a:cubicBezTo>
                <a:cubicBezTo>
                  <a:pt x="4107" y="712"/>
                  <a:pt x="4136" y="689"/>
                  <a:pt x="4172" y="667"/>
                </a:cubicBezTo>
                <a:cubicBezTo>
                  <a:pt x="4162" y="610"/>
                  <a:pt x="4142" y="581"/>
                  <a:pt x="4094" y="550"/>
                </a:cubicBezTo>
                <a:cubicBezTo>
                  <a:pt x="4137" y="421"/>
                  <a:pt x="4089" y="540"/>
                  <a:pt x="4429" y="511"/>
                </a:cubicBezTo>
                <a:cubicBezTo>
                  <a:pt x="4565" y="499"/>
                  <a:pt x="4553" y="525"/>
                  <a:pt x="4553" y="44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2286000"/>
            <a:ext cx="1025640" cy="382680"/>
          </a:xfrm>
          <a:custGeom>
            <a:avLst/>
            <a:gdLst/>
            <a:ahLst/>
            <a:rect l="l" t="t" r="r" b="b"/>
            <a:pathLst>
              <a:path w="646" h="241">
                <a:moveTo>
                  <a:pt x="0" y="233"/>
                </a:moveTo>
                <a:cubicBezTo>
                  <a:pt x="72" y="221"/>
                  <a:pt x="218" y="241"/>
                  <a:pt x="218" y="241"/>
                </a:cubicBezTo>
                <a:cubicBezTo>
                  <a:pt x="379" y="228"/>
                  <a:pt x="402" y="213"/>
                  <a:pt x="537" y="101"/>
                </a:cubicBezTo>
                <a:cubicBezTo>
                  <a:pt x="568" y="75"/>
                  <a:pt x="609" y="57"/>
                  <a:pt x="631" y="23"/>
                </a:cubicBezTo>
                <a:cubicBezTo>
                  <a:pt x="636" y="15"/>
                  <a:pt x="646" y="0"/>
                  <a:pt x="646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2819520"/>
            <a:ext cx="87480" cy="93600"/>
          </a:xfrm>
          <a:custGeom>
            <a:avLst/>
            <a:gdLst/>
            <a:ahLst/>
            <a:rect l="l" t="t" r="r" b="b"/>
            <a:pathLst>
              <a:path w="55" h="59">
                <a:moveTo>
                  <a:pt x="55" y="5"/>
                </a:moveTo>
                <a:cubicBezTo>
                  <a:pt x="39" y="8"/>
                  <a:pt x="18" y="1"/>
                  <a:pt x="8" y="13"/>
                </a:cubicBezTo>
                <a:cubicBezTo>
                  <a:pt x="0" y="23"/>
                  <a:pt x="6" y="44"/>
                  <a:pt x="16" y="52"/>
                </a:cubicBezTo>
                <a:cubicBezTo>
                  <a:pt x="24" y="59"/>
                  <a:pt x="37" y="47"/>
                  <a:pt x="47" y="44"/>
                </a:cubicBezTo>
                <a:cubicBezTo>
                  <a:pt x="38" y="0"/>
                  <a:pt x="26" y="5"/>
                  <a:pt x="55" y="5"/>
                </a:cubicBezTo>
                <a:close/>
              </a:path>
            </a:pathLst>
          </a:custGeom>
          <a:solidFill>
            <a:srgbClr val="00ff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3505320"/>
            <a:ext cx="5106960" cy="685800"/>
          </a:xfrm>
          <a:custGeom>
            <a:avLst/>
            <a:gdLst/>
            <a:ahLst/>
            <a:rect l="l" t="t" r="r" b="b"/>
            <a:pathLst>
              <a:path w="3121" h="622">
                <a:moveTo>
                  <a:pt x="0" y="622"/>
                </a:moveTo>
                <a:cubicBezTo>
                  <a:pt x="115" y="465"/>
                  <a:pt x="88" y="470"/>
                  <a:pt x="389" y="397"/>
                </a:cubicBezTo>
                <a:cubicBezTo>
                  <a:pt x="774" y="303"/>
                  <a:pt x="1901" y="143"/>
                  <a:pt x="2280" y="93"/>
                </a:cubicBezTo>
                <a:cubicBezTo>
                  <a:pt x="2529" y="60"/>
                  <a:pt x="2779" y="35"/>
                  <a:pt x="3028" y="7"/>
                </a:cubicBezTo>
                <a:cubicBezTo>
                  <a:pt x="3059" y="4"/>
                  <a:pt x="3121" y="0"/>
                  <a:pt x="3121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4076640"/>
            <a:ext cx="84247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order to achieve real action you must yourself be a living part of Africa and of her thought; you must be an element of that popular energy which is entirely called forth for the freeing, the progress and the happiness of Afric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k Talk , Steve Biko , I write what I lik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5280" y="2421000"/>
            <a:ext cx="8229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Innovation = Business Unusual</a:t>
            </a:r>
            <a:r>
              <a:rPr b="1" lang="en-ZA" sz="6600" spc="-1" strike="noStrike">
                <a:solidFill>
                  <a:srgbClr val="0000cc"/>
                </a:solidFill>
                <a:latin typeface="Bookman Old Style"/>
                <a:ea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8387-8548-437C-9A88-BD79A874A6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Ori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2349000"/>
            <a:ext cx="761976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igin i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rowth and Development Summi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[GDS] of 20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 them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dopted one of which wa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‘More jobs, better jobs, decent work for all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C564-A110-4E17-BEB8-8B21AA83A0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990720" y="1916280"/>
            <a:ext cx="761976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he GDS agreed that the EPWP ‘</a:t>
            </a:r>
            <a:r>
              <a:rPr b="0" i="1" lang="en-ZA" sz="2800" spc="-1" strike="noStrike">
                <a:solidFill>
                  <a:srgbClr val="000000"/>
                </a:solidFill>
                <a:latin typeface="Arial"/>
              </a:rPr>
              <a:t>can provide poverty and income relief through temporary work for the unemployed to carry out socially useful activities. </a:t>
            </a:r>
            <a:r>
              <a:rPr b="1" i="1" lang="en-ZA" sz="2800" spc="-1" strike="noStrike">
                <a:solidFill>
                  <a:srgbClr val="0000cc"/>
                </a:solidFill>
                <a:latin typeface="Arial"/>
              </a:rPr>
              <a:t>The EPWP will be designed to equip participants with a modicum of training and work experience, which should enhance their ability to earn a living in the future</a:t>
            </a:r>
            <a:r>
              <a:rPr b="1" lang="en-ZA" sz="2800" spc="-1" strike="noStrike">
                <a:solidFill>
                  <a:srgbClr val="0000cc"/>
                </a:solidFill>
                <a:latin typeface="Arial"/>
              </a:rPr>
              <a:t>.’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 The GDS specified that the EPWP must be “</a:t>
            </a:r>
            <a:r>
              <a:rPr b="0" i="1" lang="en-ZA" sz="2800" spc="-1" strike="noStrike">
                <a:solidFill>
                  <a:srgbClr val="000000"/>
                </a:solidFill>
                <a:latin typeface="Arial"/>
              </a:rPr>
              <a:t>large enough to have a </a:t>
            </a:r>
            <a:r>
              <a:rPr b="1" i="1" lang="en-ZA" sz="2800" spc="-1" strike="noStrike">
                <a:solidFill>
                  <a:srgbClr val="0000cc"/>
                </a:solidFill>
                <a:latin typeface="Arial"/>
              </a:rPr>
              <a:t>substantial impact</a:t>
            </a:r>
            <a:r>
              <a:rPr b="0" i="1" lang="en-ZA" sz="2800" spc="-1" strike="noStrike">
                <a:solidFill>
                  <a:srgbClr val="000000"/>
                </a:solidFill>
                <a:latin typeface="Arial"/>
              </a:rPr>
              <a:t> on employment and social cohesion, especially for young people, women and the rural poor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”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1773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Roads Pavement Forum (RP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2565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rves as a forum for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xchang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formation and technologie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 promoting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est practic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and to facilitate the discussion of issues of strategic importance to the road construction industry”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5334120"/>
            <a:ext cx="8001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 rot="1389000">
            <a:off x="3505320" y="5181120"/>
            <a:ext cx="3886200" cy="457200"/>
          </a:xfrm>
          <a:custGeom>
            <a:avLst/>
            <a:gdLst/>
            <a:ahLst/>
            <a:rect l="l" t="t" r="r" b="b"/>
            <a:pathLst>
              <a:path w="2118" h="303">
                <a:moveTo>
                  <a:pt x="0" y="303"/>
                </a:moveTo>
                <a:lnTo>
                  <a:pt x="2118" y="303"/>
                </a:lnTo>
                <a:lnTo>
                  <a:pt x="2118" y="196"/>
                </a:lnTo>
                <a:lnTo>
                  <a:pt x="1155" y="0"/>
                </a:lnTo>
                <a:lnTo>
                  <a:pt x="998" y="0"/>
                </a:lnTo>
                <a:lnTo>
                  <a:pt x="0" y="178"/>
                </a:lnTo>
                <a:lnTo>
                  <a:pt x="0" y="3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03880" y="5324400"/>
            <a:ext cx="223920" cy="222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5611680"/>
            <a:ext cx="3048120" cy="712800"/>
          </a:xfrm>
          <a:custGeom>
            <a:avLst/>
            <a:gdLst/>
            <a:ahLst/>
            <a:rect l="l" t="t" r="r" b="b"/>
            <a:pathLst>
              <a:path w="1045" h="1923">
                <a:moveTo>
                  <a:pt x="523" y="0"/>
                </a:moveTo>
                <a:lnTo>
                  <a:pt x="679" y="872"/>
                </a:lnTo>
                <a:lnTo>
                  <a:pt x="679" y="1620"/>
                </a:lnTo>
                <a:lnTo>
                  <a:pt x="784" y="1620"/>
                </a:lnTo>
                <a:lnTo>
                  <a:pt x="1045" y="1745"/>
                </a:lnTo>
                <a:lnTo>
                  <a:pt x="1045" y="1923"/>
                </a:lnTo>
                <a:lnTo>
                  <a:pt x="0" y="1923"/>
                </a:lnTo>
                <a:lnTo>
                  <a:pt x="0" y="1763"/>
                </a:lnTo>
                <a:lnTo>
                  <a:pt x="209" y="1638"/>
                </a:lnTo>
                <a:lnTo>
                  <a:pt x="331" y="1638"/>
                </a:lnTo>
                <a:lnTo>
                  <a:pt x="331" y="872"/>
                </a:lnTo>
                <a:lnTo>
                  <a:pt x="523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20442000">
            <a:off x="2666880" y="3885840"/>
            <a:ext cx="1927440" cy="644400"/>
          </a:xfrm>
          <a:custGeom>
            <a:avLst/>
            <a:gdLst/>
            <a:ahLst/>
            <a:rect l="l" t="t" r="r" b="b"/>
            <a:pathLst>
              <a:path w="1214" h="410">
                <a:moveTo>
                  <a:pt x="6" y="0"/>
                </a:moveTo>
                <a:lnTo>
                  <a:pt x="0" y="43"/>
                </a:lnTo>
                <a:lnTo>
                  <a:pt x="6" y="98"/>
                </a:lnTo>
                <a:lnTo>
                  <a:pt x="24" y="153"/>
                </a:lnTo>
                <a:lnTo>
                  <a:pt x="57" y="208"/>
                </a:lnTo>
                <a:lnTo>
                  <a:pt x="109" y="257"/>
                </a:lnTo>
                <a:lnTo>
                  <a:pt x="172" y="303"/>
                </a:lnTo>
                <a:lnTo>
                  <a:pt x="236" y="334"/>
                </a:lnTo>
                <a:lnTo>
                  <a:pt x="290" y="355"/>
                </a:lnTo>
                <a:lnTo>
                  <a:pt x="350" y="376"/>
                </a:lnTo>
                <a:lnTo>
                  <a:pt x="408" y="389"/>
                </a:lnTo>
                <a:lnTo>
                  <a:pt x="465" y="398"/>
                </a:lnTo>
                <a:lnTo>
                  <a:pt x="519" y="404"/>
                </a:lnTo>
                <a:lnTo>
                  <a:pt x="589" y="410"/>
                </a:lnTo>
                <a:lnTo>
                  <a:pt x="655" y="407"/>
                </a:lnTo>
                <a:lnTo>
                  <a:pt x="719" y="404"/>
                </a:lnTo>
                <a:lnTo>
                  <a:pt x="794" y="395"/>
                </a:lnTo>
                <a:lnTo>
                  <a:pt x="849" y="382"/>
                </a:lnTo>
                <a:lnTo>
                  <a:pt x="909" y="364"/>
                </a:lnTo>
                <a:lnTo>
                  <a:pt x="966" y="343"/>
                </a:lnTo>
                <a:lnTo>
                  <a:pt x="1006" y="327"/>
                </a:lnTo>
                <a:lnTo>
                  <a:pt x="1048" y="300"/>
                </a:lnTo>
                <a:lnTo>
                  <a:pt x="1081" y="278"/>
                </a:lnTo>
                <a:lnTo>
                  <a:pt x="1117" y="248"/>
                </a:lnTo>
                <a:lnTo>
                  <a:pt x="1151" y="220"/>
                </a:lnTo>
                <a:lnTo>
                  <a:pt x="1172" y="187"/>
                </a:lnTo>
                <a:lnTo>
                  <a:pt x="1193" y="150"/>
                </a:lnTo>
                <a:lnTo>
                  <a:pt x="1208" y="110"/>
                </a:lnTo>
                <a:lnTo>
                  <a:pt x="1214" y="61"/>
                </a:lnTo>
                <a:lnTo>
                  <a:pt x="1211" y="3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05720" y="5257800"/>
            <a:ext cx="1927080" cy="644400"/>
          </a:xfrm>
          <a:custGeom>
            <a:avLst/>
            <a:gdLst/>
            <a:ahLst/>
            <a:rect l="l" t="t" r="r" b="b"/>
            <a:pathLst>
              <a:path w="1214" h="410">
                <a:moveTo>
                  <a:pt x="6" y="0"/>
                </a:moveTo>
                <a:lnTo>
                  <a:pt x="0" y="43"/>
                </a:lnTo>
                <a:lnTo>
                  <a:pt x="6" y="98"/>
                </a:lnTo>
                <a:lnTo>
                  <a:pt x="24" y="153"/>
                </a:lnTo>
                <a:lnTo>
                  <a:pt x="57" y="208"/>
                </a:lnTo>
                <a:lnTo>
                  <a:pt x="109" y="257"/>
                </a:lnTo>
                <a:lnTo>
                  <a:pt x="172" y="303"/>
                </a:lnTo>
                <a:lnTo>
                  <a:pt x="236" y="334"/>
                </a:lnTo>
                <a:lnTo>
                  <a:pt x="290" y="355"/>
                </a:lnTo>
                <a:lnTo>
                  <a:pt x="350" y="376"/>
                </a:lnTo>
                <a:lnTo>
                  <a:pt x="408" y="389"/>
                </a:lnTo>
                <a:lnTo>
                  <a:pt x="465" y="398"/>
                </a:lnTo>
                <a:lnTo>
                  <a:pt x="519" y="404"/>
                </a:lnTo>
                <a:lnTo>
                  <a:pt x="589" y="410"/>
                </a:lnTo>
                <a:lnTo>
                  <a:pt x="655" y="407"/>
                </a:lnTo>
                <a:lnTo>
                  <a:pt x="719" y="404"/>
                </a:lnTo>
                <a:lnTo>
                  <a:pt x="794" y="395"/>
                </a:lnTo>
                <a:lnTo>
                  <a:pt x="849" y="382"/>
                </a:lnTo>
                <a:lnTo>
                  <a:pt x="909" y="364"/>
                </a:lnTo>
                <a:lnTo>
                  <a:pt x="966" y="343"/>
                </a:lnTo>
                <a:lnTo>
                  <a:pt x="1006" y="327"/>
                </a:lnTo>
                <a:lnTo>
                  <a:pt x="1048" y="300"/>
                </a:lnTo>
                <a:lnTo>
                  <a:pt x="1081" y="278"/>
                </a:lnTo>
                <a:lnTo>
                  <a:pt x="1117" y="248"/>
                </a:lnTo>
                <a:lnTo>
                  <a:pt x="1151" y="220"/>
                </a:lnTo>
                <a:lnTo>
                  <a:pt x="1172" y="187"/>
                </a:lnTo>
                <a:lnTo>
                  <a:pt x="1193" y="150"/>
                </a:lnTo>
                <a:lnTo>
                  <a:pt x="1208" y="110"/>
                </a:lnTo>
                <a:lnTo>
                  <a:pt x="1214" y="61"/>
                </a:lnTo>
                <a:lnTo>
                  <a:pt x="1211" y="3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1135080" cy="2438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001000" y="4724280"/>
            <a:ext cx="762120" cy="457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324480" y="3657600"/>
            <a:ext cx="685800" cy="438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6934320" y="4648320"/>
            <a:ext cx="1136520" cy="549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7238880" y="4114800"/>
            <a:ext cx="838440" cy="533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7848720" y="3581280"/>
            <a:ext cx="609480" cy="569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7543800" y="3124080"/>
            <a:ext cx="609480" cy="5540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6477120" y="2895480"/>
            <a:ext cx="577800" cy="743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>
            <a:off x="7086600" y="3581280"/>
            <a:ext cx="685800" cy="590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>
            <a:off x="8153280" y="4191120"/>
            <a:ext cx="763560" cy="496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1"/>
          <a:stretch/>
        </p:blipFill>
        <p:spPr>
          <a:xfrm>
            <a:off x="5715000" y="4648320"/>
            <a:ext cx="1225440" cy="549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2"/>
          <a:stretch/>
        </p:blipFill>
        <p:spPr>
          <a:xfrm>
            <a:off x="2057400" y="3429000"/>
            <a:ext cx="533520" cy="539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3"/>
          <a:stretch/>
        </p:blipFill>
        <p:spPr>
          <a:xfrm>
            <a:off x="6248520" y="4191120"/>
            <a:ext cx="914400" cy="514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172200" y="1523880"/>
            <a:ext cx="2819520" cy="1371600"/>
          </a:xfrm>
          <a:prstGeom prst="cloudCallout">
            <a:avLst>
              <a:gd name="adj1" fmla="val -14865"/>
              <a:gd name="adj2" fmla="val 86689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4390200">
            <a:off x="3202200" y="2207160"/>
            <a:ext cx="990720" cy="2062440"/>
          </a:xfrm>
          <a:prstGeom prst="wedgeRoundRectCallout">
            <a:avLst>
              <a:gd name="adj1" fmla="val -143717"/>
              <a:gd name="adj2" fmla="val 111370"/>
              <a:gd name="adj3" fmla="val 16667"/>
            </a:avLst>
          </a:prstGeom>
          <a:solidFill>
            <a:srgbClr val="00cc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cono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i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EPWP is </a:t>
            </a:r>
            <a:r>
              <a:rPr b="1" lang="en-ZA" sz="3200" spc="-1" strike="noStrike">
                <a:solidFill>
                  <a:srgbClr val="000000"/>
                </a:solidFill>
                <a:latin typeface="Arial"/>
              </a:rPr>
              <a:t>integrated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 methodology where by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Creation of </a:t>
            </a: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assets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 (infrastructure provision and mainten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ing and skills </a:t>
            </a: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development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 (all lev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Job creation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 (all lev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Contractor 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development (CIDB level 1-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ustainability, </a:t>
            </a: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increase industry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 skills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320" y="2781360"/>
            <a:ext cx="8991360" cy="4152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0920" y="1557360"/>
            <a:ext cx="855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Length of road </a:t>
            </a:r>
            <a:r>
              <a:rPr b="1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ed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82% of roads are older than design life of 20 years, 24% of roads have reached more than twice design life – Are we in a crisi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20:53:03Z</dcterms:created>
  <dc:creator>Octaia Matloa</dc:creator>
  <dc:description/>
  <dc:language>en-US</dc:language>
  <cp:lastModifiedBy>GilbertoM</cp:lastModifiedBy>
  <dcterms:modified xsi:type="dcterms:W3CDTF">2008-05-06T11:03:25Z</dcterms:modified>
  <cp:revision>101</cp:revision>
  <dc:subject/>
  <dc:title>FINANCE BRANCH</dc:title>
</cp:coreProperties>
</file>