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77724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3465000"/>
            <a:ext cx="77724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8720" y="154944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6360" y="154944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346500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8720" y="346500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6360" y="346500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9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0956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9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072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9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340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20720" y="3465000"/>
            <a:ext cx="77724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77724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20720" y="3465000"/>
            <a:ext cx="77724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072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340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8720" y="154944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76360" y="154944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20720" y="346500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8720" y="346500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76360" y="346500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956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9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3465000"/>
            <a:ext cx="77724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2d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743040" indent="-2858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3" marL="1600200" indent="-2286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4" marL="2057400" indent="-2286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5" marL="2057400" indent="-228600">
              <a:lnSpc>
                <a:spcPts val="2200"/>
              </a:lnSpc>
              <a:spcBef>
                <a:spcPts val="550"/>
              </a:spcBef>
              <a:buClr>
                <a:srgbClr val="afafa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6" marL="2057400" indent="-228600">
              <a:lnSpc>
                <a:spcPts val="2200"/>
              </a:lnSpc>
              <a:spcBef>
                <a:spcPts val="550"/>
              </a:spcBef>
              <a:buClr>
                <a:srgbClr val="afafa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35472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2d50"/>
                </a:solidFill>
                <a:latin typeface="Arial"/>
              </a:rPr>
              <a:t>Slide </a:t>
            </a:r>
            <a:fld id="{118413DD-7EE5-4EE1-98CC-6FC475B685A4}" type="slidenum">
              <a:rPr b="0" lang="en-US" sz="1200" spc="-1" strike="noStrike">
                <a:solidFill>
                  <a:srgbClr val="012d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314880" y="615636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12d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2d50"/>
                </a:solidFill>
                <a:latin typeface="Times New Roman"/>
              </a:rPr>
              <a:t>© CSIR  2006                        www.csir.co.z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870600" y="5443560"/>
            <a:ext cx="2273400" cy="14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8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ts val="1899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afafa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afafa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92320" y="1557360"/>
            <a:ext cx="7129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08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vement Research Advisory Committee (PR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33320" y="267336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eting of the RP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9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8 May 200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2880" y="1371600"/>
            <a:ext cx="66265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2d50"/>
                </a:solidFill>
                <a:latin typeface="Arial"/>
              </a:rPr>
              <a:t>HVS results</a:t>
            </a: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055520"/>
            <a:ext cx="813744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12d50"/>
                </a:solidFill>
                <a:latin typeface="Arial"/>
              </a:rPr>
              <a:t>CSIR ThermalPADS</a:t>
            </a: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720" y="1267920"/>
            <a:ext cx="7772400" cy="36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3920" indent="-31392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12d50"/>
                </a:solidFill>
                <a:latin typeface="Arial"/>
              </a:rPr>
              <a:t>Based on locally developed asphalt pavement temperature prediction algorithms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313920" indent="0">
              <a:lnSpc>
                <a:spcPts val="22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313920" indent="-31392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12d50"/>
                </a:solidFill>
                <a:latin typeface="Arial"/>
              </a:rPr>
              <a:t>Uses daily maximum and minimum air temperature to calculate: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681840" indent="-2610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and minimum surface tempera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-2610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mperature at dep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-2610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urnal temperature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ts val="22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313920" indent="-31392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12d50"/>
                </a:solidFill>
                <a:latin typeface="Arial"/>
              </a:rPr>
              <a:t>Currently contains weather data from 65 SA weather stations 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313920" indent="0">
              <a:lnSpc>
                <a:spcPts val="22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313920" indent="-31392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12d50"/>
                </a:solidFill>
                <a:latin typeface="Arial"/>
              </a:rPr>
              <a:t>Can be used to select Performance Grade (PG) binder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7770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12d50"/>
                </a:solidFill>
                <a:latin typeface="Arial"/>
              </a:rPr>
              <a:t>Weather station selection</a:t>
            </a: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9640" y="922320"/>
            <a:ext cx="799308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ts val="3399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12d50"/>
                </a:solidFill>
                <a:latin typeface="Arial"/>
              </a:rPr>
              <a:t>PG binder selection</a:t>
            </a: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5751720" cy="1379520"/>
          </a:xfrm>
          <a:prstGeom prst="rect">
            <a:avLst/>
          </a:prstGeom>
          <a:ln w="9360">
            <a:solidFill>
              <a:srgbClr val="afafaf"/>
            </a:solidFill>
            <a:miter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3068640"/>
            <a:ext cx="77706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ts val="22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341280" indent="-3412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12d50"/>
                </a:solidFill>
                <a:latin typeface="Arial"/>
              </a:rPr>
              <a:t>7-day average maximum temperature at 20mm depth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341280" indent="-3412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12d50"/>
                </a:solidFill>
                <a:latin typeface="Arial"/>
              </a:rPr>
              <a:t>Average minimum surface temperature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2d50"/>
                </a:solidFill>
                <a:latin typeface="Arial"/>
              </a:rPr>
              <a:t>Progress</a:t>
            </a: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0720" y="1267920"/>
            <a:ext cx="7772400" cy="36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Performance specifications for bituminous binders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743040" indent="0">
              <a:lnSpc>
                <a:spcPts val="1899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1 “The Use of Modified Bituminous Binders in Road Construction” currently being reviewed by the RPF Task Group (feedback b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nnis Rossman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1899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long-term durability (ageing) tests for bituminous binders currently being researched at US and the CS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1899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799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Website:    </a:t>
            </a:r>
            <a:r>
              <a:rPr b="1" lang="en-US" sz="3200" spc="-1" strike="noStrike">
                <a:solidFill>
                  <a:srgbClr val="012d50"/>
                </a:solidFill>
                <a:latin typeface="Arial"/>
              </a:rPr>
              <a:t>www.prac.co.za</a:t>
            </a:r>
            <a:endParaRPr b="0" lang="en-US" sz="3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2d50"/>
                </a:solidFill>
                <a:latin typeface="Arial"/>
              </a:rPr>
              <a:t>Purpose of PRAC</a:t>
            </a: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Partnered initiative between the public and private sector to 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668520" indent="-2570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nd prioritise immediate and future R&amp;D needs in pavement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and avoid duplication of R&amp;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 a Team SA approach with the objective to fast track R&amp;D activities and the entrenchment in practice of their outcomes (T’T, guidelines, specifications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308520" indent="-30852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Role of the PRAC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668520" indent="-2570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ise on R&amp;D needs and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ise on development of strategic plans and research portfol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with technology foresigh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the review of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assessing impact of R&amp;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2d50"/>
                </a:solidFill>
                <a:latin typeface="Arial"/>
              </a:rPr>
              <a:t>Partnered initiatives</a:t>
            </a: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720" y="119700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Bituminous Stabilisation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586800" indent="-22572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utrans, Sabita, SAN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, US, A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ts val="1899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SA Pavement Design Method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586800" indent="-22572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R, Consultants, UP, US, A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ts val="1899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Ultra-Thin Continuously-Reinforced Concrete 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586800" indent="-22572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, CSIR, C&amp;CI, 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ts val="1899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Rutting Resistance of HMA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586800" indent="-22572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utrans, Sabita, Akasia, Much Asph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R, ITT, Consultants, 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2d50"/>
                </a:solidFill>
                <a:latin typeface="Arial"/>
              </a:rPr>
              <a:t>Resolution of the 12</a:t>
            </a:r>
            <a:r>
              <a:rPr b="1" lang="en-US" sz="3000" spc="-1" strike="noStrike" baseline="30000">
                <a:solidFill>
                  <a:srgbClr val="012d50"/>
                </a:solidFill>
                <a:latin typeface="Arial"/>
              </a:rPr>
              <a:t>th</a:t>
            </a:r>
            <a:r>
              <a:rPr b="1" lang="en-US" sz="3000" spc="-1" strike="noStrike">
                <a:solidFill>
                  <a:srgbClr val="012d50"/>
                </a:solidFill>
                <a:latin typeface="Arial"/>
              </a:rPr>
              <a:t> meeting of the RPF</a:t>
            </a: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720" y="1345680"/>
            <a:ext cx="7772400" cy="36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PRAC assumes leadership and implements a systematic approach for the updating and standardisation of our engineering practices, and aligns its research agenda to support the above”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298440"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298440" indent="-2984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vely debated at the 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AC meeting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646200" indent="-2484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e of PRAC vis-à-vis other bodies (RMC, RPF WG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the P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have the powers &amp; mandate to enforce decis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ts val="1899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ation of PRAC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646200" indent="-2484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ractice documents: SANS/CIDB/other public bod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 &amp; specifications: S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ts val="1899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edback by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Kobus van der Wal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fter tea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298440"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2d50"/>
                </a:solidFill>
                <a:latin typeface="Arial"/>
              </a:rPr>
              <a:t>Research Priorities</a:t>
            </a: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0720" y="119700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Bituminous stabilisation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294840" indent="-2948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Gravel roads and their upgrading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294840" indent="-2948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Thin bituminous surfacings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294840" indent="-2948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Structural design &amp; performance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294840" indent="-2948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Thin concrete layers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294840" indent="-2948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Quality control &amp; quality assurance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294840" indent="-2948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Lime &amp; cement-treated materials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294840" indent="-2948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Hot-mix asphalt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294840" indent="-2948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Materials classification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294840" indent="-2948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Performance specifications for bituminous binders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294840" indent="-2948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Long-life pavements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marL="294840" indent="-2948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Replacement of tar-based products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2d50"/>
                </a:solidFill>
                <a:latin typeface="Arial"/>
              </a:rPr>
              <a:t>Progress</a:t>
            </a: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Bituminous stabilisation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623880" indent="-23976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dr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line document capturing best practice in bituminous stabilisation using both bitumen-emulsion and foamed-bit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design &amp; mix design guidelines to be completed in early 2008 after which TG2 will be up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Gravel roads and their upgrading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623880" indent="-23976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upgrade Sabita Manual 10 (Appropriate Stds for bituminous surfacings) and TRH20 (Structural design, construction and maintenance of unpaved roads) taking cognisance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RH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experiences gained on the upgrading of gravel roads to paved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DC guidelines on low volume r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ur-based maintenance &amp; construction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lnSpc>
                <a:spcPts val="1899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2d50"/>
                </a:solidFill>
                <a:latin typeface="Arial"/>
              </a:rPr>
              <a:t>Progress</a:t>
            </a: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0720" y="119700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Thin bituminous surfacings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609120" indent="-23436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ément SA guideline for certification of proprietary thin-layer asphalt mixes accepted by Board of Agrément &amp; one product has been submitted for certification (feedback b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oe Odhiamb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l design guideline (TRH3) currently in process of being finalised (feedback b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erry van Zy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 issues raised at last RP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gates for ultra-thin asphalt (feedback b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ex Weide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ts val="1899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Arial"/>
              </a:rPr>
              <a:t>Structural design and performance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609120" indent="-23436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progress made since May 2006 on the Development of a Framework for the revision of the SA Pavement Desig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ed out research needs and identified &amp; drafted 22 Project Bri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 held in April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eption reports due in Jun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 to be initiated in Nov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edback b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uw Kannemey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2d50"/>
                </a:solidFill>
                <a:latin typeface="Arial"/>
              </a:rPr>
              <a:t>Progress</a:t>
            </a: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720" y="119700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Hot-mix asphalt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and APT study into HMA rutting initiated in October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study almos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der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compaction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el tracking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cal Properties (ITT, ITS, dynamic cree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T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vy Vehicle Simulator &amp; M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 will be fed back at a Symposium on 24 May (CSIR I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y meeting to be held on 23 May to discuss evaluation of rut-resistant mi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79640" indent="0">
              <a:lnSpc>
                <a:spcPts val="3399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3000" spc="-1" strike="noStrike">
                <a:solidFill>
                  <a:srgbClr val="012d50"/>
                </a:solidFill>
                <a:latin typeface="Arial"/>
              </a:rPr>
              <a:t>Permanent deformation of HMA</a:t>
            </a:r>
            <a:br>
              <a:rPr sz="3000"/>
            </a:br>
            <a:r>
              <a:rPr b="1" lang="en-GB" sz="3000" spc="-1" strike="noStrike">
                <a:solidFill>
                  <a:srgbClr val="012d50"/>
                </a:solidFill>
                <a:latin typeface="Arial"/>
              </a:rPr>
              <a:t>(Hamburg wheel tracking test)</a:t>
            </a:r>
            <a:endParaRPr b="1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7956720" cy="5438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19641000">
            <a:off x="3779640" y="4149360"/>
            <a:ext cx="504720" cy="574560"/>
          </a:xfrm>
          <a:prstGeom prst="upArrow">
            <a:avLst>
              <a:gd name="adj1" fmla="val 50000"/>
              <a:gd name="adj2" fmla="val 28459"/>
            </a:avLst>
          </a:prstGeom>
          <a:solidFill>
            <a:srgbClr val="00b8ff"/>
          </a:solidFill>
          <a:ln w="936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8072600">
            <a:off x="2808000" y="3104640"/>
            <a:ext cx="505080" cy="574560"/>
          </a:xfrm>
          <a:prstGeom prst="upArrow">
            <a:avLst>
              <a:gd name="adj1" fmla="val 50000"/>
              <a:gd name="adj2" fmla="val 28439"/>
            </a:avLst>
          </a:prstGeom>
          <a:solidFill>
            <a:srgbClr val="00b8ff"/>
          </a:solidFill>
          <a:ln w="936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912800">
            <a:off x="1654200" y="2602080"/>
            <a:ext cx="504720" cy="574560"/>
          </a:xfrm>
          <a:prstGeom prst="upArrow">
            <a:avLst>
              <a:gd name="adj1" fmla="val 50000"/>
              <a:gd name="adj2" fmla="val 28459"/>
            </a:avLst>
          </a:prstGeom>
          <a:solidFill>
            <a:srgbClr val="00b8ff"/>
          </a:solidFill>
          <a:ln w="936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1210000">
            <a:off x="4138200" y="4941360"/>
            <a:ext cx="504720" cy="574920"/>
          </a:xfrm>
          <a:prstGeom prst="upArrow">
            <a:avLst>
              <a:gd name="adj1" fmla="val 50000"/>
              <a:gd name="adj2" fmla="val 28477"/>
            </a:avLst>
          </a:prstGeom>
          <a:solidFill>
            <a:srgbClr val="00b8ff"/>
          </a:solidFill>
          <a:ln w="936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29960" y="508464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3232"/>
                </a:solidFill>
                <a:latin typeface="Arial"/>
              </a:rPr>
              <a:t>40</a:t>
            </a:r>
            <a:r>
              <a:rPr b="1" lang="en-US" sz="2400" spc="-1" strike="noStrike">
                <a:solidFill>
                  <a:srgbClr val="be3232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be3232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29960" y="426708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3232"/>
                </a:solidFill>
                <a:latin typeface="Arial"/>
              </a:rPr>
              <a:t>45</a:t>
            </a:r>
            <a:r>
              <a:rPr b="1" lang="en-US" sz="2400" spc="-1" strike="noStrike">
                <a:solidFill>
                  <a:srgbClr val="be3232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be3232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50320" y="288612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3232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be3232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be3232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24840" y="234936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3232"/>
                </a:solidFill>
                <a:latin typeface="Arial"/>
              </a:rPr>
              <a:t>55</a:t>
            </a:r>
            <a:r>
              <a:rPr b="1" lang="en-US" sz="2400" spc="-1" strike="noStrike">
                <a:solidFill>
                  <a:srgbClr val="be3232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be3232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00840" y="206064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3232"/>
                </a:solidFill>
                <a:latin typeface="Arial"/>
              </a:rPr>
              <a:t>60</a:t>
            </a:r>
            <a:r>
              <a:rPr b="1" lang="en-US" sz="2400" spc="-1" strike="noStrike">
                <a:solidFill>
                  <a:srgbClr val="be3232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be3232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0:33:22Z</dcterms:created>
  <dc:creator>Tony</dc:creator>
  <dc:description/>
  <dc:language>en-US</dc:language>
  <cp:lastModifiedBy>Verhaeghe</cp:lastModifiedBy>
  <cp:lastPrinted>2005-12-08T11:33:35Z</cp:lastPrinted>
  <dcterms:modified xsi:type="dcterms:W3CDTF">2007-05-08T11:23:09Z</dcterms:modified>
  <cp:revision>87</cp:revision>
  <dc:subject/>
  <dc:title>PowerPoint Presentation</dc:title>
</cp:coreProperties>
</file>