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D386-FFC4-47DE-BDD7-448770027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77384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8120" y="3466440"/>
            <a:ext cx="777384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ADE7-91FD-4FD4-A958-D39F62D59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8120" y="346644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46644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FC24-56F6-4543-91CD-72ABD5509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840" y="155052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5200" y="155052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8120" y="346644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840" y="346644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5200" y="346644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6ED5-B31A-4C92-BBEA-34BF90DF6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08120" y="380880"/>
            <a:ext cx="777384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8120" y="346644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0EB8-16B0-47AC-9DDD-DBB4830D4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1520" y="346644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08120" y="3466440"/>
            <a:ext cx="777384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77384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08120" y="3466440"/>
            <a:ext cx="777384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08120" y="346644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91520" y="346644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6840" y="155052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5200" y="155052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08120" y="346644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6840" y="346644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5200" y="3466440"/>
            <a:ext cx="25030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2DBE-DE3B-4173-8AD4-21D35E796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EF11-9905-4AF2-BDF7-892E670E1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0D22-19AF-43E6-AD48-50261E395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8120" y="380880"/>
            <a:ext cx="777384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C2E2-470A-42B5-AAF1-92F9398C9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8120" y="346644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8E71-007B-47ED-9A7B-A37483546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46644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30BE-98ED-4F6E-96AA-6B87C09EF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550520"/>
            <a:ext cx="379332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8120" y="3466440"/>
            <a:ext cx="777384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84E6-723C-4AD9-BD74-0AD36E35B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67360" y="5438880"/>
            <a:ext cx="2273400" cy="1414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e4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4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4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4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4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4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eaea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4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eaea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4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627280" y="6165720"/>
            <a:ext cx="446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aeaeae"/>
                </a:solidFill>
                <a:latin typeface="Arial Black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eaeae"/>
                </a:solidFill>
                <a:latin typeface="Arial Black"/>
                <a:ea typeface="ヒラギノ角ゴ Pro W3"/>
              </a:rPr>
              <a:t>THE CONSTRUCTION AND CONTRACTOR DEVELOPMENT PROGRAM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4000" y="6165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2e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e4f"/>
                </a:solidFill>
                <a:latin typeface="Times New Roman"/>
              </a:rPr>
              <a:t>Slide </a:t>
            </a:r>
            <a:fld id="{4328EE7D-81D3-4252-90A3-B0A17A885246}" type="slidenum">
              <a:rPr b="0" lang="en-US" sz="800" spc="-1" strike="noStrike">
                <a:solidFill>
                  <a:srgbClr val="002e4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ae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8120" y="8377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aeaea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aeaea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ae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120" y="838080"/>
            <a:ext cx="7773840" cy="32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Employment Creation Through LIC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pplication of Continuously Lightly Reinforced Thin Concrete Pav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Street Crossings of Services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Establish competent and productive construction teams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Maintaining Quality over time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Keep heavy traffic off the pavement for say 3 days?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5DFF-57C3-483E-8DCF-CBEB774236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Optimum designs for various in-situ ground conditions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Competent and productive construction teams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Establish cost effective production rates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Establish good practices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Cost comparison with alternative designs including life cycle costs, and multiplier effects.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AD77-F1CB-42AF-9744-4ED8FC265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ae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TATUS QU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PROJECT 1 - STREETS IN TEMBISA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8120" y="1550880"/>
            <a:ext cx="777384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Main objective was to train construction teams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CRCP was selected, based on Iowa experience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Design comprised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0 mm CRCP (200 x 200 x 4mm me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0mm Andesite/slagment sub-base, 2½ % lime, compacted by pedestrian rollers utilising a 50% compaction factor (CBR  &gt;80 @ 97% mod AASH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itu material shaped to rolling grade and crossfall by hand and compacted with a pedestrian roller (CBR&gt;2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7A69-247C-4BFC-91A4-293BBE45FC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e4f"/>
                </a:solidFill>
                <a:latin typeface="Arial"/>
              </a:rPr>
              <a:t>TEMBISA STREET - 5 years service life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C0F5-7332-4BC4-B325-F3BB9843A2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e4f"/>
                </a:solidFill>
                <a:latin typeface="Arial"/>
              </a:rPr>
              <a:t>TEMBISA STREET - 5 years service life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A8B6-3055-411C-85AD-1C263C3F58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ROJECT 2 - ROODEKRANS ACCESS ROAD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4f"/>
                </a:solidFill>
                <a:latin typeface="Arial"/>
              </a:rPr>
              <a:t>Philosophy</a:t>
            </a: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Construction of an experimental access road to a major quarry,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All the trucks leaving the quarry went over a weighbridge and were accordingly counted and weighed,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CSIR constructed three sections of CRCP 50mm, 75mm and 100mm thick as part of the project (Opened to traffic March 2002).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1415-9C4C-412D-B93C-82772ABC96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287f0"/>
                </a:solidFill>
                <a:latin typeface="Arial"/>
              </a:rPr>
              <a:t>Roodekrans access road</a:t>
            </a:r>
            <a:r>
              <a:rPr b="0" lang="en-GB" sz="3000" spc="-1" strike="noStrike">
                <a:solidFill>
                  <a:srgbClr val="002e4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384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e4f"/>
                </a:solidFill>
                <a:latin typeface="Arial"/>
              </a:rPr>
              <a:t>Design of CSIR sections (sections 13 meters long)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0 mm CRCP (200 x 200 x 5,6mm me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0mm E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25mm Cement treated sub-base (CTS) compacted to 100% mod (UCS 1,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0mm insitu compacted to 98% mod  AASHTO (CBR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7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 mm CRCP(200 x 200 x 5,6mm me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5mm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25mm 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0 mm ins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ti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0mm CRCP (200 x 200 x 5,6mm me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25mm 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0mm ins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d blocks at start of section 4 and end section 6. Mesh continuous across 3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090E-1040-4D8F-897C-3D9ED7FA60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e4f"/>
                </a:solidFill>
                <a:latin typeface="Arial"/>
              </a:rPr>
              <a:t>ROODEKRANS CONSTRUCTION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31800" y="1143000"/>
            <a:ext cx="5859720" cy="44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0923-DCF4-4945-9C3C-0C470CF11E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e4f"/>
                </a:solidFill>
                <a:latin typeface="Arial"/>
              </a:rPr>
              <a:t>ROODEKRANS CONSTRUCTION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1041480"/>
            <a:ext cx="5943600" cy="44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31E9-2AF2-436B-B771-2B6838EB93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11280" y="404640"/>
            <a:ext cx="1873080" cy="1726920"/>
            <a:chOff x="611280" y="404640"/>
            <a:chExt cx="1873080" cy="1726920"/>
          </a:xfrm>
        </p:grpSpPr>
        <p:sp>
          <p:nvSpPr>
            <p:cNvPr id="82" name=""/>
            <p:cNvSpPr/>
            <p:nvPr/>
          </p:nvSpPr>
          <p:spPr>
            <a:xfrm>
              <a:off x="640800" y="405360"/>
              <a:ext cx="1812600" cy="172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eaeae"/>
                </a:solidFill>
                <a:latin typeface="Arial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611280" y="404640"/>
            <a:ext cx="1873080" cy="172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404640"/>
                      <a:ext cx="1873080" cy="17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" name=""/>
          <p:cNvSpPr txBox="1"/>
          <p:nvPr/>
        </p:nvSpPr>
        <p:spPr>
          <a:xfrm>
            <a:off x="2598840" y="620640"/>
            <a:ext cx="630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AUTE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PARTMENT OF PUBL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RANSPORT, ROADS AND WOR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3213000"/>
            <a:ext cx="633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wenty Townships Upgrading of Roads Project</a:t>
            </a:r>
            <a:endParaRPr b="0" lang="en-US" sz="2800" spc="-1" strike="noStrike">
              <a:solidFill>
                <a:srgbClr val="aeaeae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SHWANE REGION</a:t>
            </a:r>
            <a:endParaRPr b="0" lang="en-US" sz="2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4BAB-E3AE-4DBA-9B9A-F0B27E6B5F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e4f"/>
                </a:solidFill>
                <a:latin typeface="Arial"/>
              </a:rPr>
              <a:t>ROODEKRANS CONSTRUCTION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28800" y="1082520"/>
            <a:ext cx="5791320" cy="434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C931-582A-47A0-ACF9-149B773308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e4f"/>
                </a:solidFill>
                <a:latin typeface="Arial"/>
              </a:rPr>
              <a:t>ROODEKRANS CONSTRUCTION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52480" y="1028880"/>
            <a:ext cx="586764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BC57-35A6-4931-A346-20E307EDB9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e4f"/>
                </a:solidFill>
                <a:latin typeface="Arial"/>
              </a:rPr>
              <a:t>ROODEKRANS CONSTRUCTION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81080" y="1081080"/>
            <a:ext cx="5791320" cy="43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D91F-1D50-440B-873E-A9782CB1B3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287f0"/>
                </a:solidFill>
                <a:latin typeface="Arial"/>
              </a:rPr>
              <a:t>Roodekrans access road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08120" y="1550880"/>
            <a:ext cx="777384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2e4f"/>
                </a:solidFill>
                <a:uFillTx/>
                <a:latin typeface="Arial"/>
              </a:rPr>
              <a:t>Evaluation of performance of 50mm CRCP (February 2006)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Performance was exceptionally good having carried in excess of 500 000 E80’s and is still in good serviceable condition.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To date, no centre line cracks despite the tracking of the heavy vehicles (Cracking on the centre line would have occurred, had “curling” been a problem)</a:t>
            </a:r>
            <a:r>
              <a:rPr b="0" lang="en-GB" sz="1600" spc="-1" strike="noStrike">
                <a:solidFill>
                  <a:srgbClr val="002e4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Performance to date indicates that it is possible to lay mesh reinforced 50mm thick 30 MPa concrete successfully, without joints, for low to medium volume roads.</a:t>
            </a:r>
            <a:r>
              <a:rPr b="0" lang="en-GB" sz="1600" spc="-1" strike="noStrike">
                <a:solidFill>
                  <a:srgbClr val="002e4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58AD-4079-4741-8EC3-A0603E4BCF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ROODEKRANS: 50 mm CRCP</a:t>
            </a:r>
            <a:br>
              <a:rPr sz="3000"/>
            </a:b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HOTOS JAN/FEB 2006 (500 000 E80’s)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1365120"/>
            <a:ext cx="5639040" cy="412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CFE3-9B79-4F57-A11C-899E9F12DA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ROODEKRANS: 50 mm CRCP</a:t>
            </a:r>
            <a:br>
              <a:rPr sz="3000"/>
            </a:b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HOTOS JAN/FEB 2006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7400" y="1384200"/>
            <a:ext cx="5029200" cy="408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F330-0D78-4CFB-8A5B-CDCCECD656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ROODEKRANS: 50 mm CRCP</a:t>
            </a:r>
            <a:br>
              <a:rPr sz="3000"/>
            </a:b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HOTOS JAN/FEB 2006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1417680"/>
            <a:ext cx="5715000" cy="40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6E5B-7D16-4C50-BC50-2F82376E9E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ROODEKRANS: 50 mm CRCP</a:t>
            </a:r>
            <a:br>
              <a:rPr sz="3000"/>
            </a:b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HOTOS JAN/FEB 2006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1392120"/>
            <a:ext cx="5562720" cy="40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DE46-9FA0-4386-85F2-76F39FE34C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ROODEKRANS: 50 mm CRCP</a:t>
            </a:r>
            <a:br>
              <a:rPr sz="3000"/>
            </a:b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HOTOS JAN/FEB 2006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62720" cy="39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897E-524E-45B6-A158-6A90DD438E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ROODEKRANS: 50 mm CRCP</a:t>
            </a:r>
            <a:br>
              <a:rPr sz="3000"/>
            </a:b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HOTOS JAN/FEB 2006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8800" y="1378080"/>
            <a:ext cx="5562720" cy="41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9711-24F1-4150-B55E-F22BE8EBDC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11280" y="404640"/>
            <a:ext cx="1873080" cy="1726920"/>
            <a:chOff x="611280" y="404640"/>
            <a:chExt cx="1873080" cy="1726920"/>
          </a:xfrm>
        </p:grpSpPr>
        <p:sp>
          <p:nvSpPr>
            <p:cNvPr id="88" name=""/>
            <p:cNvSpPr/>
            <p:nvPr/>
          </p:nvSpPr>
          <p:spPr>
            <a:xfrm>
              <a:off x="640800" y="405360"/>
              <a:ext cx="1812600" cy="172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eaeae"/>
                </a:solidFill>
                <a:latin typeface="Arial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611280" y="404640"/>
            <a:ext cx="1873080" cy="172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404640"/>
                      <a:ext cx="1873080" cy="17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" name=""/>
          <p:cNvSpPr txBox="1"/>
          <p:nvPr/>
        </p:nvSpPr>
        <p:spPr>
          <a:xfrm>
            <a:off x="2598840" y="620640"/>
            <a:ext cx="630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AUTE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PARTMENT OF PUBL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RANSPORT, ROADS AND WOR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195640" y="2133720"/>
            <a:ext cx="4464000" cy="370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9D7F-C1B2-44A1-BC95-A1B8F7B6B1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ROODEKRANS: 50 mm CRCP</a:t>
            </a:r>
            <a:br>
              <a:rPr sz="3000"/>
            </a:b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HOTOS JAN/FEB 2006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28800" y="1368360"/>
            <a:ext cx="5486400" cy="412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049F-FB87-412A-9C48-D99FD7BCAB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ROODEKRANS: 50 mm CRCP</a:t>
            </a:r>
            <a:br>
              <a:rPr sz="3000"/>
            </a:b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HOTOS DECEMBER 2007 (</a:t>
            </a:r>
            <a:r>
              <a:rPr b="0" lang="en-US" sz="3000" spc="-1" strike="noStrike" u="sng">
                <a:solidFill>
                  <a:srgbClr val="0287f0"/>
                </a:solidFill>
                <a:uFillTx/>
                <a:latin typeface="Arial"/>
              </a:rPr>
              <a:t>+ </a:t>
            </a: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750 000 E80)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28800" y="1357200"/>
            <a:ext cx="5486400" cy="41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BA23-9920-4B66-B095-E5FFC6FAEE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ROODEKRANS: 50 mm CRCP</a:t>
            </a:r>
            <a:br>
              <a:rPr sz="3000"/>
            </a:b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PHOTOS DECEMBER 2007 (</a:t>
            </a:r>
            <a:r>
              <a:rPr b="0" lang="en-US" sz="3000" spc="-1" strike="noStrike" u="sng">
                <a:solidFill>
                  <a:srgbClr val="0287f0"/>
                </a:solidFill>
                <a:uFillTx/>
                <a:latin typeface="Arial"/>
              </a:rPr>
              <a:t>+ </a:t>
            </a:r>
            <a:r>
              <a:rPr b="0" lang="en-US" sz="3000" spc="-1" strike="noStrike">
                <a:solidFill>
                  <a:srgbClr val="0287f0"/>
                </a:solidFill>
                <a:latin typeface="Arial"/>
              </a:rPr>
              <a:t>750 000 E80)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aeaeae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1446120"/>
            <a:ext cx="5486400" cy="40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7967-A2B0-4CA4-ACA6-76FD21B943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PROJECT 3 - MTHATHA: ACCESS ROAD TO QUARRY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08120" y="1550880"/>
            <a:ext cx="7773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Length: Approximately 2 500 meters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Serves major quarry in Mthatha area and community along road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Approximately 400 trucks/day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Regarded as pilot project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der awarded. Construction of trial section end February/ early March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erformance of Roodekrans.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mm CR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0mm E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0mm in-situ stabilised with 3% l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54AB-BBE8-461E-A567-76591F52E4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PROJECT 4 - SOSHANGUVE BUS ROUTE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08120" y="1066680"/>
            <a:ext cx="77738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e4f"/>
                </a:solidFill>
                <a:latin typeface="Arial"/>
              </a:rPr>
              <a:t>Length: Approximately 1 200 meters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e4f"/>
                </a:solidFill>
                <a:latin typeface="Arial"/>
              </a:rPr>
              <a:t>Link road between residential areas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e4f"/>
                </a:solidFill>
                <a:latin typeface="Arial"/>
              </a:rPr>
              <a:t>Mainly cars and taxis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e4f"/>
                </a:solidFill>
                <a:latin typeface="Arial"/>
              </a:rPr>
              <a:t>First Demonstration project by GAUTENG DEPARTMENT OF PUBLIC TRANSPORT, ROADS AND WORKS together with CITY OF TSHWANE and the CSIR.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nder awarded in March 2008.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ject includes a section of CRCP with various subbases for testing by the HVS.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2e4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mm CRCP (ref 193 mesh, 200 x 200 x 5.6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50mm in-situ material (stabilised where PI requires with % lime), top 50 mm is scarified, mixed with diluted emulsion and compacted to provide platform for the concrete pa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CE69-0235-4A02-8106-1EEEA48386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120" y="533160"/>
            <a:ext cx="7773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AN EXCITING IMPROVEMENT?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384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287f0"/>
                </a:solidFill>
                <a:uFillTx/>
                <a:latin typeface="Arial"/>
              </a:rPr>
              <a:t>Ash concrete (SASOL bottom dump ash)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e4f"/>
                </a:solidFill>
                <a:latin typeface="Arial"/>
              </a:rPr>
              <a:t>Definition of ash aggregate 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e4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e4f"/>
                </a:solidFill>
                <a:latin typeface="Arial"/>
              </a:rPr>
              <a:t>Bottom dump ash from SASOL reconstituted to meet a continuous </a:t>
            </a:r>
            <a:r>
              <a:rPr b="0" lang="en-US" sz="2000" spc="-1" strike="noStrike">
                <a:solidFill>
                  <a:srgbClr val="002e4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e4f"/>
                </a:solidFill>
                <a:latin typeface="Arial"/>
              </a:rPr>
              <a:t>grading  (possibility of power station ash?)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e4f"/>
                </a:solidFill>
                <a:latin typeface="Arial"/>
              </a:rPr>
              <a:t>Reasons for considering ash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h concrete has an E value of approximately half that of conventional con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h concrete is lighter to work with than conventional con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ncreasing the fly ash content in the ash concrete the cement demand can be redu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h is a wast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B0D0-D4EE-46AA-9183-39B9C2B9B2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Ash concrete (SASOL bottom dump ash)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38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Comparison deflection ash vs conventional concrete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liminary laboratory tests with UP indicates that ash concrete can accommodat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wice the number of deflections of conventional concrete beams at 0,4mm deflection (750mm x 150mm x 75mm unreinforced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te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ly being carried out at UP experimental farm on test facility of 8m long by 4m w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mm CRCP on 50mm ETB (200 x 200 x 5,6mm mesh) (half width ash concrete and half width conventional concr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ous effect simulated by casting edge beams at extremities of s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ed to 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8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xle load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 deflections and strain in me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2EF5-C816-49B0-A18E-203F418204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PROPOSED DESIGN FOR URBAN STREETS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96752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To be used where limited number of heavy vehicles are expected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mm CRCP 200x200x5,6mm (Ref 193)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mm  E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0mm subbase of in-situ material scarified to 150mm and stabilised with lime (dependant on CB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1166-DFF0-45DE-86BD-D0A93FF2A8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715000" cy="3525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133720" y="2459160"/>
            <a:ext cx="442908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38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287f0"/>
                </a:solidFill>
                <a:latin typeface="Arial"/>
              </a:rPr>
              <a:t>Acknowledgement</a:t>
            </a:r>
            <a:br>
              <a:rPr sz="3000"/>
            </a:br>
            <a:r>
              <a:rPr b="1" lang="en-GB" sz="3600" spc="-1" strike="noStrike">
                <a:solidFill>
                  <a:srgbClr val="0287f0"/>
                </a:solidFill>
                <a:latin typeface="Arial"/>
              </a:rPr>
              <a:t>A Bergh and A McKay of the CSIR</a:t>
            </a:r>
            <a:endParaRPr b="0" lang="en-US" sz="36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1495-7484-43B6-ADFF-F7FC9CAB52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2421000"/>
            <a:ext cx="7773840" cy="35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 u="sng">
                <a:solidFill>
                  <a:srgbClr val="edfe48"/>
                </a:solidFill>
                <a:uFillTx/>
                <a:latin typeface="Arial"/>
              </a:rPr>
              <a:t>MOTIVATION – EPWP BENEFITS</a:t>
            </a:r>
            <a:endParaRPr b="0" lang="en-US" sz="28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edfe48"/>
                </a:solidFill>
                <a:latin typeface="Arial"/>
              </a:rPr>
              <a:t>Increase of labour content by an estimated  350%</a:t>
            </a: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edfe48"/>
                </a:solidFill>
                <a:latin typeface="Arial"/>
              </a:rPr>
              <a:t>Skills acquired, e.g. concreting can be applied in other sectors</a:t>
            </a: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edfe48"/>
                </a:solidFill>
                <a:latin typeface="Arial"/>
              </a:rPr>
              <a:t>Upscaling of technology to provincial and national roads</a:t>
            </a: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54040" y="189000"/>
            <a:ext cx="1496880" cy="1382760"/>
            <a:chOff x="554040" y="189000"/>
            <a:chExt cx="1496880" cy="1382760"/>
          </a:xfrm>
        </p:grpSpPr>
        <p:sp>
          <p:nvSpPr>
            <p:cNvPr id="95" name=""/>
            <p:cNvSpPr/>
            <p:nvPr/>
          </p:nvSpPr>
          <p:spPr>
            <a:xfrm>
              <a:off x="577440" y="189720"/>
              <a:ext cx="1448640" cy="138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eaeae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554040" y="189000"/>
            <a:ext cx="1496880" cy="138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4040" y="189000"/>
                      <a:ext cx="1496880" cy="138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 txBox="1"/>
          <p:nvPr/>
        </p:nvSpPr>
        <p:spPr>
          <a:xfrm>
            <a:off x="2411280" y="282600"/>
            <a:ext cx="630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AUTE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PARTMENT OF PUBL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RANSPORT, ROADS AND WOR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8CAA-6C22-41D1-AEF0-49B73E5F1C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384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 u="sng">
                <a:solidFill>
                  <a:srgbClr val="edfe48"/>
                </a:solidFill>
                <a:uFillTx/>
                <a:latin typeface="Arial"/>
              </a:rPr>
              <a:t>MOTIVATION – OTHER ADVANTAGES</a:t>
            </a:r>
            <a:endParaRPr b="0" lang="en-US" sz="28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edfe48"/>
                </a:solidFill>
                <a:latin typeface="Arial"/>
              </a:rPr>
              <a:t>Reduced layerworks … limit damage to existing underground services ….. </a:t>
            </a: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edfe48"/>
                </a:solidFill>
                <a:latin typeface="Arial"/>
              </a:rPr>
              <a:t>Reduced costs and construction period</a:t>
            </a: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edfe48"/>
                </a:solidFill>
                <a:latin typeface="Arial"/>
              </a:rPr>
              <a:t>Environmental benefits – fly ash, waste product is used</a:t>
            </a: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edfe48"/>
                </a:solidFill>
                <a:latin typeface="Arial"/>
              </a:rPr>
              <a:t>Reduced the reliance on imported material</a:t>
            </a: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edfe48"/>
                </a:solidFill>
                <a:latin typeface="Arial"/>
              </a:rPr>
              <a:t>Training started on 20T – ensures sustainability</a:t>
            </a: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4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54040" y="189000"/>
            <a:ext cx="1496880" cy="1382760"/>
            <a:chOff x="554040" y="189000"/>
            <a:chExt cx="1496880" cy="1382760"/>
          </a:xfrm>
        </p:grpSpPr>
        <p:sp>
          <p:nvSpPr>
            <p:cNvPr id="101" name=""/>
            <p:cNvSpPr/>
            <p:nvPr/>
          </p:nvSpPr>
          <p:spPr>
            <a:xfrm>
              <a:off x="577440" y="189720"/>
              <a:ext cx="1448640" cy="138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eaeae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554040" y="189000"/>
            <a:ext cx="1496880" cy="138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4040" y="189000"/>
                      <a:ext cx="1496880" cy="138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4" name=""/>
          <p:cNvSpPr txBox="1"/>
          <p:nvPr/>
        </p:nvSpPr>
        <p:spPr>
          <a:xfrm>
            <a:off x="2411280" y="282600"/>
            <a:ext cx="630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AUTE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PARTMENT OF PUBL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RANSPORT, ROADS AND WOR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A1A55-6D94-49CB-84C9-F45B610AA6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ae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WHERE DID IT START?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2e4f"/>
                </a:solidFill>
                <a:uFillTx/>
                <a:latin typeface="Arial"/>
              </a:rPr>
              <a:t>IN IOWA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Case study presented at Conference in IOWA - road  comprising a 100mm un-reinforced and 100mm reinforced (6”x6”x </a:t>
            </a:r>
            <a:r>
              <a:rPr b="0" lang="en-GB" sz="2000" spc="-1" strike="noStrike" baseline="30000">
                <a:solidFill>
                  <a:srgbClr val="002e4f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/</a:t>
            </a:r>
            <a:r>
              <a:rPr b="0" lang="en-GB" sz="2000" spc="-1" strike="noStrike" baseline="-25000">
                <a:solidFill>
                  <a:srgbClr val="002e4f"/>
                </a:solidFill>
                <a:latin typeface="Arial"/>
              </a:rPr>
              <a:t>8</a:t>
            </a: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  mesh) pavement.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After 15 years, performance of mesh reinforced pavement was impressive (1 100 vpd 4 – 4,5 % heavy)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e4f"/>
                </a:solidFill>
                <a:latin typeface="Arial"/>
              </a:rPr>
              <a:t>Observations of main failures;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olated failures at areas with poor support “Mud spo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rter point” failures due to shaping -chamber to single sl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343400"/>
            <a:ext cx="777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e4f"/>
                </a:solidFill>
                <a:uFillTx/>
                <a:latin typeface="Arial"/>
              </a:rPr>
              <a:t>IN JO’BURG</a:t>
            </a:r>
            <a:endParaRPr b="0" lang="en-US" sz="2000" spc="-1" strike="noStrike">
              <a:solidFill>
                <a:srgbClr val="aeaea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e4f"/>
                </a:solidFill>
                <a:latin typeface="Arial"/>
              </a:rPr>
              <a:t>60 mm Concrete slab of the first floor slab of an old house, lightly reinforced with steel wires.</a:t>
            </a:r>
            <a:endParaRPr b="0" lang="en-US" sz="2000" spc="-1" strike="noStrike">
              <a:solidFill>
                <a:srgbClr val="aeaea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eaea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eae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78E8-AC06-4961-89C8-5EFDD60A5F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CAN IT WORK?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2e4f"/>
                </a:solidFill>
                <a:uFillTx/>
                <a:latin typeface="Arial"/>
              </a:rPr>
              <a:t>Reasoning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Detailed attention to support layers to prevent “mudspot” and “quarter point” failures.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e4f"/>
                </a:solidFill>
                <a:latin typeface="Arial"/>
              </a:rPr>
              <a:t>Expected performance of a continuously laid concrete pavement with limited steel mesh,  without joints  are: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joint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mited ingress of water at j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sible better spreading of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d33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nner and more flexible slab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4805-385A-4527-8FF1-E956A3CEED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120" y="380880"/>
            <a:ext cx="777384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287f0"/>
                </a:solidFill>
                <a:latin typeface="Arial"/>
              </a:rPr>
              <a:t>AREAS OF APPLICATION</a:t>
            </a:r>
            <a:endParaRPr b="0" lang="en-US" sz="3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08120" y="1550520"/>
            <a:ext cx="777384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Low volume access roads and streets – low maintenance (prior installation of other services)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Construction by labour and light plant 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4f"/>
                </a:solidFill>
                <a:latin typeface="Arial"/>
              </a:rPr>
              <a:t>Ideal for small contractors</a:t>
            </a:r>
            <a:endParaRPr b="0" lang="en-US" sz="2000" spc="-1" strike="noStrike">
              <a:solidFill>
                <a:srgbClr val="002e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623A-E6B6-4E23-B360-32058F242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0:51:20Z</dcterms:created>
  <dc:creator>: )</dc:creator>
  <dc:description/>
  <cp:keywords/>
  <dc:language>en-US</dc:language>
  <cp:lastModifiedBy>Johan</cp:lastModifiedBy>
  <cp:lastPrinted>2008-04-30T13:26:32Z</cp:lastPrinted>
  <dcterms:modified xsi:type="dcterms:W3CDTF">2008-05-05T18:52:00Z</dcterms:modified>
  <cp:revision>61</cp:revision>
  <dc:subject/>
  <dc:title>PowerPoint Presentation</dc:title>
</cp:coreProperties>
</file>