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B0D8-92FB-499E-B1AD-F33C20E1D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2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of the differences in carbon numbers and the differences in compound size that it produces, these products have different boiling points.  LPG with only 3-4 carbon atom compounds boils between -10 and 15C. Gasoline boils in the range 15 to 150C, lube oil in the range 370 to 525C and so on.  Bitumens start to boil in the range 450-550C, a typical value being 525C.  It is these differences in the boiling ranges that enables the different products to be separated by a process known as fractional distil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wing air through bitumen makes the bitumen harder, but also changes composition.  More about that later in this session.  Blowing may be used either to take a soft bitumen and make it harder, because you haven’t got the distillation ability to cut deep enough to make it to the desired grade.  Or you can take a bitumen which would be slightly out of spec, and bring it in spec.  Also used to make PPA into bitu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D95-413C-4143-AB3F-F1E52FD6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8EB-1C18-47AA-A9FB-1CDA6B69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B72-8DD2-42BD-824C-1543319C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54E-B0F3-4B3F-9417-C870F7AB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134-D27D-4FED-A135-BC45FECF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595-70CB-4EA3-A5E5-88E44A9C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8F8-F7DB-491D-B4EF-2207DCEA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752-4304-4736-B66D-9A722481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65E-D149-495D-85BE-2F39EB2A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F3E-4F86-41A3-A5D3-6488656E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54B-7CA2-47F8-B40F-466F5357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D06-976D-4D34-B936-85EAAC81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D665-109D-4FAB-A33C-C97A9F1F5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atus of bitumen suppli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624720" cy="503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04080" y="5724360"/>
            <a:ext cx="13399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itumen refining capac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422360"/>
            <a:ext cx="79200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verview of local deman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has declined from 400k tons in late ’80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uctuated around 250k tons (+-%5) over past 5 ye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enced dramatic growth of 17.5 % in 2006 to 308k t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growth continues at 17% then capacity will be reached by end 2010 i.e. 561k t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s affecting local demand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ort term fluct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asonal climatic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Use of emulsions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ncial year 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ncrease budget period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ual construction shut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Reduce the length of S/D period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Rather S/D in winter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itumen consumption in 2006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8000" y="1938240"/>
            <a:ext cx="8856720" cy="3789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284720" y="2133720"/>
            <a:ext cx="50328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84720" y="2133720"/>
            <a:ext cx="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1773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270828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2708280"/>
            <a:ext cx="43164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0920" y="3357720"/>
            <a:ext cx="0" cy="50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08360" y="285264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72360" y="2781360"/>
            <a:ext cx="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2349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28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3640" y="3068640"/>
            <a:ext cx="676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actors affecting suppl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ort te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duling of refinery shutdow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Unavoidable to spread to accommodate international expertise required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ed storage and loading capa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crease dispatching capacity to improve turnaround time of road tanker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ading bulk bitumen into shi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rection of bulk tankage at wharfage to reduce peak demand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onger term issu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ture position of Natref towards refining bitu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rting of bitu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rting of bitu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fficient refining capacity to meet future demand b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ocessing increasing percentages of residual crude oil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creased investment in blending and dispatching facilities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urrent supply situ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pr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Unable to produce since SD at end of last year due to a fir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r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ced to reduce production levels by half due to lightening strike in Dec on one of the crude tank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amaged tank repaired and back to normal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te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D for 6 weeks from 19 March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anaged to supply bitumen during SD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s up for first quarter by 25%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ort term availabil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pref &amp; Calte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Expect to return to full production shortly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tre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SD planned from 8 May to 16 June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Limited stocks available until end May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Bitumen only available early July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g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SD planned from 4 June to 6 July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Limited stocks will be available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fficient inherent refinery capacity to meet dem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ineries need 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Upgrade dispatching capacity to improve turnaround time of road tankers during peak demand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crease blending capacity to cope with increased long term demand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e marketers need 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ore flexible wrt export order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ary producers need 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crease their own bitumen storage capacity to cope with peak demand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ad authorities need 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pread periodic road maintenance over the year to reduce peak demand on resource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384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5e01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268280"/>
            <a:ext cx="68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5e0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017"/>
                </a:solidFill>
                <a:latin typeface="Arial"/>
              </a:rPr>
              <a:t>Presidential task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5e0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017"/>
                </a:solidFill>
                <a:latin typeface="Arial"/>
              </a:rPr>
              <a:t>Overview of bitumen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5e0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017"/>
                </a:solidFill>
                <a:latin typeface="Arial"/>
              </a:rPr>
              <a:t>Overview of bitume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5e0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017"/>
                </a:solidFill>
                <a:latin typeface="Arial"/>
              </a:rPr>
              <a:t>Factors influencing demand/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5e0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017"/>
                </a:solidFill>
                <a:latin typeface="Arial"/>
              </a:rPr>
              <a:t>Current supply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esidential task tea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 of ASGISA is increased investment in infrastructure to meet economic growth goal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vernment concerned about key inputs for construction i.e. materials, equipment &amp; ski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ed to study and identify ways to deal with possible bottlene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itiative is to support the achievement of the targets set in ASGISA through the participation of indus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03280" y="743040"/>
          <a:ext cx="649440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743040"/>
                    <a:ext cx="649440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763640" y="112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tumen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46720" y="159552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abo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90120" y="99864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nd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24200" y="233208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ohannes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44280" y="577368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ssel B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35240" y="51544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ldan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9760" y="571356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pe T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08560" y="204300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86160" y="243360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ba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5440" y="214164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p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02040" y="5167440"/>
            <a:ext cx="125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ast Lon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12920" y="56880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rt Elizabe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42360" y="328464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ich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70160" y="402444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urb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2880" y="359244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loemfont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97280" y="331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imber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9360" y="38592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se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37840" y="37036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fa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87156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ss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13760" y="145584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ieters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384280" y="2617920"/>
            <a:ext cx="6511320" cy="3140280"/>
            <a:chOff x="2384280" y="2617920"/>
            <a:chExt cx="6511320" cy="3140280"/>
          </a:xfrm>
        </p:grpSpPr>
        <p:sp>
          <p:nvSpPr>
            <p:cNvPr id="80" name=""/>
            <p:cNvSpPr/>
            <p:nvPr/>
          </p:nvSpPr>
          <p:spPr>
            <a:xfrm>
              <a:off x="6618240" y="4086360"/>
              <a:ext cx="174600" cy="1648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94560" y="3886200"/>
              <a:ext cx="174600" cy="16524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56240" y="2833560"/>
              <a:ext cx="174600" cy="16524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84280" y="5538960"/>
              <a:ext cx="174600" cy="1648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6920" y="2617920"/>
              <a:ext cx="174600" cy="1648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53560" y="2814480"/>
              <a:ext cx="84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Crude o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refin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21800" y="417348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Sapr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960" y="548172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Calr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51120" y="3639960"/>
              <a:ext cx="5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Enr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9400" y="291636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Natr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543840" y="2119320"/>
            <a:ext cx="5297040" cy="3635280"/>
            <a:chOff x="3543840" y="2119320"/>
            <a:chExt cx="5297040" cy="3635280"/>
          </a:xfrm>
        </p:grpSpPr>
        <p:sp>
          <p:nvSpPr>
            <p:cNvPr id="91" name=""/>
            <p:cNvSpPr/>
            <p:nvPr/>
          </p:nvSpPr>
          <p:spPr>
            <a:xfrm>
              <a:off x="3666960" y="5589720"/>
              <a:ext cx="174960" cy="164880"/>
            </a:xfrm>
            <a:prstGeom prst="ellipse">
              <a:avLst/>
            </a:prstGeom>
            <a:solidFill>
              <a:srgbClr val="0000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73600" y="2681280"/>
              <a:ext cx="174600" cy="165240"/>
            </a:xfrm>
            <a:prstGeom prst="ellipse">
              <a:avLst/>
            </a:prstGeom>
            <a:solidFill>
              <a:srgbClr val="0000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57880" y="2503440"/>
              <a:ext cx="174600" cy="165240"/>
            </a:xfrm>
            <a:prstGeom prst="ellipse">
              <a:avLst/>
            </a:prstGeom>
            <a:solidFill>
              <a:srgbClr val="0000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73880" y="2401920"/>
              <a:ext cx="174600" cy="165240"/>
            </a:xfrm>
            <a:prstGeom prst="ellipse">
              <a:avLst/>
            </a:prstGeom>
            <a:solidFill>
              <a:srgbClr val="0000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6920" y="3684600"/>
              <a:ext cx="174600" cy="165240"/>
            </a:xfrm>
            <a:prstGeom prst="ellipse">
              <a:avLst/>
            </a:prstGeom>
            <a:solidFill>
              <a:srgbClr val="0000ff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8640" y="3881520"/>
              <a:ext cx="73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ynfu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pl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43840" y="533232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osg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1800" y="2614680"/>
              <a:ext cx="9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ecu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23320" y="211932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as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86480" y="2550960"/>
              <a:ext cx="105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asolbu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illation of crude oil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002040" y="4844880"/>
            <a:ext cx="2736720" cy="79380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60640" y="4143240"/>
            <a:ext cx="2803680" cy="57240"/>
          </a:xfrm>
          <a:prstGeom prst="rect">
            <a:avLst/>
          </a:prstGeom>
          <a:solidFill>
            <a:srgbClr val="cc6600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990880" y="4626000"/>
            <a:ext cx="2752560" cy="853920"/>
            <a:chOff x="2990880" y="4626000"/>
            <a:chExt cx="2752560" cy="853920"/>
          </a:xfrm>
        </p:grpSpPr>
        <p:sp>
          <p:nvSpPr>
            <p:cNvPr id="105" name=""/>
            <p:cNvSpPr/>
            <p:nvPr/>
          </p:nvSpPr>
          <p:spPr>
            <a:xfrm>
              <a:off x="3025800" y="4943520"/>
              <a:ext cx="2682720" cy="536400"/>
            </a:xfrm>
            <a:prstGeom prst="ellipse">
              <a:avLst/>
            </a:prstGeom>
            <a:solidFill>
              <a:srgbClr val="00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90880" y="4626000"/>
              <a:ext cx="2752560" cy="590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025800" y="4381560"/>
            <a:ext cx="2682720" cy="67608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90880" y="4102200"/>
            <a:ext cx="2752560" cy="590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92320" y="3921120"/>
            <a:ext cx="2737080" cy="612720"/>
          </a:xfrm>
          <a:prstGeom prst="ellipse">
            <a:avLst/>
          </a:prstGeom>
          <a:solidFill>
            <a:srgbClr val="ff9933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990880" y="3559320"/>
            <a:ext cx="2752560" cy="853560"/>
            <a:chOff x="2990880" y="3559320"/>
            <a:chExt cx="2752560" cy="853560"/>
          </a:xfrm>
        </p:grpSpPr>
        <p:sp>
          <p:nvSpPr>
            <p:cNvPr id="111" name=""/>
            <p:cNvSpPr/>
            <p:nvPr/>
          </p:nvSpPr>
          <p:spPr>
            <a:xfrm>
              <a:off x="3025800" y="3876480"/>
              <a:ext cx="2682720" cy="536400"/>
            </a:xfrm>
            <a:prstGeom prst="ellipse">
              <a:avLst/>
            </a:prstGeom>
            <a:solidFill>
              <a:srgbClr val="333399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90880" y="3559320"/>
              <a:ext cx="2752560" cy="5904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25800" y="3502080"/>
            <a:ext cx="2682720" cy="612720"/>
          </a:xfrm>
          <a:prstGeom prst="ellipse">
            <a:avLst/>
          </a:prstGeom>
          <a:solidFill>
            <a:srgbClr val="333399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90880" y="3225960"/>
            <a:ext cx="2752560" cy="59040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95560" y="2930400"/>
            <a:ext cx="2733840" cy="5605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63880" y="3139920"/>
            <a:ext cx="2800440" cy="57240"/>
          </a:xfrm>
          <a:prstGeom prst="rect">
            <a:avLst/>
          </a:prstGeom>
          <a:solidFill>
            <a:srgbClr val="cc0066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90880" y="2546280"/>
            <a:ext cx="2752560" cy="853920"/>
            <a:chOff x="2990880" y="2546280"/>
            <a:chExt cx="2752560" cy="853920"/>
          </a:xfrm>
        </p:grpSpPr>
        <p:sp>
          <p:nvSpPr>
            <p:cNvPr id="118" name=""/>
            <p:cNvSpPr/>
            <p:nvPr/>
          </p:nvSpPr>
          <p:spPr>
            <a:xfrm>
              <a:off x="3025800" y="2863800"/>
              <a:ext cx="2682720" cy="536400"/>
            </a:xfrm>
            <a:prstGeom prst="ellipse">
              <a:avLst/>
            </a:prstGeom>
            <a:solidFill>
              <a:srgbClr val="009999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90880" y="2546280"/>
              <a:ext cx="2752560" cy="59040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025800" y="2505240"/>
            <a:ext cx="2682720" cy="53640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0880" y="2441520"/>
            <a:ext cx="2752560" cy="308160"/>
          </a:xfrm>
          <a:prstGeom prst="rect">
            <a:avLst/>
          </a:prstGeom>
          <a:solidFill>
            <a:srgbClr val="99cc00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22560" y="2165400"/>
            <a:ext cx="2689200" cy="5364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2184480"/>
            <a:ext cx="2759040" cy="244440"/>
          </a:xfrm>
          <a:prstGeom prst="rect">
            <a:avLst/>
          </a:prstGeom>
          <a:solidFill>
            <a:srgbClr val="bbe0e3"/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02040" y="1892160"/>
            <a:ext cx="2730600" cy="5367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02040" y="1914480"/>
            <a:ext cx="2730600" cy="536760"/>
          </a:xfrm>
          <a:prstGeom prst="ellipse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9440" y="1851120"/>
            <a:ext cx="2755800" cy="55224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60640" y="2797560"/>
            <a:ext cx="2810880" cy="66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3" y="7658"/>
                </a:moveTo>
                <a:arcTo wR="10800" hR="10800" stAng="-1014678" swAng="12774577"/>
                <a:lnTo>
                  <a:pt x="10800" y="10800"/>
                </a:lnTo>
                <a:close/>
              </a:path>
              <a:path fill="none" w="21600" h="21600">
                <a:moveTo>
                  <a:pt x="21133" y="7658"/>
                </a:moveTo>
                <a:arcTo wR="10800" hR="10800" stAng="-1014678" swAng="12774577"/>
              </a:path>
            </a:pathLst>
          </a:custGeom>
          <a:solidFill>
            <a:srgbClr val="009999"/>
          </a:solidFill>
          <a:ln cap="rnd"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92320" y="3036960"/>
            <a:ext cx="95400" cy="1299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48400" y="2984400"/>
            <a:ext cx="95040" cy="111240"/>
          </a:xfrm>
          <a:prstGeom prst="rect">
            <a:avLst/>
          </a:prstGeom>
          <a:solidFill>
            <a:srgbClr val="009999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19320" y="5041800"/>
            <a:ext cx="69840" cy="66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45160" y="4959360"/>
            <a:ext cx="95400" cy="130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59200" y="3754080"/>
            <a:ext cx="2812680" cy="75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15" y="7601"/>
                </a:moveTo>
                <a:arcTo wR="10800" hR="10800" stAng="-1033723" swAng="12805866"/>
                <a:lnTo>
                  <a:pt x="10800" y="10800"/>
                </a:lnTo>
                <a:close/>
              </a:path>
              <a:path fill="none" w="21600" h="21600">
                <a:moveTo>
                  <a:pt x="21115" y="7601"/>
                </a:moveTo>
                <a:arcTo wR="10800" hR="10800" stAng="-1033723" swAng="12805866"/>
              </a:path>
            </a:pathLst>
          </a:custGeom>
          <a:solidFill>
            <a:srgbClr val="333399"/>
          </a:solidFill>
          <a:ln cap="rnd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67120" y="5187960"/>
            <a:ext cx="2806560" cy="5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68560" y="4845600"/>
            <a:ext cx="2812680" cy="66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4" y="7660"/>
                </a:moveTo>
                <a:arcTo wR="10800" hR="10800" stAng="-1014088" swAng="12774500"/>
                <a:lnTo>
                  <a:pt x="10800" y="10800"/>
                </a:lnTo>
                <a:close/>
              </a:path>
              <a:path fill="none" w="21600" h="21600">
                <a:moveTo>
                  <a:pt x="21134" y="7660"/>
                </a:moveTo>
                <a:arcTo wR="10800" hR="10800" stAng="-1014088" swAng="12774500"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80960" y="2468520"/>
            <a:ext cx="573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35880" y="2779560"/>
            <a:ext cx="800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4600" y="3160800"/>
            <a:ext cx="1000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f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6520" y="3713040"/>
            <a:ext cx="800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e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90720" y="4165560"/>
            <a:ext cx="1261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ubric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29800" y="4672080"/>
            <a:ext cx="15642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avy fuel o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21400" y="5227560"/>
            <a:ext cx="1056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it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0840" y="587700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itumen is between 1-4% of crude oil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Typical bitumen manufac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2292480" y="3668760"/>
            <a:ext cx="369720" cy="30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6920" y="2533680"/>
            <a:ext cx="84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He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cr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90840" y="1809720"/>
            <a:ext cx="425160" cy="1372680"/>
            <a:chOff x="1590840" y="1809720"/>
            <a:chExt cx="425160" cy="1372680"/>
          </a:xfrm>
        </p:grpSpPr>
        <p:sp>
          <p:nvSpPr>
            <p:cNvPr id="147" name=""/>
            <p:cNvSpPr/>
            <p:nvPr/>
          </p:nvSpPr>
          <p:spPr>
            <a:xfrm>
              <a:off x="1590840" y="1809720"/>
              <a:ext cx="425160" cy="274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e5e5e5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90840" y="2908080"/>
              <a:ext cx="425160" cy="274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e5e5e5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90840" y="1960200"/>
              <a:ext cx="425160" cy="1077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e5e5e5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125360" y="2862360"/>
            <a:ext cx="387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90680" y="2725560"/>
            <a:ext cx="425520" cy="1373400"/>
            <a:chOff x="2290680" y="2725560"/>
            <a:chExt cx="425520" cy="1373400"/>
          </a:xfrm>
        </p:grpSpPr>
        <p:sp>
          <p:nvSpPr>
            <p:cNvPr id="152" name=""/>
            <p:cNvSpPr/>
            <p:nvPr/>
          </p:nvSpPr>
          <p:spPr>
            <a:xfrm>
              <a:off x="2290680" y="2725560"/>
              <a:ext cx="425520" cy="274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e5e5e5"/>
                </a:gs>
                <a:gs pos="100000">
                  <a:srgbClr val="808080"/>
                </a:gs>
              </a:gsLst>
              <a:lin ang="108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90680" y="3824280"/>
              <a:ext cx="425520" cy="274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e5e5e5"/>
                </a:gs>
                <a:gs pos="100000">
                  <a:srgbClr val="808080"/>
                </a:gs>
              </a:gsLst>
              <a:lin ang="108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90680" y="2876400"/>
              <a:ext cx="425520" cy="1077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e5e5e5"/>
                </a:gs>
                <a:gs pos="100000">
                  <a:srgbClr val="808080"/>
                </a:gs>
              </a:gsLst>
              <a:lin ang="108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01760" y="2085840"/>
            <a:ext cx="1216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10040" y="1271520"/>
            <a:ext cx="1418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mosphe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408640" y="5024520"/>
            <a:ext cx="1463760" cy="723960"/>
            <a:chOff x="5408640" y="5024520"/>
            <a:chExt cx="1463760" cy="723960"/>
          </a:xfrm>
        </p:grpSpPr>
        <p:grpSp>
          <p:nvGrpSpPr>
            <p:cNvPr id="158" name=""/>
            <p:cNvGrpSpPr/>
            <p:nvPr/>
          </p:nvGrpSpPr>
          <p:grpSpPr>
            <a:xfrm>
              <a:off x="5408640" y="5024520"/>
              <a:ext cx="1463760" cy="723960"/>
              <a:chOff x="5408640" y="5024520"/>
              <a:chExt cx="1463760" cy="723960"/>
            </a:xfrm>
          </p:grpSpPr>
          <p:sp>
            <p:nvSpPr>
              <p:cNvPr id="159" name=""/>
              <p:cNvSpPr/>
              <p:nvPr/>
            </p:nvSpPr>
            <p:spPr>
              <a:xfrm>
                <a:off x="5413680" y="5157720"/>
                <a:ext cx="1458720" cy="5907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9898cb"/>
                  </a:gs>
                  <a:gs pos="100000">
                    <a:srgbClr val="333399"/>
                  </a:gs>
                </a:gsLst>
                <a:lin ang="10800000"/>
              </a:gra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08640" y="5024520"/>
                <a:ext cx="1462320" cy="127080"/>
              </a:xfrm>
              <a:custGeom>
                <a:avLst/>
                <a:gdLst/>
                <a:ahLst/>
                <a:rect l="l" t="t" r="r" b="b"/>
                <a:pathLst>
                  <a:path w="921" h="80">
                    <a:moveTo>
                      <a:pt x="0" y="75"/>
                    </a:moveTo>
                    <a:lnTo>
                      <a:pt x="472" y="0"/>
                    </a:lnTo>
                    <a:lnTo>
                      <a:pt x="920" y="79"/>
                    </a:lnTo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9898cb"/>
                  </a:gs>
                  <a:gs pos="100000">
                    <a:srgbClr val="333399"/>
                  </a:gs>
                </a:gsLst>
                <a:lin ang="10800000"/>
              </a:gradFill>
              <a:ln cap="rnd"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831280" y="5302080"/>
              <a:ext cx="64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372280" y="2654280"/>
            <a:ext cx="1463040" cy="723960"/>
            <a:chOff x="5372280" y="2654280"/>
            <a:chExt cx="1463040" cy="723960"/>
          </a:xfrm>
        </p:grpSpPr>
        <p:grpSp>
          <p:nvGrpSpPr>
            <p:cNvPr id="163" name=""/>
            <p:cNvGrpSpPr/>
            <p:nvPr/>
          </p:nvGrpSpPr>
          <p:grpSpPr>
            <a:xfrm>
              <a:off x="5372280" y="2654280"/>
              <a:ext cx="1463040" cy="723960"/>
              <a:chOff x="5372280" y="2654280"/>
              <a:chExt cx="1463040" cy="723960"/>
            </a:xfrm>
          </p:grpSpPr>
          <p:sp>
            <p:nvSpPr>
              <p:cNvPr id="164" name=""/>
              <p:cNvSpPr/>
              <p:nvPr/>
            </p:nvSpPr>
            <p:spPr>
              <a:xfrm>
                <a:off x="5376960" y="2787480"/>
                <a:ext cx="1458360" cy="59076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e4f2f3"/>
                  </a:gs>
                  <a:gs pos="100000">
                    <a:srgbClr val="bbe0e3"/>
                  </a:gs>
                </a:gsLst>
                <a:lin ang="10800000"/>
              </a:gradFill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72280" y="2654280"/>
                <a:ext cx="1461960" cy="127080"/>
              </a:xfrm>
              <a:custGeom>
                <a:avLst/>
                <a:gdLst/>
                <a:ahLst/>
                <a:rect l="l" t="t" r="r" b="b"/>
                <a:pathLst>
                  <a:path w="921" h="80">
                    <a:moveTo>
                      <a:pt x="0" y="75"/>
                    </a:moveTo>
                    <a:lnTo>
                      <a:pt x="472" y="0"/>
                    </a:lnTo>
                    <a:lnTo>
                      <a:pt x="920" y="79"/>
                    </a:lnTo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ecf6f6"/>
                  </a:gs>
                  <a:gs pos="100000">
                    <a:srgbClr val="bbe0e3"/>
                  </a:gs>
                </a:gsLst>
                <a:lin ang="10800000"/>
              </a:gradFill>
              <a:ln cap="rnd" w="255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5816880" y="2931840"/>
              <a:ext cx="57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of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02440" y="4216320"/>
            <a:ext cx="285840" cy="285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39400" y="4626000"/>
            <a:ext cx="171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itumen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53" idx="4"/>
            <a:endCxn id="164" idx="1"/>
          </p:cNvCxnSpPr>
          <p:nvPr/>
        </p:nvCxnSpPr>
        <p:spPr>
          <a:xfrm flipH="1" flipV="1" rot="5400000">
            <a:off x="3425400" y="2160360"/>
            <a:ext cx="1016640" cy="2861280"/>
          </a:xfrm>
          <a:prstGeom prst="bentConnector4">
            <a:avLst>
              <a:gd name="adj1" fmla="val -22493"/>
              <a:gd name="adj2" fmla="val 26349"/>
            </a:avLst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70" name=""/>
          <p:cNvGrpSpPr/>
          <p:nvPr/>
        </p:nvGrpSpPr>
        <p:grpSpPr>
          <a:xfrm>
            <a:off x="4383000" y="3778200"/>
            <a:ext cx="425520" cy="1373400"/>
            <a:chOff x="4383000" y="3778200"/>
            <a:chExt cx="425520" cy="1373400"/>
          </a:xfrm>
        </p:grpSpPr>
        <p:sp>
          <p:nvSpPr>
            <p:cNvPr id="171" name=""/>
            <p:cNvSpPr/>
            <p:nvPr/>
          </p:nvSpPr>
          <p:spPr>
            <a:xfrm>
              <a:off x="4383000" y="3778200"/>
              <a:ext cx="425520" cy="274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e5e5e5"/>
                </a:gs>
                <a:gs pos="100000">
                  <a:srgbClr val="808080"/>
                </a:gs>
              </a:gsLst>
              <a:lin ang="108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83000" y="4876920"/>
              <a:ext cx="425520" cy="274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e5e5e5"/>
                </a:gs>
                <a:gs pos="100000">
                  <a:srgbClr val="808080"/>
                </a:gs>
              </a:gsLst>
              <a:lin ang="108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83000" y="3929040"/>
              <a:ext cx="425520" cy="1077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e5e5e5"/>
                </a:gs>
                <a:gs pos="100000">
                  <a:srgbClr val="808080"/>
                </a:gs>
              </a:gsLst>
              <a:lin ang="10800000"/>
            </a:gradFill>
            <a:ln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4" name=""/>
          <p:cNvCxnSpPr>
            <a:stCxn id="148" idx="4"/>
            <a:endCxn id="144" idx="1"/>
          </p:cNvCxnSpPr>
          <p:nvPr/>
        </p:nvCxnSpPr>
        <p:spPr>
          <a:xfrm flipH="1" rot="16200000">
            <a:off x="1728000" y="3256200"/>
            <a:ext cx="637560" cy="4896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5" name=""/>
          <p:cNvCxnSpPr>
            <a:stCxn id="164" idx="2"/>
            <a:endCxn id="173" idx="1"/>
          </p:cNvCxnSpPr>
          <p:nvPr/>
        </p:nvCxnSpPr>
        <p:spPr>
          <a:xfrm rot="5400000">
            <a:off x="4705560" y="3067560"/>
            <a:ext cx="1078200" cy="1724760"/>
          </a:xfrm>
          <a:prstGeom prst="bentConnector4">
            <a:avLst>
              <a:gd name="adj1" fmla="val 24281"/>
              <a:gd name="adj2" fmla="val 113256"/>
            </a:avLst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6" name=""/>
          <p:cNvCxnSpPr>
            <a:stCxn id="172" idx="4"/>
            <a:endCxn id="159" idx="1"/>
          </p:cNvCxnSpPr>
          <p:nvPr/>
        </p:nvCxnSpPr>
        <p:spPr>
          <a:xfrm flipH="1" rot="16200000">
            <a:off x="4847400" y="4899240"/>
            <a:ext cx="302040" cy="8056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7" name=""/>
          <p:cNvCxnSpPr>
            <a:stCxn id="164" idx="3"/>
            <a:endCxn id="167" idx="0"/>
          </p:cNvCxnSpPr>
          <p:nvPr/>
        </p:nvCxnSpPr>
        <p:spPr>
          <a:xfrm>
            <a:off x="6848640" y="3082680"/>
            <a:ext cx="397440" cy="11214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8" name=""/>
          <p:cNvCxnSpPr>
            <a:stCxn id="159" idx="3"/>
            <a:endCxn id="167" idx="4"/>
          </p:cNvCxnSpPr>
          <p:nvPr/>
        </p:nvCxnSpPr>
        <p:spPr>
          <a:xfrm flipV="1">
            <a:off x="6884640" y="4514400"/>
            <a:ext cx="361080" cy="9388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9" name=""/>
          <p:cNvSpPr/>
          <p:nvPr/>
        </p:nvSpPr>
        <p:spPr>
          <a:xfrm>
            <a:off x="7424640" y="4346640"/>
            <a:ext cx="387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2560" y="4054320"/>
            <a:ext cx="967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lo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4365720"/>
            <a:ext cx="0" cy="288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19280" y="602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unker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47640" y="4653000"/>
            <a:ext cx="1838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verview of bitumen suppl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4 crude oil refineries that manufacture bitu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Between 1 – 4% of crude oil is used for bitum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of residue not used for bitumen is processed into BFO (i.e. 15 – 25%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tumen production has exceeded local dem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% of capacity situated at Durban resulting in exports mainly to Indian Ocean Isla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upply of bitumen in 2006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1432080"/>
            <a:ext cx="84960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itumen refining capac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 capacity = +-725k t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are capacity = +-253k ton if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Refineries increase storage and loading capacity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Natref continue to produce at same rate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No increase in export volumes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61k ton available for local mark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0:16:04Z</dcterms:created>
  <dc:creator>trevor</dc:creator>
  <dc:description/>
  <dc:language>en-US</dc:language>
  <cp:lastModifiedBy>trevor</cp:lastModifiedBy>
  <dcterms:modified xsi:type="dcterms:W3CDTF">2007-05-08T06:49:02Z</dcterms:modified>
  <cp:revision>14</cp:revision>
  <dc:subject/>
  <dc:title>Challenges facing capacity in the supply of bitumen</dc:title>
</cp:coreProperties>
</file>