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3DA-85F2-4AF1-95D4-8B180A94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F5A-38A7-49AF-81B5-3A65E624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567-3333-4AFB-A19B-2363495B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D2A-F9AD-4CCE-8406-52653E9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D570-A6F3-43B0-9BFC-4994F790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841-DEC8-47DF-88C4-5DF4CAA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4F9-A378-46E3-9E01-975222F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E6D-09F7-4A05-91E5-6BC2841A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A8A2-5A36-4BE6-81F8-6BAE969F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0F41-724D-41ED-BB54-731993A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CF99-6E2F-47C1-81B8-BA4E7C6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37F-2F41-4260-8CB5-C73A66E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F6F-408E-4238-9B65-432BE82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22E2-064D-4C2D-8AC3-2CDA8B12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C163-086C-4DF8-9D26-C6054B1F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F690-44BE-4940-A4DC-33FF1F25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C6F-DD56-4020-A687-EE76118C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25B-F29B-4AD6-9FE4-EC1ADFB9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CD0-FBCC-4AE1-ADAD-AAD37A08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E5A-0A1A-48C6-A14B-5BAF046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F39-E1F2-4748-843D-C7B794E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520-B32A-456A-9A02-1AC92B29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885-AEFF-4DC1-8324-7667A7C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A70-3A87-4C40-82AD-8EC50BAC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5EB6-C812-4932-9951-79A5E44B71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1019160" cy="106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1019160" cy="1065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368C-62B7-4FE9-8076-156259A9D4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ac.co.za/" TargetMode="External"/><Relationship Id="rId2" Type="http://schemas.openxmlformats.org/officeDocument/2006/relationships/hyperlink" Target="http://www.prac.co.za/" TargetMode="External"/><Relationship Id="rId3" Type="http://schemas.openxmlformats.org/officeDocument/2006/relationships/hyperlink" Target="http://www.prac.co.za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vision of the SA flexible pavement design metho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42920" y="3789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 Pavements Fo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 Novemb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L They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cess to d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994040"/>
            <a:ext cx="817236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PF and RPRAC task team established May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&amp;D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ed to RPRAC – November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ed R&amp;D focus areas and n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brie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 – October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workshop – December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cess to date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994040"/>
            <a:ext cx="8067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ption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&amp;D projects – May to June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 project – August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view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f Molen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f Hugo and t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view completed – November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ception Pha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640" y="1994040"/>
            <a:ext cx="8067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2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ut 40 team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d in 3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ion in a number of ph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vision due end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ception Phase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994040"/>
            <a:ext cx="8067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ing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55 million total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41,7 million until end 2009 (includes certain long-term compon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21,9 million for tasks directly related to delivery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vision end 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RAL R 25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nex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994040"/>
            <a:ext cx="8067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m leaders meeting planned for early Decemb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review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de on pri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ise projec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s to contin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ing al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lease take no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PBIS and PN concept are part of the revised design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of the projects are traffic re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(almost all) of the projects have a statistical approach and are not deterministic in 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documentation (inception and review reports) available on RPRAC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prac.co.za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0:27:13Z</dcterms:created>
  <dc:creator>Theyse</dc:creator>
  <dc:description/>
  <dc:language>en-US</dc:language>
  <cp:lastModifiedBy>Theyse</cp:lastModifiedBy>
  <dcterms:modified xsi:type="dcterms:W3CDTF">2007-11-20T07:37:08Z</dcterms:modified>
  <cp:revision>30</cp:revision>
  <dc:subject/>
  <dc:title>Slide 1</dc:title>
</cp:coreProperties>
</file>