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12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10363" cy="9845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B34-88D3-49A3-9026-3C9C9B9D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315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4143960"/>
            <a:ext cx="7315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232-9C90-489D-B09D-6CE25413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41439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96600" y="41439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F67B-A3D4-44ED-AE85-61BFE024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21120" y="16761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4320" y="16761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41439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21120" y="41439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4320" y="41439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F78-EF12-45FE-8627-ED636A65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D20C-9FAD-4238-AEFC-0E65B968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761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6B95-3C2D-4442-810A-E2A17F90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C1D8-F0AF-41BF-B5D3-B70B513D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63FC-40F2-4F2D-8AC5-5288845B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5279-1DE8-4461-8CE2-1A5DD5CF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47920" y="304560"/>
            <a:ext cx="7315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C10F-F674-46EE-82EE-E101A57C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41439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92AD-8C8A-474F-B7F9-621311A1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16761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9F0-2FA0-4980-8131-01835CF3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96600" y="41439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6A69-90AC-4F0C-B2C4-63FA2C8A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4143960"/>
            <a:ext cx="7315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4F65-2366-4033-9A4D-3F4E63E3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315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4143960"/>
            <a:ext cx="7315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098C-11DD-406E-8FEC-E4D0C7DC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41439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96600" y="41439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0504-9EAE-4901-B054-613E68FC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21120" y="16761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4320" y="16761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41439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21120" y="41439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4320" y="4143960"/>
            <a:ext cx="2355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A7E6-F083-4365-9B59-3CA2EC63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3A8-A6AA-4034-A8F7-284E729E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7EC-6694-43E1-97CC-158F08AA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E1B-843E-44B6-9F49-FD32B696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304560"/>
            <a:ext cx="7315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966-26E2-4F41-A7CD-49DAB8D7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41439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004-EF09-4450-B9BB-4AAF4A6E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96600" y="41439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0F7B-8C84-49A7-A858-D54EAE2E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6600" y="1676160"/>
            <a:ext cx="35697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4143960"/>
            <a:ext cx="7315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11B-CC2C-4880-9F71-A51D0982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6761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160" y="6400800"/>
            <a:ext cx="1447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9416-630A-4B47-8BB6-D0BFFECE51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112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066680"/>
            <a:ext cx="1371600" cy="5791320"/>
          </a:xfrm>
          <a:prstGeom prst="rect">
            <a:avLst/>
          </a:prstGeom>
          <a:gradFill rotWithShape="0">
            <a:gsLst>
              <a:gs pos="0">
                <a:srgbClr val="614d3a"/>
              </a:gs>
              <a:gs pos="50000">
                <a:srgbClr val="d4a97e"/>
              </a:gs>
              <a:gs pos="100000">
                <a:srgbClr val="614d3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28600" y="1447920"/>
            <a:ext cx="838080" cy="66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830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6233-78E4-41CB-95E6-915A613FD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1880" y="1557000"/>
            <a:ext cx="7746840" cy="360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NDARDS AND SPECIFICATIO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TRH; TMH and COLTO)</a:t>
            </a:r>
            <a:br>
              <a:rPr sz="1600"/>
            </a:br>
            <a:br>
              <a:rPr sz="16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66920" y="472428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43800" y="472428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366920" y="0"/>
            <a:ext cx="1546200" cy="206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6981840" y="0"/>
          <a:ext cx="2162160" cy="184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81840" y="0"/>
                    <a:ext cx="216216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F9B-A6B7-465B-911B-F1D96952B682}" type="slidenum">
              <a:t>1</a:t>
            </a:fld>
          </a:p>
        </p:txBody>
      </p:sp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a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08000" y="4508280"/>
            <a:ext cx="3816360" cy="1276200"/>
          </a:xfrm>
          <a:prstGeom prst="rect">
            <a:avLst/>
          </a:prstGeom>
          <a:solidFill>
            <a:srgbClr val="808080">
              <a:alpha val="4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.nra.co.z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0F2-CDAF-42EF-9831-B931162E5F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372080" cy="15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tee (Messrs Perrie, Sadzik and van der Walt) delegated to have meeting with NDOT and SAN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k place on 4 December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vail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RH and TMH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should tak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ponsibility for revision and/or upgra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se documents and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uthority will accept responsibility for furth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se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1371600"/>
            <a:ext cx="723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435-0468-4103-A6C5-46A232CA95A5}" type="slidenum">
              <a:t>2</a:t>
            </a:fld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372080" cy="15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LUTION TAKEN AT MEETING</a:t>
            </a:r>
            <a:br>
              <a:rPr sz="20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IL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ANRAL and NDOT will place existing TRH and TMH on their respective websites for the industry use and down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SION AND UPGR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ill take place according to a list of priority needs that was completed by NDOT with assistance of R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C to manage process and to obtain sponsors for the upgrading of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371600"/>
            <a:ext cx="723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FA7-6AF2-4ADF-B73E-6AAA49BE4505}" type="slidenum">
              <a:t>3</a:t>
            </a:fld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372080" cy="15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LUTION TAKEN AT MEETING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ustodian of all TRH and TMH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OT will obtain ratification for revised TRH and TMH documents in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ed need for upgrading/revision of COLTO Standard Specifications for Roads and Bridge Works for State Road Authorities (1998 ed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1371600"/>
            <a:ext cx="723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847-0008-48D9-BA1D-B88C84FF6C2C}" type="slidenum">
              <a:t>4</a:t>
            </a:fld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7372440" cy="15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TO Technical Recommendations for Highways (TRH) Docu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371600"/>
            <a:ext cx="723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9607680" cy="511164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1576440" y="2838600"/>
            <a:ext cx="7373880" cy="3585960"/>
            <a:chOff x="1576440" y="2838600"/>
            <a:chExt cx="7373880" cy="3585960"/>
          </a:xfrm>
        </p:grpSpPr>
        <p:sp>
          <p:nvSpPr>
            <p:cNvPr id="103" name=""/>
            <p:cNvSpPr/>
            <p:nvPr/>
          </p:nvSpPr>
          <p:spPr>
            <a:xfrm>
              <a:off x="1590840" y="2838600"/>
              <a:ext cx="7345080" cy="43164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76440" y="4076640"/>
              <a:ext cx="7345440" cy="4320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90840" y="5157720"/>
              <a:ext cx="7345080" cy="4320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76440" y="5589720"/>
              <a:ext cx="7345440" cy="4032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04880" y="6194520"/>
              <a:ext cx="7345440" cy="23004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AC6-DD74-4930-837D-2024FE7EBDF2}" type="slidenum">
              <a:t>5</a:t>
            </a:fld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7372440" cy="15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TO Technical Recommendations for Highways (TRH) Docu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1371600"/>
            <a:ext cx="723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47720" y="2492280"/>
            <a:ext cx="7375680" cy="1944720"/>
            <a:chOff x="1647720" y="2492280"/>
            <a:chExt cx="7375680" cy="1944720"/>
          </a:xfrm>
        </p:grpSpPr>
        <p:sp>
          <p:nvSpPr>
            <p:cNvPr id="111" name=""/>
            <p:cNvSpPr/>
            <p:nvPr/>
          </p:nvSpPr>
          <p:spPr>
            <a:xfrm>
              <a:off x="1647720" y="2492280"/>
              <a:ext cx="7345440" cy="2160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7960" y="3573360"/>
              <a:ext cx="7345440" cy="4320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62120" y="4221000"/>
              <a:ext cx="7345440" cy="2160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8002800" y="822240"/>
            <a:ext cx="116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1593720"/>
            <a:ext cx="9607680" cy="51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5E2-FB1F-4FC8-A04C-6F9C86B3E8D7}" type="slidenum">
              <a:t>6</a:t>
            </a:fld>
          </a:p>
        </p:txBody>
      </p:sp>
    </p:spTree>
  </p:cSld>
  <p:transition spd="slow">
    <p:pull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372080" cy="15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TO Technical Methods for Highways (TMH) Docu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1371600"/>
            <a:ext cx="723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519200" y="1930320"/>
            <a:ext cx="7358040" cy="3917880"/>
            <a:chOff x="1519200" y="1930320"/>
            <a:chExt cx="7358040" cy="3917880"/>
          </a:xfrm>
        </p:grpSpPr>
        <p:sp>
          <p:nvSpPr>
            <p:cNvPr id="119" name=""/>
            <p:cNvSpPr/>
            <p:nvPr/>
          </p:nvSpPr>
          <p:spPr>
            <a:xfrm>
              <a:off x="1519200" y="1930320"/>
              <a:ext cx="7343640" cy="3891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3600" y="3127320"/>
              <a:ext cx="7343640" cy="2160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33600" y="3341520"/>
              <a:ext cx="7343640" cy="2160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19200" y="5257800"/>
              <a:ext cx="7343640" cy="2160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33600" y="5489640"/>
              <a:ext cx="7343640" cy="3585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19200" y="3559320"/>
              <a:ext cx="7343640" cy="3585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19200" y="3917880"/>
              <a:ext cx="7343640" cy="3589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19200" y="4508640"/>
              <a:ext cx="7343640" cy="3585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360" y="1558800"/>
            <a:ext cx="960768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645-B8EC-41B7-B108-B6CD0AEC40EC}" type="slidenum">
              <a:t>7</a:t>
            </a:fld>
          </a:p>
        </p:txBody>
      </p:sp>
    </p:spTree>
  </p:cSld>
  <p:transition spd="slow">
    <p:pull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372080" cy="15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</a:t>
            </a:r>
            <a:br>
              <a:rPr sz="20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341360"/>
            <a:ext cx="784872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ned in TRH and TMH documents and placed on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www.nra.co.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sion and Upgr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: TR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grading in progress: TRH 12 and TM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grading COLTO Standard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ordinating meeting with Gautr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y preparing framework for upgrad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nvolve industry i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TO/SANS integ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1371600"/>
            <a:ext cx="723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4AF4-0993-4C60-B29D-2A767A05BD86}" type="slidenum">
              <a:t>8</a:t>
            </a:fld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372080" cy="15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483920"/>
            <a:ext cx="754380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DOT researched Reports/Man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scanned in ( ± 197 report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original or copies of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1371600"/>
            <a:ext cx="723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35280" y="2924280"/>
            <a:ext cx="959940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F5F-325F-41EC-824F-63ECD8538237}" type="slidenum">
              <a:t>9</a:t>
            </a:fld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20T19:27:00Z</dcterms:created>
  <dc:creator>Louw Kannemeyer</dc:creator>
  <dc:description/>
  <cp:keywords/>
  <dc:language>en-US</dc:language>
  <cp:lastModifiedBy>lippertm</cp:lastModifiedBy>
  <dcterms:modified xsi:type="dcterms:W3CDTF">2007-05-07T13:11:45Z</dcterms:modified>
  <cp:revision>354</cp:revision>
  <dc:subject/>
  <dc:title>HDM-4</dc:title>
</cp:coreProperties>
</file>