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411760" y="1440"/>
            <a:ext cx="1682352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67840" y="486108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15960" y="1468440"/>
            <a:ext cx="7835760" cy="353880"/>
            <a:chOff x="615960" y="1468440"/>
            <a:chExt cx="7835760" cy="353880"/>
          </a:xfrm>
        </p:grpSpPr>
        <p:grpSp>
          <p:nvGrpSpPr>
            <p:cNvPr id="5" name=""/>
            <p:cNvGrpSpPr/>
            <p:nvPr/>
          </p:nvGrpSpPr>
          <p:grpSpPr>
            <a:xfrm>
              <a:off x="8280360" y="1468440"/>
              <a:ext cx="171360" cy="352440"/>
              <a:chOff x="8280360" y="1468440"/>
              <a:chExt cx="171360" cy="352440"/>
            </a:xfrm>
          </p:grpSpPr>
          <p:sp>
            <p:nvSpPr>
              <p:cNvPr id="6" name=""/>
              <p:cNvSpPr/>
              <p:nvPr/>
            </p:nvSpPr>
            <p:spPr>
              <a:xfrm>
                <a:off x="8423280" y="1468440"/>
                <a:ext cx="284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80360" y="1468440"/>
                <a:ext cx="7452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7819920" y="1468440"/>
              <a:ext cx="378000" cy="352440"/>
              <a:chOff x="7819920" y="1468440"/>
              <a:chExt cx="378000" cy="352440"/>
            </a:xfrm>
          </p:grpSpPr>
          <p:sp>
            <p:nvSpPr>
              <p:cNvPr id="9" name=""/>
              <p:cNvSpPr/>
              <p:nvPr/>
            </p:nvSpPr>
            <p:spPr>
              <a:xfrm>
                <a:off x="8074080" y="1468440"/>
                <a:ext cx="123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819920" y="1468440"/>
                <a:ext cx="177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7180200" y="1468440"/>
              <a:ext cx="563760" cy="352440"/>
              <a:chOff x="7180200" y="1468440"/>
              <a:chExt cx="563760" cy="352440"/>
            </a:xfrm>
          </p:grpSpPr>
          <p:sp>
            <p:nvSpPr>
              <p:cNvPr id="12" name=""/>
              <p:cNvSpPr/>
              <p:nvPr/>
            </p:nvSpPr>
            <p:spPr>
              <a:xfrm>
                <a:off x="7524720" y="1468440"/>
                <a:ext cx="2192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80200" y="1468440"/>
                <a:ext cx="26820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5346720" y="1468440"/>
              <a:ext cx="1755720" cy="353880"/>
              <a:chOff x="5346720" y="1468440"/>
              <a:chExt cx="1755720" cy="353880"/>
            </a:xfrm>
          </p:grpSpPr>
          <p:sp>
            <p:nvSpPr>
              <p:cNvPr id="15" name=""/>
              <p:cNvSpPr/>
              <p:nvPr/>
            </p:nvSpPr>
            <p:spPr>
              <a:xfrm>
                <a:off x="6789600" y="1468440"/>
                <a:ext cx="312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359400" y="1468440"/>
                <a:ext cx="35568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875200" y="1468440"/>
                <a:ext cx="409680" cy="353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346720" y="1468440"/>
                <a:ext cx="45252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615960" y="1468440"/>
              <a:ext cx="4659480" cy="352440"/>
              <a:chOff x="615960" y="1468440"/>
              <a:chExt cx="4659480" cy="352440"/>
            </a:xfrm>
          </p:grpSpPr>
          <p:sp>
            <p:nvSpPr>
              <p:cNvPr id="20" name=""/>
              <p:cNvSpPr/>
              <p:nvPr/>
            </p:nvSpPr>
            <p:spPr>
              <a:xfrm>
                <a:off x="4773600" y="1468440"/>
                <a:ext cx="501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15960" y="1468440"/>
                <a:ext cx="408456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" name=""/>
          <p:cNvSpPr/>
          <p:nvPr/>
        </p:nvSpPr>
        <p:spPr>
          <a:xfrm>
            <a:off x="685800" y="1463760"/>
            <a:ext cx="4038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GAUTR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EPARTMENT OF PUBLIC TRANSPORT, ROADS &amp; WOR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" name=""/>
          <p:cNvGraphicFramePr/>
          <p:nvPr/>
        </p:nvGraphicFramePr>
        <p:xfrm>
          <a:off x="557280" y="304920"/>
          <a:ext cx="14000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7280" y="304920"/>
                    <a:ext cx="1400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93400" y="228240"/>
            <a:ext cx="685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ae166"/>
                </a:solidFill>
                <a:latin typeface="Arial"/>
              </a:rPr>
              <a:t>Job Creation, Skills Development and Empowerment in Road Construction Rehabilitation and Maintenan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280" y="5959440"/>
            <a:ext cx="3914640" cy="826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ZA" sz="2400" spc="-1" strike="noStrike">
                <a:solidFill>
                  <a:srgbClr val="fafd00"/>
                </a:solidFill>
                <a:latin typeface="Arial"/>
              </a:rPr>
              <a:t>Road Pavements F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ZA" sz="2400" spc="-1" strike="noStrike">
                <a:solidFill>
                  <a:srgbClr val="fafd00"/>
                </a:solidFill>
                <a:latin typeface="Arial"/>
              </a:rPr>
              <a:t>6 May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84240" y="1927080"/>
            <a:ext cx="2948040" cy="3930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8680" y="4367160"/>
            <a:ext cx="3195360" cy="2338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08680" y="1889280"/>
            <a:ext cx="3195360" cy="23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74680" y="380880"/>
            <a:ext cx="645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280" y="1827000"/>
            <a:ext cx="869472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EPW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Employment opportunities and training for &gt;1 million unemployed in 5 yea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Increased labour content on government funded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Application of appropriate labour-intensive technolo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Focus on low volume roads, pipelines, stormwater drains and urban sidewal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erception of inferior quality, cost and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RAs generally only allocates LVRs to LIC&amp;M at the exclusion of the larger projects to minimise r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Developments in LIC technologies, labour optimisation and project management techniques have improved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Now possible to integrate labour as a critical &amp; measurable component for the whole of the road construction sec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GDPTRW best-practice guideline for formal and emerging sector to promote sustainable job creation and empowerment in </a:t>
            </a:r>
            <a:r>
              <a:rPr b="1" lang="en-ZA" sz="2000" spc="-1" strike="noStrike">
                <a:solidFill>
                  <a:srgbClr val="ffcc00"/>
                </a:solidFill>
                <a:latin typeface="Arial"/>
              </a:rPr>
              <a:t>all road construction, rehabilitation and maintenance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revious HVS tests on LIC s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4920" y="380880"/>
            <a:ext cx="64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Project Team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090520"/>
            <a:ext cx="821196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ff"/>
                </a:solidFill>
                <a:latin typeface="Arial"/>
              </a:rPr>
              <a:t>GDPTR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E Sad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R Kuhn/L Samp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ff"/>
                </a:solidFill>
                <a:latin typeface="Arial"/>
              </a:rPr>
              <a:t>Authors/Contribu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J Hattin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R McCutche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B Perr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SIR various (coordinated by P Paige-Gre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17800" y="380880"/>
            <a:ext cx="6516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Scope of Manual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816444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provide guidance to Road Authorities and their Consultants 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al labour components for specific design element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propriate contract documentation, specifications and tender evaluation procedures to encourage the use of labour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gal requirements related to the employment of unskilled and semi-skilled labour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ality and cost of labour related to group tasks and group balanc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ining, mentoring and incubation programmes including the current requirem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20840" y="380880"/>
            <a:ext cx="6313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04920"/>
            <a:ext cx="7772400" cy="448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isation of the use of labour on all projects (new construction, rehabilitation and maintenance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d sustainability of job opportunities through the optimisation of labour on all project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d use of appropriate labour -intensive technologie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d involvement by the formal construction sector in job creation and mentoring of emerging contractor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rovement in performance of the emerging sector through, training, mentoring and incub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7400" y="380880"/>
            <a:ext cx="6386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Document Structur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22636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int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rpose and philosophy behind labour optimisation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ject selection crite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ighlight the type of construction activ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levance and appropriateness to labour-intensive constru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dication of the typical employment potential of various road construction activities (details are also provided in Appendices 2 to 26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vement Desig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hilosoph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VS tes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terial sele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ice on suitable contract documentation, specification and tender evaluation proced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ndard forms of contract are provided in Appendix 2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uidelines on the legislation, labour requirements and organisation of projects including calculations of the required labour for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itional information and calculation examples are provided in Appendices 31 to 3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raining, Mentoring and incub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Labour Optimis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71440" y="1371600"/>
          <a:ext cx="853452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371600"/>
                    <a:ext cx="853452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45880" y="380880"/>
            <a:ext cx="6488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ffcc00"/>
                </a:solidFill>
                <a:latin typeface="Arial"/>
              </a:rPr>
              <a:t>Sustainability of job cre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19324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urrent programmes (eg EPW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Jobs created were tempo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Skills l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Manual encourages the creation of sustainable skills and jobs for the road sector through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creasing the total labour input on all project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creasing the skills levels of emerging contractors and labour through training, mentoring and incubation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unding of labour-intensive programmes through the Departmental budget rather than ad hoc special programme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volving the formal construction industry in labour-intensive construction, in joint venture with the emerging contracto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17800" y="380880"/>
            <a:ext cx="6516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cc00"/>
                </a:solidFill>
                <a:latin typeface="Arial"/>
              </a:rPr>
              <a:t>Status of Documen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104920"/>
            <a:ext cx="817884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Final comments and editing being inclu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Draft document available for review by (16 Ma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Circulation of document to reviewers for comment (return end Jun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Incorporation of comments (end Jul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Launch of document (Augus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4T17:44:18Z</dcterms:created>
  <dc:creator>N A Kilian</dc:creator>
  <dc:description/>
  <dc:language>en-US</dc:language>
  <cp:lastModifiedBy>Les</cp:lastModifiedBy>
  <cp:lastPrinted>1997-08-27T11:23:38Z</cp:lastPrinted>
  <dcterms:modified xsi:type="dcterms:W3CDTF">2008-05-06T07:40:49Z</dcterms:modified>
  <cp:revision>263</cp:revision>
  <dc:subject/>
  <dc:title>Budget per Main Programme (R'000)</dc:title>
</cp:coreProperties>
</file>