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81120" y="3546720"/>
            <a:ext cx="80964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81120" y="35467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30120" y="35467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0573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056000" y="10573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81120" y="35467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5467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056000" y="35467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80760" y="414000"/>
            <a:ext cx="82090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81120" y="35467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30120" y="35467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81120" y="3546720"/>
            <a:ext cx="80964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81120" y="3546720"/>
            <a:ext cx="80964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81120" y="35467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30120" y="35467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18560" y="10573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056000" y="10573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81120" y="35467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18560" y="35467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056000" y="3546720"/>
            <a:ext cx="26067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80760" y="414000"/>
            <a:ext cx="82090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81120" y="35467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30120" y="35467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0760" y="4039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30120" y="1057320"/>
            <a:ext cx="3951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81120" y="3546720"/>
            <a:ext cx="80964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2536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77880" y="228600"/>
            <a:ext cx="0" cy="685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9669600" y="6170760"/>
            <a:ext cx="1440" cy="280800"/>
          </a:xfrm>
          <a:prstGeom prst="line">
            <a:avLst/>
          </a:prstGeom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298080" y="61498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EBE6-0C33-4BCA-B179-7E1636CB608E}" type="slidenum">
              <a:rPr b="1" lang="de-D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71760" y="914400"/>
            <a:ext cx="811044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4871880" y="6460920"/>
            <a:ext cx="2595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RPF – Ma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840880" y="6423120"/>
            <a:ext cx="837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5830-613F-4376-BD01-5F869376C6DC}" type="datetime">
              <a:rPr b="0" lang="de-CH" sz="9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/Ah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76720" y="642348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cim South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1584000" y="6448320"/>
            <a:ext cx="809604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228600" y="5967360"/>
            <a:ext cx="11714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1640" y="1069560"/>
            <a:ext cx="6966000" cy="530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46800" rIns="468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584000" y="6448320"/>
            <a:ext cx="8096040" cy="0"/>
          </a:xfrm>
          <a:prstGeom prst="line">
            <a:avLst/>
          </a:prstGeom>
          <a:ln w="316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0600" y="3594240"/>
            <a:ext cx="1011240" cy="2865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3120" algn="ctr">
              <a:spcBef>
                <a:spcPts val="751"/>
              </a:spcBef>
              <a:buClr>
                <a:srgbClr val="ff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90440" algn="ctr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52280" algn="ctr"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52280"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52280"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838080"/>
            <a:ext cx="8001000" cy="835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46800" rIns="468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 Thin Friction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8089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8680" y="4724280"/>
            <a:ext cx="4059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x Weide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Technical Manag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cim Aggregate (Gaute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81960" y="3789360"/>
            <a:ext cx="2122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ood work has been done on various contracts, and together suppliers, contactors and consultants have a chance to develop a product for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must be on consistence of grading, and not necessarily on single siz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role player needs to understand the constraints when dealing with this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wards the project with pre-warning to your supplier, in order to allow them to get the plant up to speed and understand the outpu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568520" y="2420640"/>
            <a:ext cx="833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3980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057320"/>
            <a:ext cx="807732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 – Required Performanc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mean to the aggregate 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port Friction Course (Design with inno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lnSpc>
                <a:spcPct val="135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21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ayer consists of a layer of graded asphalt paved in one pass at high speed over a thick      tack-coated layer of modified bitumen binder,  ensuring waterproofing of the pa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 – Required Performanc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65240" y="1052640"/>
            <a:ext cx="8612280" cy="5184720"/>
            <a:chOff x="1065240" y="1052640"/>
            <a:chExt cx="8612280" cy="5184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065240" y="1052640"/>
              <a:ext cx="86122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1065240" y="1052640"/>
              <a:ext cx="8612280" cy="518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90520" indent="-290520">
                <a:spcBef>
                  <a:spcPts val="601"/>
                </a:spcBef>
                <a:spcAft>
                  <a:spcPts val="901"/>
                </a:spcAft>
                <a:buClr>
                  <a:srgbClr val="ff0000"/>
                </a:buClr>
                <a:buSzPct val="9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304920" y="1600200"/>
          <a:ext cx="929628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9296280" cy="468360"/>
                  </a:xfrm>
                  <a:prstGeom prst="rect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04920" y="3048120"/>
          <a:ext cx="929628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048120"/>
                    <a:ext cx="9296280" cy="971280"/>
                  </a:xfrm>
                  <a:prstGeom prst="rect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04920" y="4191120"/>
          <a:ext cx="929628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4191120"/>
                    <a:ext cx="9296280" cy="438120"/>
                  </a:xfrm>
                  <a:prstGeom prst="rect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7120" indent="-267120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V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57040">
              <a:lnSpc>
                <a:spcPct val="110000"/>
              </a:lnSpc>
              <a:spcBef>
                <a:spcPts val="7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minimum 50 is commonly specified, and some projects have been done with values below 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50000"/>
              </a:lnSpc>
              <a:spcBef>
                <a:spcPts val="901"/>
              </a:spcBef>
              <a:spcAft>
                <a:spcPts val="1199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V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57040">
              <a:lnSpc>
                <a:spcPct val="150000"/>
              </a:lnSpc>
              <a:spcBef>
                <a:spcPts val="7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v value of 15 is recommended, although a maximum of 20 has been used in some projects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textu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57040">
              <a:lnSpc>
                <a:spcPct val="150000"/>
              </a:lnSpc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Texture of 0.6 mm is not achievable, and effort should be put in determining what is r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spcAft>
                <a:spcPts val="1199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73960">
              <a:lnSpc>
                <a:spcPct val="120000"/>
              </a:lnSpc>
              <a:spcBef>
                <a:spcPts val="7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prietary products are done with very tight single size grading envelopes, and focus should probably be more on consistence rather than sing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spcAft>
                <a:spcPts val="1199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73960">
              <a:lnSpc>
                <a:spcPct val="120000"/>
              </a:lnSpc>
              <a:spcBef>
                <a:spcPts val="7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generation crushers allow low levels of flakiness, but some materials might still require shaping in order to conform to the Flakiness Index requirement of maximum 1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73960">
              <a:lnSpc>
                <a:spcPct val="120000"/>
              </a:lnSpc>
              <a:spcBef>
                <a:spcPts val="7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uld be recommended that development is done on Flakiness with the focus on verifying stability of the mix with MML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mean to the Aggregate 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t accredit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68200">
              <a:lnSpc>
                <a:spcPct val="90000"/>
              </a:lnSpc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contractors work towards an A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 accreditation with different specifications that might not be suitable for certain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var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68200">
              <a:lnSpc>
                <a:spcPct val="90000"/>
              </a:lnSpc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mixes for different areas on the road might assist the aggregat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Plann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68200">
              <a:lnSpc>
                <a:spcPct val="90000"/>
              </a:lnSpc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notification may allow the aggregate supplier to start early with a contingency plan to ensure sufficient materia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68200">
              <a:lnSpc>
                <a:spcPct val="90000"/>
              </a:lnSpc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suppliers need to understan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ir plant when working with tighter specification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68200">
              <a:lnSpc>
                <a:spcPct val="90000"/>
              </a:lnSpc>
              <a:buClr>
                <a:srgbClr val="ff0000"/>
              </a:buClr>
              <a:buSzPct val="6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costly for the aggregate supplier if penalty clauses apply, which will lead to unnecessary safety margins to protect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port Friction Course (Design with inno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evelopment from Denmark (8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was on the self cleaning ability at touchdown and braking area on run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 aggregate grading is in line with normal Road stone and Flakiness as per Open Graded Asph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mix grading has been targeted close to 8 percent on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was on ACV with target as low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k coat was applied at 1 lt/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us 0.5 lt/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texture target was 2 mm with friction value as tested with the grip tester in the region of 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 already in use for one year, with posi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80760" y="414000"/>
            <a:ext cx="8209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81120" y="1057320"/>
            <a:ext cx="8096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50000"/>
              </a:lnSpc>
              <a:spcBef>
                <a:spcPts val="901"/>
              </a:spcBef>
              <a:spcAft>
                <a:spcPts val="1349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901"/>
              </a:spcBef>
              <a:spcAft>
                <a:spcPts val="1349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stence of 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901"/>
              </a:spcBef>
              <a:spcAft>
                <a:spcPts val="1349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schedu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me of Pres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17:28:46Z</dcterms:created>
  <dc:creator>bobl</dc:creator>
  <dc:description/>
  <dc:language>en-US</dc:language>
  <cp:lastModifiedBy>h</cp:lastModifiedBy>
  <cp:lastPrinted>2006-05-09T14:05:39Z</cp:lastPrinted>
  <dcterms:modified xsi:type="dcterms:W3CDTF">2007-05-08T15:36:27Z</dcterms:modified>
  <cp:revision>81</cp:revision>
  <dc:subject/>
  <dc:title>Main Title</dc:title>
</cp:coreProperties>
</file>