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74C-309D-4628-9FEE-BAFF3E66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4C3-281F-4951-BED6-93FBB6C9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78F-A686-4C43-B237-CC4751F8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688-ABA8-440F-8D33-FD9E5578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E934-AFF3-46CC-BCFC-11A60D2D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0A64-07AA-465A-A2D8-CB5B65ED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AE82-7AFF-421A-8F4B-7CCAF57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4647-A8DE-4B01-929B-81926EF1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82C3-B7A5-4E38-9744-92870CD8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D4B6-8B76-49D3-942D-A77C8AAB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D55F-7DAB-4D33-95EC-284EBF4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049-4609-4CF4-9FAA-6C2E100F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D9DD-2AEE-4988-96F4-B0C862D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B19D-DB25-4A4D-8C22-47EA9B64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3BF3-7CAD-467D-9523-EC74FAB9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3CB4-55E9-49A3-859D-E1045C30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4134-3BBE-4E65-8E7B-5137A97C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77D-BCD6-4F58-8702-6423D56B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CBE-4546-4CA8-9379-84F504CB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F7E-7AB1-4EAC-9577-F2667EC9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B5A-F8FD-46F8-B9F4-4D22E475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4B0-6B68-4009-8C70-87E9F0F9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95F-D379-4F0A-AF0A-3D5F872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BE8-1E18-4FF0-AD75-5C98D42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559F-466F-4CEC-9057-FFD23597A9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DD15-EB7E-4E6E-B248-2ABF7280F3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0400" y="304560"/>
            <a:ext cx="79232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RPF - May 2008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81280" y="25905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k Group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al Design Input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Rossman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28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xture Depth (Sand patch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9800" y="3068640"/>
            <a:ext cx="3994200" cy="3311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8000" y="3068640"/>
            <a:ext cx="4736880" cy="355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0 ml 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x, squeegee,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l track and in-betw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eal Design input paramet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6629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S (TMH)/TRH 3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A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pretation – TRH3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23623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clu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14240" y="228600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l designer/laboratory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es the tester know what to do??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“black box”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eal Design input paramet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embedment (ball penet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eal Design input paramet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ful Resul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“sampl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test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interpretation of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eal Design Input Paramet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Sampl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l designer VS “Commercial” laboratory technician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eal Design input paramet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 depth and ball penetration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MH 6 (198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 depth and ball penetration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S (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eal Design input paramet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6629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mmended K-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4 mm/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– seals (not fat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5 mm/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– slurry seals (not fat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7 mm/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– cape seals (not fat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4 mm/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– fatty roads and HMA surfacings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2670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ular or cemented base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87692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mm ball irrespective of aggregate siz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eal Design input paramet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6629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ed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h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ce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56052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01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6:58:58Z</dcterms:created>
  <dc:creator>Lychelle Shrives</dc:creator>
  <dc:description/>
  <dc:language>en-US</dc:language>
  <cp:lastModifiedBy>rossmannd</cp:lastModifiedBy>
  <dcterms:modified xsi:type="dcterms:W3CDTF">2008-05-05T09:47:20Z</dcterms:modified>
  <cp:revision>5</cp:revision>
  <dc:subject/>
  <dc:title>Road Pavement Forum</dc:title>
</cp:coreProperties>
</file>