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E18-A2BD-4C2C-8499-A4DAC5E5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A1A-FFEF-4A59-AA5E-02C9595D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0F9-419B-4255-8DCA-1ABDA72B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F03-649C-4A6B-9A03-7FD421B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602-4C9A-4C6E-A44E-F0287EAA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6D8-0123-4F7E-B7A1-3746120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DDA-E779-4C47-90FB-2743A05D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C52-5AB0-47C5-84D6-6818525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632-9C31-468D-9A9D-6585B85E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772-6277-48D5-BA95-40DDA97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AAC-C6FD-4F15-B2BA-9DDB010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532-6872-40BC-87B5-CE74458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0FB-BFA9-4755-9599-1A5E5702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ROAD PAVEMENT FORUM</a:t>
            </a:r>
            <a:br>
              <a:rPr sz="3600"/>
            </a:b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cc0000"/>
                </a:solidFill>
                <a:latin typeface="Arial"/>
              </a:rPr>
              <a:t>Technical Guide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cc0000"/>
                </a:solidFill>
                <a:latin typeface="Arial"/>
              </a:rPr>
              <a:t>The use of Modified Bituminous Binders in Roa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cc0000"/>
                </a:solidFill>
                <a:latin typeface="Arial"/>
              </a:rPr>
              <a:t>TG1: 2</a:t>
            </a:r>
            <a:r>
              <a:rPr b="0" lang="en-ZA" sz="28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ZA" sz="2800" spc="-1" strike="noStrike">
                <a:solidFill>
                  <a:srgbClr val="cc0000"/>
                </a:solidFill>
                <a:latin typeface="Arial"/>
              </a:rPr>
              <a:t> Edition – Ma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cc0000"/>
                </a:solidFill>
                <a:latin typeface="Arial"/>
              </a:rPr>
              <a:t>Deleted: </a:t>
            </a:r>
            <a:br>
              <a:rPr sz="1600"/>
            </a:br>
            <a:r>
              <a:rPr b="1" lang="en-ZA" sz="1200" spc="-1" strike="noStrike">
                <a:solidFill>
                  <a:srgbClr val="cc0000"/>
                </a:solidFill>
                <a:latin typeface="Arial"/>
              </a:rPr>
              <a:t>Complex Shear Modulus</a:t>
            </a:r>
            <a:br>
              <a:rPr sz="1200"/>
            </a:br>
            <a:r>
              <a:rPr b="1" lang="en-ZA" sz="1200" spc="-1" strike="noStrike">
                <a:solidFill>
                  <a:srgbClr val="cc0000"/>
                </a:solidFill>
                <a:latin typeface="Arial"/>
              </a:rPr>
              <a:t>Creep Stiffness</a:t>
            </a:r>
            <a:br>
              <a:rPr sz="1200"/>
            </a:br>
            <a:r>
              <a:rPr b="1" lang="en-ZA" sz="1200" spc="-1" strike="noStrike">
                <a:solidFill>
                  <a:srgbClr val="cc0000"/>
                </a:solidFill>
                <a:latin typeface="Arial"/>
              </a:rPr>
              <a:t>Torsional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251160"/>
                <a:gridCol w="830160"/>
                <a:gridCol w="1659240"/>
                <a:gridCol w="1326960"/>
                <a:gridCol w="1162080"/>
              </a:tblGrid>
              <a:tr h="48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hot applied polymer modified binders for surfacing s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fore age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ening Point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0–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0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ce ductility @ 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13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16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ity @ 160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sh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M D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 ageing (RTF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 in Softening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cc0000"/>
                </a:solidFill>
                <a:latin typeface="Arial"/>
              </a:rPr>
              <a:t>Deleted</a:t>
            </a:r>
            <a:br>
              <a:rPr sz="1600"/>
            </a:br>
            <a:r>
              <a:rPr b="1" lang="en-ZA" sz="1200" spc="-1" strike="noStrike">
                <a:solidFill>
                  <a:srgbClr val="cc0000"/>
                </a:solidFill>
                <a:latin typeface="Arial"/>
              </a:rPr>
              <a:t>Torsional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99120" y="16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3640" y="1125360"/>
          <a:ext cx="5666040" cy="5624640"/>
        </p:xfrm>
        <a:graphic>
          <a:graphicData uri="http://schemas.openxmlformats.org/drawingml/2006/table">
            <a:tbl>
              <a:tblPr/>
              <a:tblGrid>
                <a:gridCol w="1370160"/>
                <a:gridCol w="463320"/>
                <a:gridCol w="928800"/>
                <a:gridCol w="696960"/>
                <a:gridCol w="696960"/>
                <a:gridCol w="812880"/>
                <a:gridCol w="696960"/>
              </a:tblGrid>
              <a:tr h="497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cold applied polymer modified emulsions for surfacing s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-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-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der content (m/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ybolt Furol viscosity @ 50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-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-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–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-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e on sieving (/100 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 si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le char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imentation after 60 ro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S 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vered binder resi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20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ening poin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ce ductility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13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cc0000"/>
                </a:solidFill>
                <a:latin typeface="Arial"/>
              </a:rPr>
              <a:t>Deleted:</a:t>
            </a:r>
            <a:br>
              <a:rPr sz="1600"/>
            </a:br>
            <a:r>
              <a:rPr b="0" lang="en-ZA" sz="1200" spc="-1" strike="noStrike">
                <a:solidFill>
                  <a:srgbClr val="cc0000"/>
                </a:solidFill>
                <a:latin typeface="Arial"/>
              </a:rPr>
              <a:t>Complex Shear Modulus</a:t>
            </a:r>
            <a:br>
              <a:rPr sz="1200"/>
            </a:br>
            <a:r>
              <a:rPr b="0" lang="en-ZA" sz="1200" spc="-1" strike="noStrike">
                <a:solidFill>
                  <a:srgbClr val="cc0000"/>
                </a:solidFill>
                <a:latin typeface="Arial"/>
              </a:rPr>
              <a:t>Creep Stiffness</a:t>
            </a:r>
            <a:br>
              <a:rPr sz="1200"/>
            </a:br>
            <a:r>
              <a:rPr b="0" lang="en-ZA" sz="1200" spc="-1" strike="noStrike">
                <a:solidFill>
                  <a:srgbClr val="cc0000"/>
                </a:solidFill>
                <a:latin typeface="Arial"/>
              </a:rPr>
              <a:t>Torsional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778280"/>
        </p:xfrm>
        <a:graphic>
          <a:graphicData uri="http://schemas.openxmlformats.org/drawingml/2006/table">
            <a:tbl>
              <a:tblPr/>
              <a:tblGrid>
                <a:gridCol w="2255760"/>
                <a:gridCol w="663480"/>
                <a:gridCol w="1327320"/>
                <a:gridCol w="996840"/>
                <a:gridCol w="995400"/>
                <a:gridCol w="995400"/>
                <a:gridCol w="995400"/>
              </a:tblGrid>
              <a:tr h="4590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polymer modified binders for hot mix asph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fore age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ening point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5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5-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3-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70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ce ductility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13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16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ity @ 160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sh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M D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 ageing (RTF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 in Softening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to +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ynamic viscosity @ 165 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cc0000"/>
                </a:solidFill>
                <a:latin typeface="Arial"/>
              </a:rPr>
              <a:t>Deleted:</a:t>
            </a:r>
            <a:br>
              <a:rPr sz="1600"/>
            </a:br>
            <a:r>
              <a:rPr b="0" lang="en-ZA" sz="1400" spc="-1" strike="noStrike">
                <a:solidFill>
                  <a:srgbClr val="cc0000"/>
                </a:solidFill>
                <a:latin typeface="Arial"/>
              </a:rPr>
              <a:t>Compression Recovery – 4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3251520"/>
                <a:gridCol w="829800"/>
                <a:gridCol w="1659240"/>
                <a:gridCol w="1327320"/>
                <a:gridCol w="1161360"/>
              </a:tblGrid>
              <a:tr h="565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bitumen rubber for surfacing seals and asph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ening point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–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190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–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–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ession recover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in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l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–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ce ductility @ 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13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cc0000"/>
                </a:solidFill>
                <a:latin typeface="Arial"/>
              </a:rPr>
              <a:t>Deleted:</a:t>
            </a:r>
            <a:br>
              <a:rPr sz="1600"/>
            </a:br>
            <a:r>
              <a:rPr b="1" lang="en-ZA" sz="1200" spc="-1" strike="noStrike">
                <a:solidFill>
                  <a:srgbClr val="cc0000"/>
                </a:solidFill>
                <a:latin typeface="Arial"/>
              </a:rPr>
              <a:t>Torsional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3085920"/>
                <a:gridCol w="829080"/>
                <a:gridCol w="1327680"/>
                <a:gridCol w="912240"/>
                <a:gridCol w="912960"/>
                <a:gridCol w="1161360"/>
              </a:tblGrid>
              <a:tr h="526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modified binder crack sea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-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-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-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ening point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55 –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stic recovery @ 1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ort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190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–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16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≤</a:t>
                      </a:r>
                      <a:r>
                        <a:rPr b="0" lang="en-ZA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ynamic viscosity @ 25 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≤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l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–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der content (m/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–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</a:t>
                      </a: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936960"/>
        </p:xfrm>
        <a:graphic>
          <a:graphicData uri="http://schemas.openxmlformats.org/drawingml/2006/table">
            <a:tbl>
              <a:tblPr/>
              <a:tblGrid>
                <a:gridCol w="1990800"/>
                <a:gridCol w="841320"/>
                <a:gridCol w="1179360"/>
                <a:gridCol w="421812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ies of polymer modified emulsions for microsurfac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AC-E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Binder content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 (m/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 – 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62 – 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Residue on sieving (/100 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 - 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≤ 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Particl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 – 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Posi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Sedimentation after 60 ro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̊ 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SANS 5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n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Recovered binder residue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 - 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Softening point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̊ 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MB – 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≥ </a:t>
                      </a:r>
                      <a:r>
                        <a:rPr b="0" lang="en-ZA" sz="11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ZA" sz="4400" spc="-1" strike="noStrike">
                <a:solidFill>
                  <a:srgbClr val="333399"/>
                </a:solidFill>
                <a:latin typeface="Arial"/>
              </a:rPr>
              <a:t>7- Selec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125360"/>
            <a:ext cx="8675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 u="sng">
                <a:solidFill>
                  <a:srgbClr val="000000"/>
                </a:solidFill>
                <a:uFillTx/>
                <a:latin typeface="Arial"/>
              </a:rPr>
              <a:t>Surfacing Seal Applications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1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Environmental influences during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2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Aggregate influences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3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Substrate influences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4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Project location and programming infl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5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Traffic influences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6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Design influences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1.7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Selection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 u="sng">
                <a:solidFill>
                  <a:srgbClr val="000000"/>
                </a:solidFill>
                <a:uFillTx/>
                <a:latin typeface="Arial"/>
              </a:rPr>
              <a:t>Hot mix asph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Resistance to permanent deformation (rutting)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.2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Cracking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.3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Mix type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.4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Design criteria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7.2.5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Production criteria</a:t>
            </a: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7. Selection Guide –  S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981000"/>
          <a:ext cx="8229600" cy="6056280"/>
        </p:xfrm>
        <a:graphic>
          <a:graphicData uri="http://schemas.openxmlformats.org/drawingml/2006/table">
            <a:tbl>
              <a:tblPr/>
              <a:tblGrid>
                <a:gridCol w="3871800"/>
                <a:gridCol w="871560"/>
                <a:gridCol w="871560"/>
                <a:gridCol w="871560"/>
                <a:gridCol w="871560"/>
                <a:gridCol w="871560"/>
              </a:tblGrid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ion criteria for surface se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ed Binder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-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-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ly stressed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stressed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ep grad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e cracking S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sive cracking S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e and passive cracking S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e and/or passive cracking S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apped mois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y high road surface temperatures (&gt;60 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̊</a:t>
                      </a: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temperature during application (&gt;10º 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ZA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333399"/>
                </a:solidFill>
                <a:latin typeface="Arial"/>
              </a:rPr>
              <a:t>9 - QUALITY ASSURANCE IN STORAGE AND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eating of modified binder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1.1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t-applied polymer modified binder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1.2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olymer modified emulsions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1.3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Bitumen rubber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ontamination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3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9.4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te quality contro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333399"/>
                </a:solidFill>
                <a:latin typeface="Arial"/>
              </a:rPr>
              <a:t>10 - </a:t>
            </a:r>
            <a:r>
              <a:rPr b="1" lang="en-ZA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ZA" sz="4000" spc="-1" strike="noStrike">
                <a:solidFill>
                  <a:srgbClr val="333399"/>
                </a:solidFill>
                <a:latin typeface="Arial"/>
              </a:rPr>
              <a:t>SAMPLING AND TESTING</a:t>
            </a: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1.1   Safety precaution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1.2   Monitoring of product during handling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1.3   Storage of sample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1.4   Sample preparation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esting of modified binder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sphalt mix design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ZA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Edition – October 2001 – 33 Pages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excl. test meth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924280"/>
            <a:ext cx="7543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ZA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Edition – May 2007 – 66 Pages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(excl. test meth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11 - </a:t>
            </a: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PROTOCOL FOR INTRODUCING A </a:t>
            </a: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NEW MODIFIED B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Laboratory testing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Field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Arial"/>
              </a:rPr>
              <a:t>APPENDIX – TEST METHODS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he Task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evor Distin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ab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om Gilber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uch Asp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Joe Grobler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Vela V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Kim Jenkin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tellenbos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John Lansdell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Kan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Henie Loot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Kobus Louw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Johan Muller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ennis Rossmann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AN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enzil Sadler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Les Sampson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Benoit Verhaege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ias Wiese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AN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ico Wilcock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ike Zachari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G 1: 2</a:t>
            </a:r>
            <a:r>
              <a:rPr b="1" lang="en-ZA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 Edition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 - May 2007</a:t>
            </a: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ENDORSEMENT BY ROAD PAVEMENT FORUM!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3860640"/>
            <a:ext cx="3095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ferencing to other docu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RH3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urface S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RH8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Design of HMA surfac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RH14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Guideline for road construction 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Interim guidelines for HM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ABITA Man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G 1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572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ZA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OCCUPATIONAL HEALTH, SAFETY AND THE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During  manufacture of modified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Modifi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romatic oil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2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dhesion agent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During  spraying operation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COMPOSITION AND CHARACTERISTIC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Composition of bitumen modifi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omogeneous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Non-Homogeneous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ydrocarbon Modif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1.4    F-T Wax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Behavioural Characteristic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Elasticity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2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geing and durability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Use of cutt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Factors affecting the cutting back of modified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MANUFACTURE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omogeneous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BR modified bitume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BS modified bitume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ydrocarbon modified bi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5     F – T Wax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1.6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Non-homogeneous polymer modified binder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2.1    The Wet Method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4.2.2  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 The Dry Method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MODIFIED BINDER CLASSIFICATION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PRODUCT REQUIREMENTS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pecial Application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6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Modified emulsions for microsurfacing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6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ydrocarbon modified bitumen for high modulus asph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6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Modified binders for fuel resistant surfacing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6.1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Modified bitumen emulsion for tack coat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692280"/>
            <a:ext cx="45720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urfacing Seal Application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Environmental influences during applicatio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ggregate influenc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ubstrate influenc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Project location and programming influenc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5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Traffic influenc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6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Design influenc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1.7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election guide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ot mix asphalt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Resistance to permanent deformation (rutting)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Cracking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Mix type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Design criteria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7.2.5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Production criteria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urface Seal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8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ot Mix Asphalt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QUALITY ASSURANCE IN STORAGE AND HAND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eating of modified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ot-applied polymer modified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Polymer modified emulsion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1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Bitumen rubber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Contaminatio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9.4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ite quality control pla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SAMPLING AND TESTING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1.1     Safety precaution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1.2     Monitoring of product during handling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1.3     Storage of sample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1.4     Sample preparatio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Testing of modified binders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Asphalt mix design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PROTOCOL FOR INTRODUCING A NEW MODIFIED B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Laboratory testing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Field 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APPENDIX – TEST METHODS</a:t>
            </a:r>
            <a:r>
              <a:rPr b="1" lang="en-Z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33399"/>
                </a:solidFill>
                <a:latin typeface="Arial"/>
              </a:rPr>
              <a:t>2- Health, safety &amp; envir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During  manufacture of modified bin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Modifiers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Extender oils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2.1.3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Adhesion ag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During  spraying operations</a:t>
            </a: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33399"/>
                </a:solidFill>
                <a:latin typeface="Arial"/>
              </a:rPr>
              <a:t>3 - Composition &amp;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09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 u="sng">
                <a:solidFill>
                  <a:srgbClr val="000000"/>
                </a:solidFill>
                <a:uFillTx/>
                <a:latin typeface="Arial"/>
              </a:rPr>
              <a:t>Composition of bitumen modifiers</a:t>
            </a:r>
            <a:r>
              <a:rPr b="0" lang="en-ZA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Homogeneous Binder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1.2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Non-Homogeneous Binder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1.3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cc0000"/>
                </a:solidFill>
                <a:latin typeface="Arial"/>
              </a:rPr>
              <a:t>Hydrocarbon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1.4</a:t>
            </a:r>
            <a:r>
              <a:rPr b="0" lang="en-ZA" sz="2400" spc="-1" strike="noStrike">
                <a:solidFill>
                  <a:srgbClr val="cc0000"/>
                </a:solidFill>
                <a:latin typeface="Arial"/>
              </a:rPr>
              <a:t>   F-T W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 u="sng">
                <a:solidFill>
                  <a:srgbClr val="000000"/>
                </a:solidFill>
                <a:uFillTx/>
                <a:latin typeface="Arial"/>
              </a:rPr>
              <a:t>Behavioural Characteristic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Elasticity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2.4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geing and durability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ZA" sz="2400" spc="-1" strike="noStrike">
                <a:solidFill>
                  <a:srgbClr val="cc0000"/>
                </a:solidFill>
                <a:latin typeface="Arial"/>
              </a:rPr>
              <a:t>Use of cutter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400" spc="-1" strike="noStrike">
                <a:solidFill>
                  <a:srgbClr val="cc0000"/>
                </a:solidFill>
                <a:latin typeface="Arial"/>
              </a:rPr>
              <a:t>Factors affecting the cutting back of modified          binders</a:t>
            </a:r>
            <a:r>
              <a:rPr b="0" lang="en-ZA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33399"/>
                </a:solidFill>
                <a:latin typeface="Arial"/>
              </a:rPr>
              <a:t>4 - Manuf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ogeneous binder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BR modified bitumen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2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BS modified bitumen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3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4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cc0000"/>
                </a:solidFill>
                <a:latin typeface="Arial"/>
              </a:rPr>
              <a:t>Hydrocarbon modified b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5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cc0000"/>
                </a:solidFill>
                <a:latin typeface="Arial"/>
              </a:rPr>
              <a:t>F – T Waxes</a:t>
            </a:r>
            <a:r>
              <a:rPr b="0" lang="en-ZA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4.1.6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spcBef>
                <a:spcPts val="799"/>
              </a:spcBef>
              <a:buNone/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333360"/>
          <a:ext cx="8229600" cy="639756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ed Binder Classification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ed Binder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–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seal – hot applied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– 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seal – hot applied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– 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seal – hot applied bitumen rub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–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seal – emulsion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– 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seal – emulsion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C – E1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urface seal – emulsion elastomer modified without fl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C – E2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urface seal – emulsion elastomer modified without fl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–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mix asphalt –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– 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mix asphalt –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– 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mix asphalt – p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A –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Hotmix asphalt – p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– 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mix asphalt – bitumen rub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C-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ldmix microsurfacing – emulsion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–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 sealant – hot applied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– 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 sealant – emulsion elastomer mod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– 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 sealant – hot applied bitumen rub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33399"/>
                </a:solidFill>
                <a:latin typeface="Arial"/>
              </a:rPr>
              <a:t>6 - Produc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rodu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6.2    </a:t>
            </a:r>
            <a:r>
              <a:rPr b="0" lang="en-ZA" sz="3200" spc="-1" strike="noStrike">
                <a:solidFill>
                  <a:srgbClr val="cc0000"/>
                </a:solidFill>
                <a:latin typeface="Arial"/>
              </a:rPr>
              <a:t>Special Application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6.2.1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ydrocarbon modified bitumen for high modulus 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4600" indent="0">
              <a:spcBef>
                <a:spcPts val="799"/>
              </a:spcBef>
              <a:buNone/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odified binders for fuel resistant surfacing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8:09:45Z</dcterms:created>
  <dc:creator>marxj</dc:creator>
  <dc:description/>
  <dc:language>en-US</dc:language>
  <cp:lastModifiedBy>User @</cp:lastModifiedBy>
  <dcterms:modified xsi:type="dcterms:W3CDTF">2007-05-09T08:48:28Z</dcterms:modified>
  <cp:revision>25</cp:revision>
  <dc:subject/>
  <dc:title>ROAD PAVEMENT FORUM MAY 2007</dc:title>
</cp:coreProperties>
</file>