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7.wmf" ContentType="image/x-wmf"/>
  <Override PartName="/ppt/media/image12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11.jpeg" ContentType="image/jpeg"/>
  <Override PartName="/ppt/media/image8.png" ContentType="image/png"/>
  <Override PartName="/ppt/media/image16.wmf" ContentType="image/x-wmf"/>
  <Override PartName="/ppt/media/image14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14320" y="-360"/>
            <a:ext cx="763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5200" y="1549440"/>
            <a:ext cx="765792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5200" y="3465000"/>
            <a:ext cx="765792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14320" y="-360"/>
            <a:ext cx="763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5200" y="1549440"/>
            <a:ext cx="37368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9200" y="1549440"/>
            <a:ext cx="37368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5200" y="3465000"/>
            <a:ext cx="37368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9200" y="3465000"/>
            <a:ext cx="37368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14320" y="-360"/>
            <a:ext cx="763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5200" y="1549440"/>
            <a:ext cx="246564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24680" y="1549440"/>
            <a:ext cx="246564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3800" y="1549440"/>
            <a:ext cx="246564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5200" y="3465000"/>
            <a:ext cx="246564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24680" y="3465000"/>
            <a:ext cx="246564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3800" y="3465000"/>
            <a:ext cx="246564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14320" y="-360"/>
            <a:ext cx="763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5200" y="1549440"/>
            <a:ext cx="7657920" cy="36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9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14320" y="-360"/>
            <a:ext cx="763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5200" y="1549440"/>
            <a:ext cx="765792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14320" y="-360"/>
            <a:ext cx="763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5200" y="1549440"/>
            <a:ext cx="37368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9200" y="1549440"/>
            <a:ext cx="37368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14320" y="-360"/>
            <a:ext cx="763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14320" y="-360"/>
            <a:ext cx="76392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9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14320" y="-360"/>
            <a:ext cx="763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5200" y="1549440"/>
            <a:ext cx="37368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9200" y="1549440"/>
            <a:ext cx="37368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5200" y="3465000"/>
            <a:ext cx="37368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14320" y="-360"/>
            <a:ext cx="763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5200" y="1549440"/>
            <a:ext cx="7657920" cy="36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9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14320" y="-360"/>
            <a:ext cx="763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5200" y="1549440"/>
            <a:ext cx="37368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9200" y="1549440"/>
            <a:ext cx="37368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9200" y="3465000"/>
            <a:ext cx="37368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14320" y="-360"/>
            <a:ext cx="763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5200" y="1549440"/>
            <a:ext cx="37368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9200" y="1549440"/>
            <a:ext cx="37368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5200" y="3465000"/>
            <a:ext cx="765792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14320" y="-360"/>
            <a:ext cx="763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5200" y="1549440"/>
            <a:ext cx="765792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5200" y="3465000"/>
            <a:ext cx="765792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14320" y="-360"/>
            <a:ext cx="763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5200" y="1549440"/>
            <a:ext cx="37368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9200" y="1549440"/>
            <a:ext cx="37368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5200" y="3465000"/>
            <a:ext cx="37368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9200" y="3465000"/>
            <a:ext cx="37368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14320" y="-360"/>
            <a:ext cx="763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5200" y="1549440"/>
            <a:ext cx="246564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24680" y="1549440"/>
            <a:ext cx="246564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3800" y="1549440"/>
            <a:ext cx="246564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5200" y="3465000"/>
            <a:ext cx="246564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24680" y="3465000"/>
            <a:ext cx="246564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3800" y="3465000"/>
            <a:ext cx="246564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14320" y="-360"/>
            <a:ext cx="763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5200" y="1549440"/>
            <a:ext cx="765792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14320" y="-360"/>
            <a:ext cx="763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5200" y="1549440"/>
            <a:ext cx="37368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9200" y="1549440"/>
            <a:ext cx="37368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14320" y="-360"/>
            <a:ext cx="763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14320" y="-360"/>
            <a:ext cx="76392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9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14320" y="-360"/>
            <a:ext cx="763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5200" y="1549440"/>
            <a:ext cx="37368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9200" y="1549440"/>
            <a:ext cx="37368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5200" y="3465000"/>
            <a:ext cx="37368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14320" y="-360"/>
            <a:ext cx="763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5200" y="1549440"/>
            <a:ext cx="37368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9200" y="1549440"/>
            <a:ext cx="37368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9200" y="3465000"/>
            <a:ext cx="37368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14320" y="-360"/>
            <a:ext cx="763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5200" y="1549440"/>
            <a:ext cx="37368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9200" y="1549440"/>
            <a:ext cx="37368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5200" y="3465000"/>
            <a:ext cx="765792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4320" y="-360"/>
            <a:ext cx="763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2d5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5200" y="1549440"/>
            <a:ext cx="765792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lvl="1" marL="743040" indent="-28584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lvl="2" marL="1143000" indent="-22860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lvl="3" marL="1600200" indent="-22860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lvl="4" marL="2057400" indent="-22860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lvl="5" marL="2057400" indent="-228600">
              <a:lnSpc>
                <a:spcPts val="2200"/>
              </a:lnSpc>
              <a:spcBef>
                <a:spcPts val="550"/>
              </a:spcBef>
              <a:buClr>
                <a:srgbClr val="afafa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lvl="6" marL="2057400" indent="-228600">
              <a:lnSpc>
                <a:spcPts val="2200"/>
              </a:lnSpc>
              <a:spcBef>
                <a:spcPts val="550"/>
              </a:spcBef>
              <a:buClr>
                <a:srgbClr val="afafa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35472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2d50"/>
                </a:solidFill>
                <a:latin typeface="Arial"/>
              </a:rPr>
              <a:t>Slide </a:t>
            </a:r>
            <a:fld id="{7C01530A-A8AB-4B47-B97E-0A4E1FD3D060}" type="slidenum">
              <a:rPr b="0" lang="en-US" sz="1200" spc="-1" strike="noStrike">
                <a:solidFill>
                  <a:srgbClr val="012d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765000"/>
            <a:ext cx="9144000" cy="71640"/>
          </a:xfrm>
          <a:prstGeom prst="rect">
            <a:avLst/>
          </a:prstGeom>
          <a:gradFill rotWithShape="0">
            <a:gsLst>
              <a:gs pos="0">
                <a:srgbClr val="081d58"/>
              </a:gs>
              <a:gs pos="50000">
                <a:srgbClr val="828daa"/>
              </a:gs>
              <a:gs pos="100000">
                <a:srgbClr val="081d5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38080" cy="68580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152280"/>
            <a:ext cx="838080" cy="66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08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380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152280"/>
            <a:ext cx="838080" cy="669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ts val="1899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ts val="1899"/>
              </a:lnSpc>
              <a:spcBef>
                <a:spcPts val="176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ts val="1899"/>
              </a:lnSpc>
              <a:spcBef>
                <a:spcPts val="176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afafa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afafa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7.jpe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2240" y="2666880"/>
            <a:ext cx="832176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sion of the South African Pavement Design Method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uw Kannemey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14320" y="-360"/>
            <a:ext cx="763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12d50"/>
                </a:solidFill>
                <a:latin typeface="Arial"/>
              </a:rPr>
              <a:t>Time-frame for R&amp;D process</a:t>
            </a: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63640" y="1557360"/>
          <a:ext cx="7596000" cy="3684600"/>
        </p:xfrm>
        <a:graphic>
          <a:graphicData uri="http://schemas.openxmlformats.org/drawingml/2006/table">
            <a:tbl>
              <a:tblPr/>
              <a:tblGrid>
                <a:gridCol w="3779640"/>
                <a:gridCol w="3816360"/>
              </a:tblGrid>
              <a:tr h="934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12d50"/>
                          </a:solidFill>
                          <a:latin typeface="Arial"/>
                        </a:rPr>
                        <a:t>Immediate</a:t>
                      </a:r>
                      <a:endParaRPr b="0" lang="en-US" sz="2400" spc="-1" strike="noStrike">
                        <a:solidFill>
                          <a:srgbClr val="afafa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fafaf"/>
                      </a:solidFill>
                    </a:lnL>
                    <a:lnR w="5760">
                      <a:solidFill>
                        <a:srgbClr val="afafaf"/>
                      </a:solidFill>
                    </a:lnR>
                    <a:lnT w="13680">
                      <a:solidFill>
                        <a:srgbClr val="afafaf"/>
                      </a:solidFill>
                    </a:lnT>
                    <a:lnB w="5760">
                      <a:solidFill>
                        <a:srgbClr val="afafa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12d50"/>
                          </a:solidFill>
                          <a:latin typeface="Arial"/>
                        </a:rPr>
                        <a:t>12 to 18 months</a:t>
                      </a:r>
                      <a:endParaRPr b="0" lang="en-US" sz="2400" spc="-1" strike="noStrike">
                        <a:solidFill>
                          <a:srgbClr val="afafa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fafaf"/>
                      </a:solidFill>
                    </a:lnL>
                    <a:lnR w="13680">
                      <a:solidFill>
                        <a:srgbClr val="afafaf"/>
                      </a:solidFill>
                    </a:lnR>
                    <a:lnT w="13680">
                      <a:solidFill>
                        <a:srgbClr val="afafaf"/>
                      </a:solidFill>
                    </a:lnT>
                    <a:lnB w="5760">
                      <a:solidFill>
                        <a:srgbClr val="afafaf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12d50"/>
                          </a:solidFill>
                          <a:latin typeface="Arial"/>
                        </a:rPr>
                        <a:t>Short-term</a:t>
                      </a:r>
                      <a:endParaRPr b="0" lang="en-US" sz="2400" spc="-1" strike="noStrike">
                        <a:solidFill>
                          <a:srgbClr val="afafa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fafaf"/>
                      </a:solidFill>
                    </a:lnL>
                    <a:lnR w="5760">
                      <a:solidFill>
                        <a:srgbClr val="afafaf"/>
                      </a:solidFill>
                    </a:lnR>
                    <a:lnT w="5760">
                      <a:solidFill>
                        <a:srgbClr val="afafaf"/>
                      </a:solidFill>
                    </a:lnT>
                    <a:lnB w="5760">
                      <a:solidFill>
                        <a:srgbClr val="afafa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12d50"/>
                          </a:solidFill>
                          <a:latin typeface="Arial"/>
                        </a:rPr>
                        <a:t>3 to 5 years</a:t>
                      </a:r>
                      <a:endParaRPr b="0" lang="en-US" sz="2400" spc="-1" strike="noStrike">
                        <a:solidFill>
                          <a:srgbClr val="afafa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1.5 to 3 years)</a:t>
                      </a:r>
                      <a:endParaRPr b="0" lang="en-US" sz="2400" spc="-1" strike="noStrike">
                        <a:solidFill>
                          <a:srgbClr val="afafa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fafaf"/>
                      </a:solidFill>
                    </a:lnL>
                    <a:lnR w="13680">
                      <a:solidFill>
                        <a:srgbClr val="afafaf"/>
                      </a:solidFill>
                    </a:lnR>
                    <a:lnT w="5760">
                      <a:solidFill>
                        <a:srgbClr val="afafaf"/>
                      </a:solidFill>
                    </a:lnT>
                    <a:lnB w="5760">
                      <a:solidFill>
                        <a:srgbClr val="afafaf"/>
                      </a:solidFill>
                    </a:lnB>
                    <a:noFill/>
                  </a:tcPr>
                </a:tc>
              </a:tr>
              <a:tr h="917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12d50"/>
                          </a:solidFill>
                          <a:latin typeface="Arial"/>
                        </a:rPr>
                        <a:t>Medium-term</a:t>
                      </a:r>
                      <a:endParaRPr b="0" lang="en-US" sz="2400" spc="-1" strike="noStrike">
                        <a:solidFill>
                          <a:srgbClr val="afafa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fafaf"/>
                      </a:solidFill>
                    </a:lnL>
                    <a:lnR w="5760">
                      <a:solidFill>
                        <a:srgbClr val="afafaf"/>
                      </a:solidFill>
                    </a:lnR>
                    <a:lnT w="5760">
                      <a:solidFill>
                        <a:srgbClr val="afafaf"/>
                      </a:solidFill>
                    </a:lnT>
                    <a:lnB w="5760">
                      <a:solidFill>
                        <a:srgbClr val="afafa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12d50"/>
                          </a:solidFill>
                          <a:latin typeface="Arial"/>
                        </a:rPr>
                        <a:t>5 to 8 years</a:t>
                      </a:r>
                      <a:endParaRPr b="0" lang="en-US" sz="2400" spc="-1" strike="noStrike">
                        <a:solidFill>
                          <a:srgbClr val="afafa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3 to 5 years)</a:t>
                      </a:r>
                      <a:endParaRPr b="0" lang="en-US" sz="2400" spc="-1" strike="noStrike">
                        <a:solidFill>
                          <a:srgbClr val="afafa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fafaf"/>
                      </a:solidFill>
                    </a:lnL>
                    <a:lnR w="13680">
                      <a:solidFill>
                        <a:srgbClr val="afafaf"/>
                      </a:solidFill>
                    </a:lnR>
                    <a:lnT w="5760">
                      <a:solidFill>
                        <a:srgbClr val="afafaf"/>
                      </a:solidFill>
                    </a:lnT>
                    <a:lnB w="5760">
                      <a:solidFill>
                        <a:srgbClr val="afafaf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12d50"/>
                          </a:solidFill>
                          <a:latin typeface="Arial"/>
                        </a:rPr>
                        <a:t>Long-term</a:t>
                      </a:r>
                      <a:endParaRPr b="0" lang="en-US" sz="2400" spc="-1" strike="noStrike">
                        <a:solidFill>
                          <a:srgbClr val="afafa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fafaf"/>
                      </a:solidFill>
                    </a:lnL>
                    <a:lnR w="5760">
                      <a:solidFill>
                        <a:srgbClr val="afafaf"/>
                      </a:solidFill>
                    </a:lnR>
                    <a:lnT w="5760">
                      <a:solidFill>
                        <a:srgbClr val="afafaf"/>
                      </a:solidFill>
                    </a:lnT>
                    <a:lnB w="13680">
                      <a:solidFill>
                        <a:srgbClr val="afafa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12d50"/>
                          </a:solidFill>
                          <a:latin typeface="Arial"/>
                        </a:rPr>
                        <a:t>8 to 12 years</a:t>
                      </a:r>
                      <a:endParaRPr b="0" lang="en-US" sz="2400" spc="-1" strike="noStrike">
                        <a:solidFill>
                          <a:srgbClr val="afafa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&gt;5 Years</a:t>
                      </a:r>
                      <a:endParaRPr b="0" lang="en-US" sz="2400" spc="-1" strike="noStrike">
                        <a:solidFill>
                          <a:srgbClr val="afafa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fafaf"/>
                      </a:solidFill>
                    </a:lnL>
                    <a:lnR w="13680">
                      <a:solidFill>
                        <a:srgbClr val="afafaf"/>
                      </a:solidFill>
                    </a:lnR>
                    <a:lnT w="5760">
                      <a:solidFill>
                        <a:srgbClr val="afafaf"/>
                      </a:solidFill>
                    </a:lnT>
                    <a:lnB w="13680">
                      <a:solidFill>
                        <a:srgbClr val="afafa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14320" y="-360"/>
            <a:ext cx="763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12d50"/>
                </a:solidFill>
                <a:latin typeface="Arial"/>
              </a:rPr>
              <a:t>R&amp;D Process</a:t>
            </a: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16120" y="1053720"/>
            <a:ext cx="7572240" cy="36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2d50"/>
                </a:solidFill>
                <a:latin typeface="Arial"/>
              </a:rPr>
              <a:t>Project funding and contracts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lvl="1" marL="743040" indent="-2858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nding organisations will sponsor projects of interest to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act between service provider and project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2d50"/>
                </a:solidFill>
                <a:latin typeface="Arial"/>
              </a:rPr>
              <a:t>Project management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lvl="1" marL="743040" indent="-2858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hase 1 – Develop Detailed Project Briefs -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hase 2 - Inception Phase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(In Progress – 27</a:t>
            </a:r>
            <a:r>
              <a:rPr b="0" lang="en-GB" sz="1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Jun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vestigate available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nalize project 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nalize cost and resource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hase 3 – Delivery of immediate, short, medium deliverable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(Anticipated Start Date – November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14320" y="-360"/>
            <a:ext cx="763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12d50"/>
                </a:solidFill>
                <a:latin typeface="Arial"/>
              </a:rPr>
              <a:t>R&amp;D Process (continued)</a:t>
            </a: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16120" y="1006560"/>
            <a:ext cx="77724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2d50"/>
                </a:solidFill>
                <a:latin typeface="Arial"/>
              </a:rPr>
              <a:t>Overarching integration level project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lvl="1" marL="743040" indent="-2858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ration of output from various ME-design related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ration of performance based information system with ME-design components in a single design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2d50"/>
                </a:solidFill>
                <a:latin typeface="Arial"/>
              </a:rPr>
              <a:t>Delivery mechanisms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lvl="1" marL="743040" indent="-2858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bsite for tracking progress on R&amp;D process and sharing gener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y content (documents and software) developed as part of the project available for use on the project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mediate, short, medium and long-term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r-manual with an overview of the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tail technical documents on individual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chnical guidelines, test protocols and method spec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106200"/>
            <a:ext cx="8112240" cy="675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602160" y="736560"/>
            <a:ext cx="1284120" cy="4640400"/>
          </a:xfrm>
          <a:prstGeom prst="rect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70320" y="1241280"/>
            <a:ext cx="3195720" cy="42339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0000" y="1019160"/>
            <a:ext cx="2923920" cy="755640"/>
          </a:xfrm>
          <a:prstGeom prst="rect">
            <a:avLst/>
          </a:prstGeom>
          <a:solidFill>
            <a:srgbClr val="cc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3120" y="1808280"/>
            <a:ext cx="2921040" cy="4763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19400" y="541440"/>
            <a:ext cx="0" cy="6068880"/>
          </a:xfrm>
          <a:prstGeom prst="line">
            <a:avLst/>
          </a:prstGeom>
          <a:ln w="1908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78080" y="3005280"/>
            <a:ext cx="763560" cy="30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8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78080" y="4294080"/>
            <a:ext cx="765000" cy="3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isture</a:t>
            </a:r>
            <a:endParaRPr b="0" lang="en-US" sz="800" spc="-1" strike="noStrike">
              <a:solidFill>
                <a:srgbClr val="afafa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8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78080" y="4600440"/>
            <a:ext cx="765000" cy="3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8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378080" y="3678120"/>
            <a:ext cx="765000" cy="3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ding</a:t>
            </a:r>
            <a:endParaRPr b="0" lang="en-US" sz="8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78080" y="3986280"/>
            <a:ext cx="765000" cy="30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terberg</a:t>
            </a:r>
            <a:endParaRPr b="0" lang="en-US" sz="800" spc="-1" strike="noStrike">
              <a:solidFill>
                <a:srgbClr val="afafa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8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78080" y="2397240"/>
            <a:ext cx="763560" cy="30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inder</a:t>
            </a:r>
            <a:endParaRPr b="0" lang="en-US" sz="800" spc="-1" strike="noStrike">
              <a:solidFill>
                <a:srgbClr val="afafa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8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378080" y="2698920"/>
            <a:ext cx="763560" cy="30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inder</a:t>
            </a:r>
            <a:endParaRPr b="0" lang="en-US" sz="800" spc="-1" strike="noStrike">
              <a:solidFill>
                <a:srgbClr val="afafa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8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58960" y="625320"/>
            <a:ext cx="2187360" cy="308160"/>
          </a:xfrm>
          <a:prstGeom prst="rect">
            <a:avLst/>
          </a:prstGeom>
          <a:solidFill>
            <a:srgbClr val="c0c0c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8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78080" y="1101600"/>
            <a:ext cx="1644480" cy="3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B/2006/A-2</a:t>
            </a:r>
            <a:endParaRPr b="0" lang="en-US" sz="10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78080" y="3313080"/>
            <a:ext cx="763560" cy="3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ther?</a:t>
            </a:r>
            <a:endParaRPr b="0" lang="en-US" sz="8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78080" y="4905360"/>
            <a:ext cx="765000" cy="3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ther?</a:t>
            </a:r>
            <a:endParaRPr b="0" lang="en-US" sz="8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78080" y="1411200"/>
            <a:ext cx="1644480" cy="3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B/2006/A-1</a:t>
            </a:r>
            <a:endParaRPr b="0" lang="en-US" sz="10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8080" y="2092320"/>
            <a:ext cx="763560" cy="3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ding</a:t>
            </a:r>
            <a:endParaRPr b="0" lang="en-US" sz="8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79520" y="2093760"/>
            <a:ext cx="765360" cy="15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B/2006/B-1b</a:t>
            </a:r>
            <a:endParaRPr b="0" lang="en-US" sz="10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79520" y="3692520"/>
            <a:ext cx="765360" cy="151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B/2006/B-1a</a:t>
            </a:r>
            <a:endParaRPr b="0" lang="en-US" sz="10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79520" y="5288040"/>
            <a:ext cx="765360" cy="11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B/2006/B-1c</a:t>
            </a:r>
            <a:endParaRPr b="0" lang="en-US" sz="10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78080" y="5278320"/>
            <a:ext cx="765000" cy="3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CS</a:t>
            </a:r>
            <a:endParaRPr b="0" lang="en-US" sz="8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78080" y="5584680"/>
            <a:ext cx="765000" cy="3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ess and </a:t>
            </a:r>
            <a:endParaRPr b="0" lang="en-US" sz="800" spc="-1" strike="noStrike">
              <a:solidFill>
                <a:srgbClr val="afafa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ain at break</a:t>
            </a:r>
            <a:endParaRPr b="0" lang="en-US" sz="8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78080" y="5889600"/>
            <a:ext cx="765000" cy="3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ime/previous</a:t>
            </a:r>
            <a:endParaRPr b="0" lang="en-US" sz="800" spc="-1" strike="noStrike">
              <a:solidFill>
                <a:srgbClr val="afafa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ading</a:t>
            </a:r>
            <a:endParaRPr b="0" lang="en-US" sz="8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6200000">
            <a:off x="482760" y="2730240"/>
            <a:ext cx="1533240" cy="25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MA</a:t>
            </a:r>
            <a:endParaRPr b="0" lang="en-US" sz="8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6200000">
            <a:off x="480240" y="4320000"/>
            <a:ext cx="1538280" cy="25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nbound</a:t>
            </a:r>
            <a:endParaRPr b="0" lang="en-US" sz="8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6200000">
            <a:off x="640440" y="5758560"/>
            <a:ext cx="1217520" cy="25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bilized</a:t>
            </a:r>
            <a:endParaRPr b="0" lang="en-US" sz="8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-1207080" y="4164120"/>
            <a:ext cx="4405320" cy="2541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B/2006/B-4</a:t>
            </a:r>
            <a:endParaRPr b="0" lang="en-US" sz="10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1101600"/>
            <a:ext cx="976320" cy="61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B/2006/A-3</a:t>
            </a:r>
            <a:endParaRPr b="0" lang="en-US" sz="1000" spc="-1" strike="noStrike">
              <a:solidFill>
                <a:srgbClr val="afafa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B/2006/A-4</a:t>
            </a:r>
            <a:endParaRPr b="0" lang="en-US" sz="10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71800" y="1803240"/>
            <a:ext cx="765360" cy="327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B/2006/C-1</a:t>
            </a:r>
            <a:endParaRPr b="0" lang="en-US" sz="1000" spc="-1" strike="noStrike">
              <a:solidFill>
                <a:srgbClr val="afafa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afafa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afafa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afafa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afafa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afafa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afafa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B/2006/C-3</a:t>
            </a:r>
            <a:endParaRPr b="0" lang="en-US" sz="1000" spc="-1" strike="noStrike">
              <a:solidFill>
                <a:srgbClr val="afafa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afafa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afafa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afafa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afafa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afafa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B/2006/C-4</a:t>
            </a:r>
            <a:endParaRPr b="0" lang="en-US" sz="1000" spc="-1" strike="noStrike">
              <a:solidFill>
                <a:srgbClr val="afafa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afafa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afafa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afafa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afafa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afafa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afafa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B/2006/C-5</a:t>
            </a:r>
            <a:endParaRPr b="0" lang="en-US" sz="1000" spc="-1" strike="noStrike">
              <a:solidFill>
                <a:srgbClr val="afafaf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185" idx="3"/>
            <a:endCxn id="202" idx="1"/>
          </p:cNvCxnSpPr>
          <p:nvPr/>
        </p:nvCxnSpPr>
        <p:spPr>
          <a:xfrm>
            <a:off x="3045960" y="779400"/>
            <a:ext cx="826200" cy="26596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04" name=""/>
          <p:cNvCxnSpPr>
            <a:stCxn id="186" idx="3"/>
            <a:endCxn id="202" idx="1"/>
          </p:cNvCxnSpPr>
          <p:nvPr/>
        </p:nvCxnSpPr>
        <p:spPr>
          <a:xfrm>
            <a:off x="3022200" y="1255320"/>
            <a:ext cx="849960" cy="21834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05" name=""/>
          <p:cNvCxnSpPr>
            <a:stCxn id="191" idx="3"/>
            <a:endCxn id="202" idx="1"/>
          </p:cNvCxnSpPr>
          <p:nvPr/>
        </p:nvCxnSpPr>
        <p:spPr>
          <a:xfrm>
            <a:off x="3044520" y="2858760"/>
            <a:ext cx="827640" cy="57996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06" name=""/>
          <p:cNvCxnSpPr>
            <a:stCxn id="192" idx="3"/>
            <a:endCxn id="202" idx="1"/>
          </p:cNvCxnSpPr>
          <p:nvPr/>
        </p:nvCxnSpPr>
        <p:spPr>
          <a:xfrm flipV="1">
            <a:off x="3044520" y="3438000"/>
            <a:ext cx="827640" cy="10152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07" name=""/>
          <p:cNvCxnSpPr>
            <a:stCxn id="193" idx="3"/>
            <a:endCxn id="202" idx="1"/>
          </p:cNvCxnSpPr>
          <p:nvPr/>
        </p:nvCxnSpPr>
        <p:spPr>
          <a:xfrm flipV="1">
            <a:off x="3044520" y="3437640"/>
            <a:ext cx="827640" cy="244404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08" name=""/>
          <p:cNvCxnSpPr>
            <a:stCxn id="189" idx="3"/>
            <a:endCxn id="202" idx="1"/>
          </p:cNvCxnSpPr>
          <p:nvPr/>
        </p:nvCxnSpPr>
        <p:spPr>
          <a:xfrm>
            <a:off x="3022200" y="1564920"/>
            <a:ext cx="849960" cy="18738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09" name=""/>
          <p:cNvSpPr/>
          <p:nvPr/>
        </p:nvSpPr>
        <p:spPr>
          <a:xfrm>
            <a:off x="2251080" y="1793880"/>
            <a:ext cx="8859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silient</a:t>
            </a:r>
            <a:endParaRPr b="0" lang="en-US" sz="800" spc="-1" strike="noStrike">
              <a:solidFill>
                <a:srgbClr val="afafa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sponse models</a:t>
            </a:r>
            <a:endParaRPr b="0" lang="en-US" sz="8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84800" y="1289160"/>
            <a:ext cx="8859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amage models</a:t>
            </a:r>
            <a:endParaRPr b="0" lang="en-US" sz="8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827680" y="1552680"/>
            <a:ext cx="1089000" cy="1222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B/2006/D-1</a:t>
            </a:r>
            <a:endParaRPr b="0" lang="en-US" sz="9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16200000">
            <a:off x="4837680" y="2040120"/>
            <a:ext cx="1227240" cy="254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MA</a:t>
            </a:r>
            <a:endParaRPr b="0" lang="en-US" sz="8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6200000">
            <a:off x="5145840" y="2958120"/>
            <a:ext cx="611280" cy="254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nbound</a:t>
            </a:r>
            <a:endParaRPr b="0" lang="en-US" sz="8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827680" y="2778120"/>
            <a:ext cx="1089000" cy="60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B/2006/D-2</a:t>
            </a:r>
            <a:endParaRPr b="0" lang="en-US" sz="10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78080" y="6197760"/>
            <a:ext cx="76500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ther?</a:t>
            </a:r>
            <a:endParaRPr b="0" lang="en-US" sz="8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4837680" y="3872160"/>
            <a:ext cx="1227240" cy="254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bilized</a:t>
            </a:r>
            <a:endParaRPr b="0" lang="en-US" sz="8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27680" y="3386160"/>
            <a:ext cx="1089000" cy="121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B/2006/D-3</a:t>
            </a:r>
            <a:endParaRPr b="0" lang="en-US" sz="10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16200000">
            <a:off x="5131440" y="4783320"/>
            <a:ext cx="639720" cy="254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ubgrade</a:t>
            </a:r>
            <a:endParaRPr b="0" lang="en-US" sz="8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27680" y="4597560"/>
            <a:ext cx="1089000" cy="63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B/2006/D-2</a:t>
            </a:r>
            <a:endParaRPr b="0" lang="en-US" sz="10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75400" y="1855800"/>
            <a:ext cx="765360" cy="327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B/2006/E-3</a:t>
            </a:r>
            <a:endParaRPr b="0" lang="en-US" sz="1000" spc="-1" strike="noStrike">
              <a:solidFill>
                <a:srgbClr val="afafaf"/>
              </a:solidFill>
              <a:latin typeface="Arial"/>
            </a:endParaRPr>
          </a:p>
        </p:txBody>
      </p:sp>
      <p:cxnSp>
        <p:nvCxnSpPr>
          <p:cNvPr id="221" name=""/>
          <p:cNvCxnSpPr>
            <a:stCxn id="202" idx="3"/>
            <a:endCxn id="212" idx="0"/>
          </p:cNvCxnSpPr>
          <p:nvPr/>
        </p:nvCxnSpPr>
        <p:spPr>
          <a:xfrm flipV="1">
            <a:off x="4637160" y="2167920"/>
            <a:ext cx="689760" cy="127044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22" name=""/>
          <p:cNvCxnSpPr>
            <a:stCxn id="202" idx="3"/>
            <a:endCxn id="213" idx="0"/>
          </p:cNvCxnSpPr>
          <p:nvPr/>
        </p:nvCxnSpPr>
        <p:spPr>
          <a:xfrm flipV="1">
            <a:off x="4637160" y="3085920"/>
            <a:ext cx="689760" cy="3528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23" name=""/>
          <p:cNvCxnSpPr>
            <a:stCxn id="202" idx="3"/>
            <a:endCxn id="216" idx="0"/>
          </p:cNvCxnSpPr>
          <p:nvPr/>
        </p:nvCxnSpPr>
        <p:spPr>
          <a:xfrm>
            <a:off x="4637160" y="3438360"/>
            <a:ext cx="689760" cy="56304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24" name=""/>
          <p:cNvCxnSpPr>
            <a:stCxn id="202" idx="3"/>
            <a:endCxn id="218" idx="0"/>
          </p:cNvCxnSpPr>
          <p:nvPr/>
        </p:nvCxnSpPr>
        <p:spPr>
          <a:xfrm>
            <a:off x="4637160" y="3438000"/>
            <a:ext cx="689760" cy="14742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25" name=""/>
          <p:cNvCxnSpPr>
            <a:stCxn id="200" idx="0"/>
            <a:endCxn id="218" idx="1"/>
          </p:cNvCxnSpPr>
          <p:nvPr/>
        </p:nvCxnSpPr>
        <p:spPr>
          <a:xfrm flipH="1" flipV="1" rot="10800000">
            <a:off x="869760" y="4292280"/>
            <a:ext cx="4583520" cy="940320"/>
          </a:xfrm>
          <a:prstGeom prst="bentConnector4">
            <a:avLst>
              <a:gd name="adj1" fmla="val -5019"/>
              <a:gd name="adj2" fmla="val 258406"/>
            </a:avLst>
          </a:prstGeom>
          <a:ln w="12600">
            <a:solidFill>
              <a:srgbClr val="000000"/>
            </a:solidFill>
            <a:prstDash val="lgDash"/>
            <a:miter/>
            <a:tailEnd len="lg" type="stealth" w="med"/>
          </a:ln>
        </p:spPr>
      </p:cxnSp>
      <p:cxnSp>
        <p:nvCxnSpPr>
          <p:cNvPr id="226" name=""/>
          <p:cNvCxnSpPr>
            <a:stCxn id="211" idx="3"/>
            <a:endCxn id="220" idx="1"/>
          </p:cNvCxnSpPr>
          <p:nvPr/>
        </p:nvCxnSpPr>
        <p:spPr>
          <a:xfrm>
            <a:off x="6916680" y="2163240"/>
            <a:ext cx="559080" cy="132804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27" name=""/>
          <p:cNvCxnSpPr>
            <a:stCxn id="214" idx="3"/>
            <a:endCxn id="220" idx="1"/>
          </p:cNvCxnSpPr>
          <p:nvPr/>
        </p:nvCxnSpPr>
        <p:spPr>
          <a:xfrm>
            <a:off x="6916680" y="3079800"/>
            <a:ext cx="559080" cy="41184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28" name=""/>
          <p:cNvCxnSpPr>
            <a:stCxn id="217" idx="3"/>
            <a:endCxn id="220" idx="1"/>
          </p:cNvCxnSpPr>
          <p:nvPr/>
        </p:nvCxnSpPr>
        <p:spPr>
          <a:xfrm flipV="1">
            <a:off x="6916680" y="3490560"/>
            <a:ext cx="559080" cy="50184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29" name=""/>
          <p:cNvCxnSpPr>
            <a:stCxn id="219" idx="3"/>
            <a:endCxn id="220" idx="1"/>
          </p:cNvCxnSpPr>
          <p:nvPr/>
        </p:nvCxnSpPr>
        <p:spPr>
          <a:xfrm flipV="1">
            <a:off x="6916680" y="3490200"/>
            <a:ext cx="559080" cy="1423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30" name=""/>
          <p:cNvSpPr/>
          <p:nvPr/>
        </p:nvSpPr>
        <p:spPr>
          <a:xfrm flipH="1" rot="16200000">
            <a:off x="3857400" y="747000"/>
            <a:ext cx="808200" cy="1352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800" spc="-1" strike="noStrike">
              <a:solidFill>
                <a:srgbClr val="afafa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8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5280" y="139680"/>
            <a:ext cx="8062920" cy="28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B/2006/E-1 and PB/2006/E-2</a:t>
            </a:r>
            <a:endParaRPr b="0" lang="en-US" sz="10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27320" y="2093760"/>
            <a:ext cx="289080" cy="437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B/2006/B-2 and PB/2006/B-3</a:t>
            </a:r>
            <a:endParaRPr b="0" lang="en-US" sz="10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82960" y="5597640"/>
            <a:ext cx="758880" cy="67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B/2006/C-2</a:t>
            </a:r>
            <a:endParaRPr b="0" lang="en-US" sz="1000" spc="-1" strike="noStrike">
              <a:solidFill>
                <a:srgbClr val="afafaf"/>
              </a:solidFill>
              <a:latin typeface="Arial"/>
            </a:endParaRPr>
          </a:p>
        </p:txBody>
      </p:sp>
      <p:cxnSp>
        <p:nvCxnSpPr>
          <p:cNvPr id="234" name=""/>
          <p:cNvCxnSpPr>
            <a:stCxn id="202" idx="2"/>
            <a:endCxn id="233" idx="0"/>
          </p:cNvCxnSpPr>
          <p:nvPr/>
        </p:nvCxnSpPr>
        <p:spPr>
          <a:xfrm>
            <a:off x="4254480" y="5073480"/>
            <a:ext cx="8640" cy="524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235" name=""/>
          <p:cNvCxnSpPr>
            <a:stCxn id="231" idx="1"/>
            <a:endCxn id="178" idx="1"/>
          </p:cNvCxnSpPr>
          <p:nvPr/>
        </p:nvCxnSpPr>
        <p:spPr>
          <a:xfrm flipH="1" flipV="1" rot="10800000">
            <a:off x="394920" y="280800"/>
            <a:ext cx="983520" cy="2878560"/>
          </a:xfrm>
          <a:prstGeom prst="bentConnector3">
            <a:avLst>
              <a:gd name="adj1" fmla="val -2325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36" name=""/>
          <p:cNvCxnSpPr>
            <a:stCxn id="231" idx="1"/>
            <a:endCxn id="198" idx="2"/>
          </p:cNvCxnSpPr>
          <p:nvPr/>
        </p:nvCxnSpPr>
        <p:spPr>
          <a:xfrm flipH="1" flipV="1" rot="10800000">
            <a:off x="394920" y="280080"/>
            <a:ext cx="983520" cy="4167720"/>
          </a:xfrm>
          <a:prstGeom prst="bentConnector5">
            <a:avLst>
              <a:gd name="adj1" fmla="val -23251"/>
              <a:gd name="adj2" fmla="val 42398"/>
              <a:gd name="adj3" fmla="val -2339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37" name=""/>
          <p:cNvCxnSpPr>
            <a:stCxn id="231" idx="1"/>
            <a:endCxn id="180" idx="1"/>
          </p:cNvCxnSpPr>
          <p:nvPr/>
        </p:nvCxnSpPr>
        <p:spPr>
          <a:xfrm flipH="1" flipV="1" rot="10800000">
            <a:off x="394920" y="280800"/>
            <a:ext cx="983520" cy="4474080"/>
          </a:xfrm>
          <a:prstGeom prst="bentConnector3">
            <a:avLst>
              <a:gd name="adj1" fmla="val -2325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38" name=""/>
          <p:cNvCxnSpPr>
            <a:stCxn id="231" idx="1"/>
            <a:endCxn id="185" idx="1"/>
          </p:cNvCxnSpPr>
          <p:nvPr/>
        </p:nvCxnSpPr>
        <p:spPr>
          <a:xfrm flipH="1" flipV="1" rot="10800000">
            <a:off x="394920" y="280800"/>
            <a:ext cx="464400" cy="498960"/>
          </a:xfrm>
          <a:prstGeom prst="bentConnector3">
            <a:avLst>
              <a:gd name="adj1" fmla="val -49262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39" name=""/>
          <p:cNvCxnSpPr>
            <a:stCxn id="231" idx="3"/>
            <a:endCxn id="220" idx="3"/>
          </p:cNvCxnSpPr>
          <p:nvPr/>
        </p:nvCxnSpPr>
        <p:spPr>
          <a:xfrm flipH="1">
            <a:off x="8240400" y="281160"/>
            <a:ext cx="218160" cy="3210480"/>
          </a:xfrm>
          <a:prstGeom prst="bentConnector3">
            <a:avLst>
              <a:gd name="adj1" fmla="val -104297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240" name=""/>
          <p:cNvSpPr/>
          <p:nvPr/>
        </p:nvSpPr>
        <p:spPr>
          <a:xfrm rot="16200000">
            <a:off x="3862440" y="3267000"/>
            <a:ext cx="3676320" cy="2538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B/2006/B-4</a:t>
            </a:r>
            <a:endParaRPr b="0" lang="en-US" sz="1000" spc="-1" strike="noStrike">
              <a:solidFill>
                <a:srgbClr val="afafaf"/>
              </a:solidFill>
              <a:latin typeface="Arial"/>
            </a:endParaRPr>
          </a:p>
        </p:txBody>
      </p:sp>
      <p:cxnSp>
        <p:nvCxnSpPr>
          <p:cNvPr id="241" name=""/>
          <p:cNvCxnSpPr>
            <a:stCxn id="231" idx="1"/>
            <a:endCxn id="190" idx="1"/>
          </p:cNvCxnSpPr>
          <p:nvPr/>
        </p:nvCxnSpPr>
        <p:spPr>
          <a:xfrm flipH="1" flipV="1" rot="10800000">
            <a:off x="394920" y="280080"/>
            <a:ext cx="983520" cy="1965960"/>
          </a:xfrm>
          <a:prstGeom prst="bentConnector3">
            <a:avLst>
              <a:gd name="adj1" fmla="val -2325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42" name=""/>
          <p:cNvCxnSpPr>
            <a:stCxn id="231" idx="1"/>
            <a:endCxn id="183" idx="1"/>
          </p:cNvCxnSpPr>
          <p:nvPr/>
        </p:nvCxnSpPr>
        <p:spPr>
          <a:xfrm flipH="1" flipV="1" rot="10800000">
            <a:off x="394920" y="280080"/>
            <a:ext cx="983520" cy="2270520"/>
          </a:xfrm>
          <a:prstGeom prst="bentConnector3">
            <a:avLst>
              <a:gd name="adj1" fmla="val -2325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43" name=""/>
          <p:cNvCxnSpPr>
            <a:stCxn id="231" idx="1"/>
            <a:endCxn id="184" idx="1"/>
          </p:cNvCxnSpPr>
          <p:nvPr/>
        </p:nvCxnSpPr>
        <p:spPr>
          <a:xfrm flipH="1" flipV="1" rot="10800000">
            <a:off x="394920" y="280080"/>
            <a:ext cx="983520" cy="2572200"/>
          </a:xfrm>
          <a:prstGeom prst="bentConnector3">
            <a:avLst>
              <a:gd name="adj1" fmla="val -2325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44" name=""/>
          <p:cNvCxnSpPr>
            <a:stCxn id="231" idx="1"/>
            <a:endCxn id="181" idx="1"/>
          </p:cNvCxnSpPr>
          <p:nvPr/>
        </p:nvCxnSpPr>
        <p:spPr>
          <a:xfrm flipH="1" flipV="1" rot="10800000">
            <a:off x="394920" y="280800"/>
            <a:ext cx="983520" cy="3551760"/>
          </a:xfrm>
          <a:prstGeom prst="bentConnector3">
            <a:avLst>
              <a:gd name="adj1" fmla="val -2325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45" name=""/>
          <p:cNvCxnSpPr>
            <a:stCxn id="231" idx="1"/>
            <a:endCxn id="182" idx="1"/>
          </p:cNvCxnSpPr>
          <p:nvPr/>
        </p:nvCxnSpPr>
        <p:spPr>
          <a:xfrm flipH="1" flipV="1" rot="10800000">
            <a:off x="394920" y="280800"/>
            <a:ext cx="983520" cy="3859920"/>
          </a:xfrm>
          <a:prstGeom prst="bentConnector3">
            <a:avLst>
              <a:gd name="adj1" fmla="val -2325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46" name=""/>
          <p:cNvCxnSpPr>
            <a:stCxn id="231" idx="1"/>
            <a:endCxn id="194" idx="1"/>
          </p:cNvCxnSpPr>
          <p:nvPr/>
        </p:nvCxnSpPr>
        <p:spPr>
          <a:xfrm flipH="1" flipV="1" rot="10800000">
            <a:off x="394920" y="280080"/>
            <a:ext cx="983520" cy="5151960"/>
          </a:xfrm>
          <a:prstGeom prst="bentConnector3">
            <a:avLst>
              <a:gd name="adj1" fmla="val -2325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47" name=""/>
          <p:cNvCxnSpPr>
            <a:stCxn id="231" idx="1"/>
            <a:endCxn id="195" idx="1"/>
          </p:cNvCxnSpPr>
          <p:nvPr/>
        </p:nvCxnSpPr>
        <p:spPr>
          <a:xfrm flipH="1" flipV="1" rot="10800000">
            <a:off x="394920" y="281160"/>
            <a:ext cx="983520" cy="5457960"/>
          </a:xfrm>
          <a:prstGeom prst="bentConnector3">
            <a:avLst>
              <a:gd name="adj1" fmla="val -2325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48" name=""/>
          <p:cNvCxnSpPr>
            <a:stCxn id="231" idx="1"/>
            <a:endCxn id="196" idx="1"/>
          </p:cNvCxnSpPr>
          <p:nvPr/>
        </p:nvCxnSpPr>
        <p:spPr>
          <a:xfrm flipH="1" flipV="1" rot="10800000">
            <a:off x="394920" y="280080"/>
            <a:ext cx="983520" cy="5763240"/>
          </a:xfrm>
          <a:prstGeom prst="bentConnector3">
            <a:avLst>
              <a:gd name="adj1" fmla="val -2325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62360" y="447840"/>
            <a:ext cx="0" cy="5752800"/>
          </a:xfrm>
          <a:prstGeom prst="line">
            <a:avLst/>
          </a:prstGeom>
          <a:ln w="9360">
            <a:solidFill>
              <a:srgbClr val="afafa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081840" y="447840"/>
            <a:ext cx="0" cy="5752800"/>
          </a:xfrm>
          <a:prstGeom prst="line">
            <a:avLst/>
          </a:prstGeom>
          <a:ln w="9360">
            <a:solidFill>
              <a:srgbClr val="afafa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344080" y="447840"/>
            <a:ext cx="0" cy="5752800"/>
          </a:xfrm>
          <a:prstGeom prst="line">
            <a:avLst/>
          </a:prstGeom>
          <a:ln w="9360">
            <a:solidFill>
              <a:srgbClr val="afafa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02160" y="412920"/>
            <a:ext cx="101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12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12280" y="412920"/>
            <a:ext cx="101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hort-term</a:t>
            </a:r>
            <a:endParaRPr b="0" lang="en-US" sz="12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069680" y="412920"/>
            <a:ext cx="12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Medium-term</a:t>
            </a:r>
            <a:endParaRPr b="0" lang="en-US" sz="12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84320" y="1600200"/>
            <a:ext cx="167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8280" y="130824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PB/2006/A-1</a:t>
            </a:r>
            <a:endParaRPr b="0" lang="en-US" sz="12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285920" y="1346040"/>
            <a:ext cx="7362720" cy="20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Tyre loading and contact stress information system</a:t>
            </a:r>
            <a:endParaRPr b="0" lang="en-US" sz="10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17720" y="1609560"/>
            <a:ext cx="179532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Information system shell with available data</a:t>
            </a:r>
            <a:endParaRPr b="0" lang="en-US" sz="1000" spc="-1" strike="noStrike">
              <a:solidFill>
                <a:srgbClr val="afafaf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88280" y="4527720"/>
            <a:ext cx="8460360" cy="699840"/>
            <a:chOff x="188280" y="4527720"/>
            <a:chExt cx="8460360" cy="699840"/>
          </a:xfrm>
        </p:grpSpPr>
        <p:sp>
          <p:nvSpPr>
            <p:cNvPr id="261" name=""/>
            <p:cNvSpPr/>
            <p:nvPr/>
          </p:nvSpPr>
          <p:spPr>
            <a:xfrm>
              <a:off x="188280" y="4527720"/>
              <a:ext cx="106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PB/2006/A-4</a:t>
              </a:r>
              <a:endParaRPr b="0" lang="en-US" sz="12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85920" y="4565520"/>
              <a:ext cx="7362720" cy="20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Effects of vehicle dynamics on traffic input for pavement design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593720" y="4829040"/>
              <a:ext cx="211932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Forward modelling of dynamic axle load spectra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956040" y="4829040"/>
              <a:ext cx="211932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Backward modelling of static axle load spectra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88280" y="3470400"/>
            <a:ext cx="8460360" cy="852480"/>
            <a:chOff x="188280" y="3470400"/>
            <a:chExt cx="8460360" cy="852480"/>
          </a:xfrm>
        </p:grpSpPr>
        <p:sp>
          <p:nvSpPr>
            <p:cNvPr id="266" name=""/>
            <p:cNvSpPr/>
            <p:nvPr/>
          </p:nvSpPr>
          <p:spPr>
            <a:xfrm>
              <a:off x="188280" y="3470400"/>
              <a:ext cx="106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PB/2006/A-3</a:t>
              </a:r>
              <a:endParaRPr b="0" lang="en-US" sz="12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85920" y="3508200"/>
              <a:ext cx="7362720" cy="20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Traffic survey and design traffic calculation guidelines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593720" y="3772080"/>
              <a:ext cx="2119320" cy="55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A contact stress and traffic survey strategy for southern Africa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6075000" y="2590920"/>
            <a:ext cx="2229120" cy="2436840"/>
            <a:chOff x="6075000" y="2590920"/>
            <a:chExt cx="2229120" cy="2436840"/>
          </a:xfrm>
        </p:grpSpPr>
        <p:sp>
          <p:nvSpPr>
            <p:cNvPr id="270" name=""/>
            <p:cNvSpPr/>
            <p:nvPr/>
          </p:nvSpPr>
          <p:spPr>
            <a:xfrm>
              <a:off x="6527880" y="2590920"/>
              <a:ext cx="17762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Dynamic error adjustment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527880" y="3772080"/>
              <a:ext cx="1776240" cy="55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Revision of guidelines and method specifications`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  <p:cxnSp>
          <p:nvCxnSpPr>
            <p:cNvPr id="272" name=""/>
            <p:cNvCxnSpPr/>
            <p:nvPr/>
          </p:nvCxnSpPr>
          <p:spPr>
            <a:xfrm flipV="1">
              <a:off x="6075000" y="2712600"/>
              <a:ext cx="453240" cy="2315520"/>
            </a:xfrm>
            <a:prstGeom prst="bentConnector3">
              <a:avLst>
                <a:gd name="adj1" fmla="val 49761"/>
              </a:avLst>
            </a:prstGeom>
            <a:ln w="19080">
              <a:solidFill>
                <a:srgbClr val="ff0000"/>
              </a:solidFill>
              <a:miter/>
              <a:tailEnd len="lg" type="stealth" w="med"/>
            </a:ln>
          </p:spPr>
        </p:cxnSp>
        <p:cxnSp>
          <p:nvCxnSpPr>
            <p:cNvPr id="273" name=""/>
            <p:cNvCxnSpPr/>
            <p:nvPr/>
          </p:nvCxnSpPr>
          <p:spPr>
            <a:xfrm flipV="1">
              <a:off x="6075000" y="3969720"/>
              <a:ext cx="453240" cy="1058040"/>
            </a:xfrm>
            <a:prstGeom prst="bentConnector3">
              <a:avLst>
                <a:gd name="adj1" fmla="val 49761"/>
              </a:avLst>
            </a:prstGeom>
            <a:ln w="19080">
              <a:solidFill>
                <a:srgbClr val="ff0000"/>
              </a:solidFill>
              <a:miter/>
              <a:tailEnd len="lg" type="stealth" w="med"/>
            </a:ln>
          </p:spPr>
        </p:cxnSp>
      </p:grpSp>
      <p:sp>
        <p:nvSpPr>
          <p:cNvPr id="274" name=""/>
          <p:cNvSpPr/>
          <p:nvPr/>
        </p:nvSpPr>
        <p:spPr>
          <a:xfrm>
            <a:off x="4241880" y="1609560"/>
            <a:ext cx="179532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Ongoing population of information system</a:t>
            </a:r>
            <a:endParaRPr b="0" lang="en-US" sz="1000" spc="-1" strike="noStrike">
              <a:solidFill>
                <a:srgbClr val="afafaf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88280" y="2289240"/>
            <a:ext cx="8460360" cy="1004760"/>
            <a:chOff x="188280" y="2289240"/>
            <a:chExt cx="8460360" cy="1004760"/>
          </a:xfrm>
        </p:grpSpPr>
        <p:sp>
          <p:nvSpPr>
            <p:cNvPr id="276" name=""/>
            <p:cNvSpPr/>
            <p:nvPr/>
          </p:nvSpPr>
          <p:spPr>
            <a:xfrm>
              <a:off x="188280" y="2289240"/>
              <a:ext cx="106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PB/2006/A-2</a:t>
              </a:r>
              <a:endParaRPr b="0" lang="en-US" sz="12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85920" y="2327400"/>
              <a:ext cx="7362720" cy="19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Traffic volume and axle load information system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9960" y="2590920"/>
              <a:ext cx="3043080" cy="70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Information system shell with available data: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Data filters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Bias adjustment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Random (dynamic effect) error adjustment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956040" y="2590920"/>
              <a:ext cx="2081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Ongoing population of information system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133920" y="1807200"/>
            <a:ext cx="5294160" cy="3953880"/>
            <a:chOff x="133920" y="1807200"/>
            <a:chExt cx="5294160" cy="3953880"/>
          </a:xfrm>
        </p:grpSpPr>
        <p:sp>
          <p:nvSpPr>
            <p:cNvPr id="281" name=""/>
            <p:cNvSpPr/>
            <p:nvPr/>
          </p:nvSpPr>
          <p:spPr>
            <a:xfrm>
              <a:off x="4515840" y="5514840"/>
              <a:ext cx="91224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PB/2006/C-1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  <p:cxnSp>
          <p:nvCxnSpPr>
            <p:cNvPr id="282" name=""/>
            <p:cNvCxnSpPr>
              <a:stCxn id="259" idx="1"/>
              <a:endCxn id="281" idx="1"/>
            </p:cNvCxnSpPr>
            <p:nvPr/>
          </p:nvCxnSpPr>
          <p:spPr>
            <a:xfrm flipH="1" flipV="1" rot="10800000">
              <a:off x="1916640" y="1807200"/>
              <a:ext cx="2601000" cy="3834360"/>
            </a:xfrm>
            <a:prstGeom prst="bentConnector3">
              <a:avLst>
                <a:gd name="adj1" fmla="val -68549"/>
              </a:avLst>
            </a:prstGeom>
            <a:ln w="19080">
              <a:solidFill>
                <a:srgbClr val="ff0000"/>
              </a:solidFill>
              <a:miter/>
              <a:tailEnd len="lg" type="stealth" w="med"/>
            </a:ln>
          </p:spPr>
        </p:cxnSp>
        <p:cxnSp>
          <p:nvCxnSpPr>
            <p:cNvPr id="283" name=""/>
            <p:cNvCxnSpPr>
              <a:stCxn id="278" idx="1"/>
              <a:endCxn id="281" idx="1"/>
            </p:cNvCxnSpPr>
            <p:nvPr/>
          </p:nvCxnSpPr>
          <p:spPr>
            <a:xfrm flipH="1" flipV="1" rot="10800000">
              <a:off x="668880" y="2940480"/>
              <a:ext cx="3848760" cy="2701080"/>
            </a:xfrm>
            <a:prstGeom prst="bentConnector3">
              <a:avLst>
                <a:gd name="adj1" fmla="val -13695"/>
              </a:avLst>
            </a:prstGeom>
            <a:ln w="19080">
              <a:solidFill>
                <a:srgbClr val="ff0000"/>
              </a:solidFill>
              <a:miter/>
              <a:tailEnd len="lg" type="stealth" w="med"/>
            </a:ln>
          </p:spPr>
        </p:cxnSp>
      </p:grpSp>
      <p:grpSp>
        <p:nvGrpSpPr>
          <p:cNvPr id="284" name=""/>
          <p:cNvGrpSpPr/>
          <p:nvPr/>
        </p:nvGrpSpPr>
        <p:grpSpPr>
          <a:xfrm>
            <a:off x="186840" y="736560"/>
            <a:ext cx="8772480" cy="4905360"/>
            <a:chOff x="186840" y="736560"/>
            <a:chExt cx="8772480" cy="4905360"/>
          </a:xfrm>
        </p:grpSpPr>
        <p:sp>
          <p:nvSpPr>
            <p:cNvPr id="285" name=""/>
            <p:cNvSpPr/>
            <p:nvPr/>
          </p:nvSpPr>
          <p:spPr>
            <a:xfrm>
              <a:off x="186840" y="736560"/>
              <a:ext cx="105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PB/2006/ILP</a:t>
              </a:r>
              <a:endParaRPr b="0" lang="en-US" sz="12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285920" y="774720"/>
              <a:ext cx="7362720" cy="20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Integration level project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  <p:cxnSp>
          <p:nvCxnSpPr>
            <p:cNvPr id="287" name=""/>
            <p:cNvCxnSpPr>
              <a:stCxn id="281" idx="3"/>
              <a:endCxn id="286" idx="3"/>
            </p:cNvCxnSpPr>
            <p:nvPr/>
          </p:nvCxnSpPr>
          <p:spPr>
            <a:xfrm flipV="1">
              <a:off x="5425920" y="874440"/>
              <a:ext cx="3223440" cy="4767840"/>
            </a:xfrm>
            <a:prstGeom prst="bentConnector3">
              <a:avLst>
                <a:gd name="adj1" fmla="val 107081"/>
              </a:avLst>
            </a:prstGeom>
            <a:ln w="19080">
              <a:solidFill>
                <a:srgbClr val="ff0000"/>
              </a:solidFill>
              <a:miter/>
              <a:tailEnd len="lg" type="stealth" w="med"/>
            </a:ln>
          </p:spPr>
        </p:cxnSp>
        <p:cxnSp>
          <p:nvCxnSpPr>
            <p:cNvPr id="288" name=""/>
            <p:cNvCxnSpPr>
              <a:stCxn id="267" idx="3"/>
              <a:endCxn id="286" idx="3"/>
            </p:cNvCxnSpPr>
            <p:nvPr/>
          </p:nvCxnSpPr>
          <p:spPr>
            <a:xfrm flipV="1">
              <a:off x="8648280" y="874080"/>
              <a:ext cx="2520" cy="2734200"/>
            </a:xfrm>
            <a:prstGeom prst="bentConnector3">
              <a:avLst>
                <a:gd name="adj1" fmla="val 14400000"/>
              </a:avLst>
            </a:prstGeom>
            <a:ln w="19080">
              <a:solidFill>
                <a:srgbClr val="ff0000"/>
              </a:solidFill>
              <a:miter/>
              <a:tailEnd len="lg" type="stealth" w="med"/>
            </a:ln>
          </p:spPr>
        </p:cxnSp>
      </p:grpSp>
      <p:grpSp>
        <p:nvGrpSpPr>
          <p:cNvPr id="289" name=""/>
          <p:cNvGrpSpPr/>
          <p:nvPr/>
        </p:nvGrpSpPr>
        <p:grpSpPr>
          <a:xfrm>
            <a:off x="3712680" y="1807560"/>
            <a:ext cx="528840" cy="2238840"/>
            <a:chOff x="3712680" y="1807560"/>
            <a:chExt cx="528840" cy="2238840"/>
          </a:xfrm>
        </p:grpSpPr>
        <p:cxnSp>
          <p:nvCxnSpPr>
            <p:cNvPr id="290" name=""/>
            <p:cNvCxnSpPr>
              <a:stCxn id="268" idx="3"/>
              <a:endCxn id="279" idx="1"/>
            </p:cNvCxnSpPr>
            <p:nvPr/>
          </p:nvCxnSpPr>
          <p:spPr>
            <a:xfrm flipV="1">
              <a:off x="3712680" y="2788920"/>
              <a:ext cx="243720" cy="1257840"/>
            </a:xfrm>
            <a:prstGeom prst="bentConnector3">
              <a:avLst>
                <a:gd name="adj1" fmla="val 49556"/>
              </a:avLst>
            </a:prstGeom>
            <a:ln w="19080">
              <a:solidFill>
                <a:srgbClr val="ff0000"/>
              </a:solidFill>
              <a:miter/>
              <a:tailEnd len="lg" type="stealth" w="med"/>
            </a:ln>
          </p:spPr>
        </p:cxnSp>
        <p:cxnSp>
          <p:nvCxnSpPr>
            <p:cNvPr id="291" name=""/>
            <p:cNvCxnSpPr>
              <a:stCxn id="268" idx="3"/>
              <a:endCxn id="274" idx="1"/>
            </p:cNvCxnSpPr>
            <p:nvPr/>
          </p:nvCxnSpPr>
          <p:spPr>
            <a:xfrm flipV="1">
              <a:off x="3712680" y="1807560"/>
              <a:ext cx="529200" cy="2238840"/>
            </a:xfrm>
            <a:prstGeom prst="bentConnector3">
              <a:avLst>
                <a:gd name="adj1" fmla="val 20422"/>
              </a:avLst>
            </a:prstGeom>
            <a:ln w="19080">
              <a:solidFill>
                <a:srgbClr val="ff0000"/>
              </a:solidFill>
              <a:miter/>
              <a:tailEnd len="lg" type="stealth" w="med"/>
            </a:ln>
          </p:spPr>
        </p:cxnSp>
      </p:grpSp>
      <p:grpSp>
        <p:nvGrpSpPr>
          <p:cNvPr id="292" name=""/>
          <p:cNvGrpSpPr/>
          <p:nvPr/>
        </p:nvGrpSpPr>
        <p:grpSpPr>
          <a:xfrm>
            <a:off x="3712680" y="2941200"/>
            <a:ext cx="2362680" cy="2086560"/>
            <a:chOff x="3712680" y="2941200"/>
            <a:chExt cx="2362680" cy="2086560"/>
          </a:xfrm>
        </p:grpSpPr>
        <p:sp>
          <p:nvSpPr>
            <p:cNvPr id="293" name=""/>
            <p:cNvSpPr/>
            <p:nvPr/>
          </p:nvSpPr>
          <p:spPr>
            <a:xfrm>
              <a:off x="3956040" y="3772080"/>
              <a:ext cx="2119320" cy="85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buClr>
                  <a:srgbClr val="d60093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d60093"/>
                  </a:solidFill>
                  <a:latin typeface="Tahoma"/>
                </a:rPr>
                <a:t>Guidelines and method specs for contact stress and traffic surveys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buClr>
                  <a:srgbClr val="d60093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d60093"/>
                  </a:solidFill>
                  <a:latin typeface="Tahoma"/>
                </a:rPr>
                <a:t>TMH 8 &amp; TRH 16 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buClr>
                  <a:srgbClr val="d60093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d60093"/>
                  </a:solidFill>
                  <a:latin typeface="Tahoma"/>
                </a:rPr>
                <a:t>Training material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3712680" y="2941200"/>
              <a:ext cx="243360" cy="2086560"/>
              <a:chOff x="3712680" y="2941200"/>
              <a:chExt cx="243360" cy="2086560"/>
            </a:xfrm>
          </p:grpSpPr>
          <p:cxnSp>
            <p:nvCxnSpPr>
              <p:cNvPr id="295" name=""/>
              <p:cNvCxnSpPr>
                <a:stCxn id="263" idx="3"/>
                <a:endCxn id="293" idx="1"/>
              </p:cNvCxnSpPr>
              <p:nvPr/>
            </p:nvCxnSpPr>
            <p:spPr>
              <a:xfrm flipV="1">
                <a:off x="3712680" y="4046040"/>
                <a:ext cx="243720" cy="982080"/>
              </a:xfrm>
              <a:prstGeom prst="bentConnector3">
                <a:avLst>
                  <a:gd name="adj1" fmla="val 49556"/>
                </a:avLst>
              </a:prstGeom>
              <a:ln w="25560">
                <a:solidFill>
                  <a:srgbClr val="0000ff"/>
                </a:solidFill>
                <a:miter/>
                <a:tailEnd len="med" type="triangle" w="med"/>
              </a:ln>
            </p:spPr>
          </p:cxnSp>
          <p:cxnSp>
            <p:nvCxnSpPr>
              <p:cNvPr id="296" name=""/>
              <p:cNvCxnSpPr>
                <a:stCxn id="278" idx="3"/>
                <a:endCxn id="293" idx="1"/>
              </p:cNvCxnSpPr>
              <p:nvPr/>
            </p:nvCxnSpPr>
            <p:spPr>
              <a:xfrm>
                <a:off x="3712680" y="2941200"/>
                <a:ext cx="243720" cy="1105560"/>
              </a:xfrm>
              <a:prstGeom prst="bentConnector3">
                <a:avLst>
                  <a:gd name="adj1" fmla="val 49556"/>
                </a:avLst>
              </a:prstGeom>
              <a:ln w="25560">
                <a:solidFill>
                  <a:srgbClr val="0000ff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762360" y="162000"/>
            <a:ext cx="4686480" cy="6238440"/>
            <a:chOff x="3762360" y="162000"/>
            <a:chExt cx="4686480" cy="6238440"/>
          </a:xfrm>
        </p:grpSpPr>
        <p:sp>
          <p:nvSpPr>
            <p:cNvPr id="299" name=""/>
            <p:cNvSpPr/>
            <p:nvPr/>
          </p:nvSpPr>
          <p:spPr>
            <a:xfrm>
              <a:off x="3762360" y="162000"/>
              <a:ext cx="0" cy="6238440"/>
            </a:xfrm>
            <a:prstGeom prst="line">
              <a:avLst/>
            </a:prstGeom>
            <a:ln w="9360">
              <a:solidFill>
                <a:srgbClr val="afafa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81840" y="162000"/>
              <a:ext cx="0" cy="6238440"/>
            </a:xfrm>
            <a:prstGeom prst="line">
              <a:avLst/>
            </a:prstGeom>
            <a:ln w="9360">
              <a:solidFill>
                <a:srgbClr val="afafa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448840" y="162000"/>
              <a:ext cx="0" cy="6238440"/>
            </a:xfrm>
            <a:prstGeom prst="line">
              <a:avLst/>
            </a:prstGeom>
            <a:ln w="9360">
              <a:solidFill>
                <a:srgbClr val="afafa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2702160" y="127080"/>
            <a:ext cx="101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12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012280" y="127080"/>
            <a:ext cx="101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hort-term</a:t>
            </a:r>
            <a:endParaRPr b="0" lang="en-US" sz="12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69680" y="127080"/>
            <a:ext cx="12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Medium-term</a:t>
            </a:r>
            <a:endParaRPr b="0" lang="en-US" sz="12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984320" y="1314360"/>
            <a:ext cx="167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16280" y="1617840"/>
            <a:ext cx="5169240" cy="5057640"/>
            <a:chOff x="116280" y="1617840"/>
            <a:chExt cx="5169240" cy="5057640"/>
          </a:xfrm>
        </p:grpSpPr>
        <p:sp>
          <p:nvSpPr>
            <p:cNvPr id="307" name=""/>
            <p:cNvSpPr/>
            <p:nvPr/>
          </p:nvSpPr>
          <p:spPr>
            <a:xfrm>
              <a:off x="4373280" y="6429240"/>
              <a:ext cx="91224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PB/2006/C-3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H="1" flipV="1" rot="10800000">
              <a:off x="1336320" y="1617480"/>
              <a:ext cx="3039120" cy="4939200"/>
            </a:xfrm>
            <a:prstGeom prst="bentConnector3">
              <a:avLst>
                <a:gd name="adj1" fmla="val -39805"/>
              </a:avLst>
            </a:prstGeom>
            <a:ln w="19080">
              <a:solidFill>
                <a:srgbClr val="ff0000"/>
              </a:solidFill>
              <a:miter/>
              <a:tailEnd len="lg" type="stealth" w="med"/>
            </a:ln>
          </p:spPr>
        </p:cxnSp>
        <p:cxnSp>
          <p:nvCxnSpPr>
            <p:cNvPr id="309" name=""/>
            <p:cNvCxnSpPr/>
            <p:nvPr/>
          </p:nvCxnSpPr>
          <p:spPr>
            <a:xfrm flipH="1" flipV="1" rot="10800000">
              <a:off x="1278360" y="2654640"/>
              <a:ext cx="3096360" cy="3901320"/>
            </a:xfrm>
            <a:prstGeom prst="bentConnector3">
              <a:avLst>
                <a:gd name="adj1" fmla="val -37534"/>
              </a:avLst>
            </a:prstGeom>
            <a:ln w="19080">
              <a:solidFill>
                <a:srgbClr val="ff0000"/>
              </a:solidFill>
              <a:miter/>
              <a:tailEnd len="lg" type="stealth" w="med"/>
            </a:ln>
          </p:spPr>
        </p:cxnSp>
        <p:cxnSp>
          <p:nvCxnSpPr>
            <p:cNvPr id="310" name=""/>
            <p:cNvCxnSpPr/>
            <p:nvPr/>
          </p:nvCxnSpPr>
          <p:spPr>
            <a:xfrm flipH="1" flipV="1" rot="10800000">
              <a:off x="1278360" y="3692880"/>
              <a:ext cx="3096360" cy="2863080"/>
            </a:xfrm>
            <a:prstGeom prst="bentConnector3">
              <a:avLst>
                <a:gd name="adj1" fmla="val -36976"/>
              </a:avLst>
            </a:prstGeom>
            <a:ln w="19080">
              <a:solidFill>
                <a:srgbClr val="ff0000"/>
              </a:solidFill>
              <a:miter/>
              <a:tailEnd len="lg" type="stealth" w="med"/>
            </a:ln>
          </p:spPr>
        </p:cxnSp>
      </p:grpSp>
      <p:grpSp>
        <p:nvGrpSpPr>
          <p:cNvPr id="311" name=""/>
          <p:cNvGrpSpPr/>
          <p:nvPr/>
        </p:nvGrpSpPr>
        <p:grpSpPr>
          <a:xfrm>
            <a:off x="186840" y="5527800"/>
            <a:ext cx="8461800" cy="700200"/>
            <a:chOff x="186840" y="5527800"/>
            <a:chExt cx="8461800" cy="700200"/>
          </a:xfrm>
        </p:grpSpPr>
        <p:sp>
          <p:nvSpPr>
            <p:cNvPr id="312" name=""/>
            <p:cNvSpPr/>
            <p:nvPr/>
          </p:nvSpPr>
          <p:spPr>
            <a:xfrm>
              <a:off x="186840" y="5527800"/>
              <a:ext cx="106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PB/2006/B-4</a:t>
              </a:r>
              <a:endParaRPr b="0" lang="en-US" sz="12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936960" y="5829480"/>
              <a:ext cx="2119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Calibrated models for an extended range of materials 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85920" y="5565600"/>
              <a:ext cx="7362720" cy="20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A design input information system for road-building materials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231920" y="5829480"/>
              <a:ext cx="248112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Updated refusal density models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Calibrated resilient response models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2701440" y="4937040"/>
            <a:ext cx="5947200" cy="528840"/>
            <a:chOff x="2701440" y="4937040"/>
            <a:chExt cx="5947200" cy="528840"/>
          </a:xfrm>
        </p:grpSpPr>
        <p:sp>
          <p:nvSpPr>
            <p:cNvPr id="317" name=""/>
            <p:cNvSpPr/>
            <p:nvPr/>
          </p:nvSpPr>
          <p:spPr>
            <a:xfrm>
              <a:off x="2701440" y="4937040"/>
              <a:ext cx="106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PB/2006/B-3</a:t>
              </a:r>
              <a:endParaRPr b="0" lang="en-US" sz="12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936960" y="5219640"/>
              <a:ext cx="211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0000"/>
                  </a:solidFill>
                  <a:latin typeface="Tahoma"/>
                </a:rPr>
                <a:t>Guidelines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67120" y="4975200"/>
              <a:ext cx="4781520" cy="20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Material testing, interpretation of results and deriving design input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183960" y="1022400"/>
            <a:ext cx="8464680" cy="947520"/>
            <a:chOff x="183960" y="1022400"/>
            <a:chExt cx="8464680" cy="947520"/>
          </a:xfrm>
        </p:grpSpPr>
        <p:sp>
          <p:nvSpPr>
            <p:cNvPr id="321" name=""/>
            <p:cNvSpPr/>
            <p:nvPr/>
          </p:nvSpPr>
          <p:spPr>
            <a:xfrm>
              <a:off x="183960" y="102240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PB/2006/B-1a</a:t>
              </a:r>
              <a:endParaRPr b="0" lang="en-US" sz="12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85920" y="1060560"/>
              <a:ext cx="7362720" cy="19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Resilient response models for unbound material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36680" y="1266840"/>
              <a:ext cx="2376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Static model = 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 (D, MC, </a:t>
              </a:r>
              <a:r>
                <a:rPr b="0" lang="el-GR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σ</a:t>
              </a: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Dynamic model = 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 (D, MC, </a:t>
              </a:r>
              <a:r>
                <a:rPr b="0" lang="el-GR" sz="1000" spc="-1" strike="noStrike">
                  <a:solidFill>
                    <a:srgbClr val="000000"/>
                  </a:solidFill>
                  <a:latin typeface="Tahoma"/>
                </a:rPr>
                <a:t>σ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Tahoma"/>
                </a:rPr>
                <a:t>Test protocols and model calibration procedures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822840" y="1324080"/>
              <a:ext cx="2233440" cy="55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Ongoing model calibration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Link to engineering parameters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Long-term changes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81800" y="2003400"/>
            <a:ext cx="8466840" cy="1004760"/>
            <a:chOff x="181800" y="2003400"/>
            <a:chExt cx="8466840" cy="1004760"/>
          </a:xfrm>
        </p:grpSpPr>
        <p:sp>
          <p:nvSpPr>
            <p:cNvPr id="326" name=""/>
            <p:cNvSpPr/>
            <p:nvPr/>
          </p:nvSpPr>
          <p:spPr>
            <a:xfrm>
              <a:off x="181800" y="2003400"/>
              <a:ext cx="116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PB/2006/B-1b</a:t>
              </a:r>
              <a:endParaRPr b="0" lang="en-US" sz="12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85920" y="2041560"/>
              <a:ext cx="7362720" cy="20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Resilient response models for HMA material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79440" y="2305080"/>
              <a:ext cx="24336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Static model = 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 (T, mix)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Dynamic model = 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(T, mix)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Tahoma"/>
                </a:rPr>
                <a:t>Test protocols and model calibration procedures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65600" y="2305080"/>
              <a:ext cx="2290680" cy="70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Ongoing model calibration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Long-term changes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Link to engineering parameters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Resilient response master curves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185400" y="3022560"/>
            <a:ext cx="8463240" cy="1099800"/>
            <a:chOff x="185400" y="3022560"/>
            <a:chExt cx="8463240" cy="1099800"/>
          </a:xfrm>
        </p:grpSpPr>
        <p:sp>
          <p:nvSpPr>
            <p:cNvPr id="331" name=""/>
            <p:cNvSpPr/>
            <p:nvPr/>
          </p:nvSpPr>
          <p:spPr>
            <a:xfrm>
              <a:off x="185400" y="3022560"/>
              <a:ext cx="114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PB/2006/B-1c</a:t>
              </a:r>
              <a:endParaRPr b="0" lang="en-US" sz="12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85920" y="3060720"/>
              <a:ext cx="7362720" cy="20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Resilient response models for stabilised material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79440" y="3267000"/>
              <a:ext cx="243360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Tri-axial or flexural testing?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Static model = 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 (mix)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Dynamic model = 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(mix)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Tahoma"/>
                </a:rPr>
                <a:t>Test protocols and model calibration procedures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936960" y="3324240"/>
              <a:ext cx="2119320" cy="70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Ongoing model calibration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Long-term changes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Link to engineering parameters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86840" y="4137120"/>
            <a:ext cx="8461800" cy="1004760"/>
            <a:chOff x="186840" y="4137120"/>
            <a:chExt cx="8461800" cy="1004760"/>
          </a:xfrm>
        </p:grpSpPr>
        <p:sp>
          <p:nvSpPr>
            <p:cNvPr id="336" name=""/>
            <p:cNvSpPr/>
            <p:nvPr/>
          </p:nvSpPr>
          <p:spPr>
            <a:xfrm>
              <a:off x="186840" y="4137120"/>
              <a:ext cx="106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PB/2006/B-2</a:t>
              </a:r>
              <a:endParaRPr b="0" lang="en-US" sz="12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85920" y="4175280"/>
              <a:ext cx="7362720" cy="19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Agreement between resilient modulus results from different tests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89000" y="4438800"/>
              <a:ext cx="26240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0000"/>
                  </a:solidFill>
                  <a:latin typeface="Tahoma"/>
                </a:rPr>
                <a:t>Guidelines for deflection bowl utilisation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Fundamental principles of different tests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46520" y="4438800"/>
              <a:ext cx="2309760" cy="70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Static and dynamic back-calculation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Agreement between test methods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220320" y="1598400"/>
            <a:ext cx="6586560" cy="4067640"/>
            <a:chOff x="220320" y="1598400"/>
            <a:chExt cx="6586560" cy="4067640"/>
          </a:xfrm>
        </p:grpSpPr>
        <p:cxnSp>
          <p:nvCxnSpPr>
            <p:cNvPr id="341" name=""/>
            <p:cNvCxnSpPr>
              <a:stCxn id="328" idx="2"/>
              <a:endCxn id="314" idx="1"/>
            </p:cNvCxnSpPr>
            <p:nvPr/>
          </p:nvCxnSpPr>
          <p:spPr>
            <a:xfrm rot="5400000">
              <a:off x="561240" y="3730680"/>
              <a:ext cx="2659680" cy="1211760"/>
            </a:xfrm>
            <a:prstGeom prst="bentConnector4">
              <a:avLst>
                <a:gd name="adj1" fmla="val -175"/>
                <a:gd name="adj2" fmla="val 186864"/>
              </a:avLst>
            </a:prstGeom>
            <a:ln w="19080">
              <a:solidFill>
                <a:srgbClr val="0000ff"/>
              </a:solidFill>
              <a:miter/>
              <a:tailEnd len="lg" type="stealth" w="med"/>
            </a:ln>
          </p:spPr>
        </p:cxnSp>
        <p:cxnSp>
          <p:nvCxnSpPr>
            <p:cNvPr id="342" name=""/>
            <p:cNvCxnSpPr>
              <a:stCxn id="333" idx="2"/>
              <a:endCxn id="314" idx="1"/>
            </p:cNvCxnSpPr>
            <p:nvPr/>
          </p:nvCxnSpPr>
          <p:spPr>
            <a:xfrm rot="5400000">
              <a:off x="1118520" y="4287960"/>
              <a:ext cx="1545120" cy="1211760"/>
            </a:xfrm>
            <a:prstGeom prst="bentConnector4">
              <a:avLst>
                <a:gd name="adj1" fmla="val 0"/>
                <a:gd name="adj2" fmla="val 187934"/>
              </a:avLst>
            </a:prstGeom>
            <a:ln w="19080">
              <a:solidFill>
                <a:srgbClr val="0000ff"/>
              </a:solidFill>
              <a:miter/>
              <a:tailEnd len="lg" type="stealth" w="med"/>
            </a:ln>
          </p:spPr>
        </p:cxnSp>
        <p:cxnSp>
          <p:nvCxnSpPr>
            <p:cNvPr id="343" name=""/>
            <p:cNvCxnSpPr>
              <a:stCxn id="324" idx="3"/>
              <a:endCxn id="314" idx="0"/>
            </p:cNvCxnSpPr>
            <p:nvPr/>
          </p:nvCxnSpPr>
          <p:spPr>
            <a:xfrm flipH="1">
              <a:off x="4966560" y="1598400"/>
              <a:ext cx="1089720" cy="3967560"/>
            </a:xfrm>
            <a:prstGeom prst="bentConnector4">
              <a:avLst>
                <a:gd name="adj1" fmla="val -68935"/>
                <a:gd name="adj2" fmla="val 96869"/>
              </a:avLst>
            </a:prstGeom>
            <a:ln w="19080">
              <a:solidFill>
                <a:srgbClr val="0000ff"/>
              </a:solidFill>
              <a:miter/>
              <a:tailEnd len="lg" type="stealth" w="med"/>
            </a:ln>
          </p:spPr>
        </p:cxnSp>
        <p:cxnSp>
          <p:nvCxnSpPr>
            <p:cNvPr id="344" name=""/>
            <p:cNvCxnSpPr>
              <a:stCxn id="329" idx="3"/>
              <a:endCxn id="314" idx="0"/>
            </p:cNvCxnSpPr>
            <p:nvPr/>
          </p:nvCxnSpPr>
          <p:spPr>
            <a:xfrm flipH="1">
              <a:off x="4966560" y="2655360"/>
              <a:ext cx="1089720" cy="2910240"/>
            </a:xfrm>
            <a:prstGeom prst="bentConnector4">
              <a:avLst>
                <a:gd name="adj1" fmla="val -68935"/>
                <a:gd name="adj2" fmla="val 95855"/>
              </a:avLst>
            </a:prstGeom>
            <a:ln w="19080">
              <a:solidFill>
                <a:srgbClr val="0000ff"/>
              </a:solidFill>
              <a:miter/>
              <a:tailEnd len="lg" type="stealth" w="med"/>
            </a:ln>
          </p:spPr>
        </p:cxnSp>
        <p:cxnSp>
          <p:nvCxnSpPr>
            <p:cNvPr id="345" name=""/>
            <p:cNvCxnSpPr>
              <a:stCxn id="334" idx="3"/>
              <a:endCxn id="314" idx="0"/>
            </p:cNvCxnSpPr>
            <p:nvPr/>
          </p:nvCxnSpPr>
          <p:spPr>
            <a:xfrm flipH="1">
              <a:off x="4966560" y="3598560"/>
              <a:ext cx="1089720" cy="1967400"/>
            </a:xfrm>
            <a:prstGeom prst="bentConnector4">
              <a:avLst>
                <a:gd name="adj1" fmla="val -68935"/>
                <a:gd name="adj2" fmla="val 93685"/>
              </a:avLst>
            </a:prstGeom>
            <a:ln w="19080">
              <a:solidFill>
                <a:srgbClr val="0000ff"/>
              </a:solidFill>
              <a:miter/>
              <a:tailEnd len="lg" type="stealth" w="med"/>
            </a:ln>
          </p:spPr>
        </p:cxnSp>
        <p:cxnSp>
          <p:nvCxnSpPr>
            <p:cNvPr id="346" name=""/>
            <p:cNvCxnSpPr>
              <a:stCxn id="323" idx="2"/>
              <a:endCxn id="314" idx="1"/>
            </p:cNvCxnSpPr>
            <p:nvPr/>
          </p:nvCxnSpPr>
          <p:spPr>
            <a:xfrm rot="5400000">
              <a:off x="56520" y="3197160"/>
              <a:ext cx="3697920" cy="1240560"/>
            </a:xfrm>
            <a:prstGeom prst="bentConnector4">
              <a:avLst>
                <a:gd name="adj1" fmla="val -253"/>
                <a:gd name="adj2" fmla="val 185399"/>
              </a:avLst>
            </a:prstGeom>
            <a:ln w="19080">
              <a:solidFill>
                <a:srgbClr val="0000ff"/>
              </a:solidFill>
              <a:miter/>
              <a:tailEnd len="lg" type="stealth" w="med"/>
            </a:ln>
          </p:spPr>
        </p:cxnSp>
      </p:grpSp>
      <p:grpSp>
        <p:nvGrpSpPr>
          <p:cNvPr id="347" name=""/>
          <p:cNvGrpSpPr/>
          <p:nvPr/>
        </p:nvGrpSpPr>
        <p:grpSpPr>
          <a:xfrm>
            <a:off x="6257160" y="1160640"/>
            <a:ext cx="2503800" cy="3814920"/>
            <a:chOff x="6257160" y="1160640"/>
            <a:chExt cx="2503800" cy="3814920"/>
          </a:xfrm>
        </p:grpSpPr>
        <p:cxnSp>
          <p:nvCxnSpPr>
            <p:cNvPr id="348" name=""/>
            <p:cNvCxnSpPr>
              <a:stCxn id="322" idx="3"/>
              <a:endCxn id="319" idx="0"/>
            </p:cNvCxnSpPr>
            <p:nvPr/>
          </p:nvCxnSpPr>
          <p:spPr>
            <a:xfrm flipH="1">
              <a:off x="6257160" y="1160640"/>
              <a:ext cx="2391480" cy="3815280"/>
            </a:xfrm>
            <a:prstGeom prst="bentConnector4">
              <a:avLst>
                <a:gd name="adj1" fmla="val -4712"/>
                <a:gd name="adj2" fmla="val 90959"/>
              </a:avLst>
            </a:prstGeom>
            <a:ln w="19080">
              <a:solidFill>
                <a:srgbClr val="00ff00"/>
              </a:solidFill>
              <a:miter/>
              <a:tailEnd len="lg" type="stealth" w="med"/>
            </a:ln>
          </p:spPr>
        </p:cxnSp>
        <p:cxnSp>
          <p:nvCxnSpPr>
            <p:cNvPr id="349" name=""/>
            <p:cNvCxnSpPr>
              <a:stCxn id="327" idx="3"/>
              <a:endCxn id="319" idx="0"/>
            </p:cNvCxnSpPr>
            <p:nvPr/>
          </p:nvCxnSpPr>
          <p:spPr>
            <a:xfrm flipH="1">
              <a:off x="6257160" y="2141280"/>
              <a:ext cx="2391480" cy="2834280"/>
            </a:xfrm>
            <a:prstGeom prst="bentConnector4">
              <a:avLst>
                <a:gd name="adj1" fmla="val -4305"/>
                <a:gd name="adj2" fmla="val 87665"/>
              </a:avLst>
            </a:prstGeom>
            <a:ln w="19080">
              <a:solidFill>
                <a:srgbClr val="00ff00"/>
              </a:solidFill>
              <a:miter/>
              <a:tailEnd len="lg" type="stealth" w="med"/>
            </a:ln>
          </p:spPr>
        </p:cxnSp>
        <p:cxnSp>
          <p:nvCxnSpPr>
            <p:cNvPr id="350" name=""/>
            <p:cNvCxnSpPr>
              <a:stCxn id="332" idx="3"/>
              <a:endCxn id="319" idx="0"/>
            </p:cNvCxnSpPr>
            <p:nvPr/>
          </p:nvCxnSpPr>
          <p:spPr>
            <a:xfrm flipH="1">
              <a:off x="6257160" y="3160800"/>
              <a:ext cx="2391480" cy="1815120"/>
            </a:xfrm>
            <a:prstGeom prst="bentConnector4">
              <a:avLst>
                <a:gd name="adj1" fmla="val -4712"/>
                <a:gd name="adj2" fmla="val 80995"/>
              </a:avLst>
            </a:prstGeom>
            <a:ln w="19080">
              <a:solidFill>
                <a:srgbClr val="00ff00"/>
              </a:solidFill>
              <a:miter/>
              <a:tailEnd len="lg" type="stealth" w="med"/>
            </a:ln>
          </p:spPr>
        </p:cxnSp>
        <p:cxnSp>
          <p:nvCxnSpPr>
            <p:cNvPr id="351" name=""/>
            <p:cNvCxnSpPr>
              <a:stCxn id="337" idx="3"/>
              <a:endCxn id="319" idx="0"/>
            </p:cNvCxnSpPr>
            <p:nvPr/>
          </p:nvCxnSpPr>
          <p:spPr>
            <a:xfrm flipH="1">
              <a:off x="6257160" y="4274640"/>
              <a:ext cx="2391480" cy="700920"/>
            </a:xfrm>
            <a:prstGeom prst="bentConnector4">
              <a:avLst>
                <a:gd name="adj1" fmla="val -4305"/>
                <a:gd name="adj2" fmla="val 48972"/>
              </a:avLst>
            </a:prstGeom>
            <a:ln w="19080">
              <a:solidFill>
                <a:srgbClr val="00ff00"/>
              </a:solidFill>
              <a:miter/>
              <a:tailEnd len="lg" type="stealth" w="med"/>
            </a:ln>
          </p:spPr>
        </p:cxnSp>
      </p:grpSp>
      <p:grpSp>
        <p:nvGrpSpPr>
          <p:cNvPr id="352" name=""/>
          <p:cNvGrpSpPr/>
          <p:nvPr/>
        </p:nvGrpSpPr>
        <p:grpSpPr>
          <a:xfrm>
            <a:off x="186840" y="450720"/>
            <a:ext cx="8772480" cy="6105600"/>
            <a:chOff x="186840" y="450720"/>
            <a:chExt cx="8772480" cy="6105600"/>
          </a:xfrm>
        </p:grpSpPr>
        <p:sp>
          <p:nvSpPr>
            <p:cNvPr id="353" name=""/>
            <p:cNvSpPr/>
            <p:nvPr/>
          </p:nvSpPr>
          <p:spPr>
            <a:xfrm>
              <a:off x="186840" y="450720"/>
              <a:ext cx="105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PB/2006/ILP</a:t>
              </a:r>
              <a:endParaRPr b="0" lang="en-US" sz="12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285920" y="488880"/>
              <a:ext cx="7362720" cy="20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Integration level project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  <p:cxnSp>
          <p:nvCxnSpPr>
            <p:cNvPr id="355" name=""/>
            <p:cNvCxnSpPr/>
            <p:nvPr/>
          </p:nvCxnSpPr>
          <p:spPr>
            <a:xfrm flipV="1">
              <a:off x="8648280" y="588600"/>
              <a:ext cx="2520" cy="5077440"/>
            </a:xfrm>
            <a:prstGeom prst="bentConnector3">
              <a:avLst>
                <a:gd name="adj1" fmla="val 14400000"/>
              </a:avLst>
            </a:prstGeom>
            <a:ln w="19080">
              <a:solidFill>
                <a:srgbClr val="ff0000"/>
              </a:solidFill>
              <a:miter/>
              <a:tailEnd len="lg" type="stealth" w="med"/>
            </a:ln>
          </p:spPr>
        </p:cxnSp>
        <p:cxnSp>
          <p:nvCxnSpPr>
            <p:cNvPr id="356" name=""/>
            <p:cNvCxnSpPr/>
            <p:nvPr/>
          </p:nvCxnSpPr>
          <p:spPr>
            <a:xfrm flipV="1">
              <a:off x="8648280" y="588600"/>
              <a:ext cx="2520" cy="4487040"/>
            </a:xfrm>
            <a:prstGeom prst="bentConnector3">
              <a:avLst>
                <a:gd name="adj1" fmla="val 14400000"/>
              </a:avLst>
            </a:prstGeom>
            <a:ln w="19080">
              <a:solidFill>
                <a:srgbClr val="ff0000"/>
              </a:solidFill>
              <a:miter/>
              <a:tailEnd len="lg" type="stealth" w="med"/>
            </a:ln>
          </p:spPr>
        </p:cxnSp>
        <p:cxnSp>
          <p:nvCxnSpPr>
            <p:cNvPr id="357" name=""/>
            <p:cNvCxnSpPr>
              <a:stCxn id="307" idx="3"/>
              <a:endCxn id="354" idx="3"/>
            </p:cNvCxnSpPr>
            <p:nvPr/>
          </p:nvCxnSpPr>
          <p:spPr>
            <a:xfrm flipV="1">
              <a:off x="5283360" y="588600"/>
              <a:ext cx="3366000" cy="5968080"/>
            </a:xfrm>
            <a:prstGeom prst="bentConnector3">
              <a:avLst>
                <a:gd name="adj1" fmla="val 106781"/>
              </a:avLst>
            </a:prstGeom>
            <a:ln w="19080">
              <a:solidFill>
                <a:srgbClr val="ff0000"/>
              </a:solidFill>
              <a:miter/>
              <a:tailEnd len="lg" type="stealth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3762360" y="162000"/>
            <a:ext cx="4686480" cy="6238440"/>
            <a:chOff x="3762360" y="162000"/>
            <a:chExt cx="4686480" cy="6238440"/>
          </a:xfrm>
        </p:grpSpPr>
        <p:sp>
          <p:nvSpPr>
            <p:cNvPr id="360" name=""/>
            <p:cNvSpPr/>
            <p:nvPr/>
          </p:nvSpPr>
          <p:spPr>
            <a:xfrm>
              <a:off x="3762360" y="162000"/>
              <a:ext cx="0" cy="6238440"/>
            </a:xfrm>
            <a:prstGeom prst="line">
              <a:avLst/>
            </a:prstGeom>
            <a:ln w="9360">
              <a:solidFill>
                <a:srgbClr val="afafa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81840" y="162000"/>
              <a:ext cx="0" cy="6238440"/>
            </a:xfrm>
            <a:prstGeom prst="line">
              <a:avLst/>
            </a:prstGeom>
            <a:ln w="9360">
              <a:solidFill>
                <a:srgbClr val="afafa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448840" y="162000"/>
              <a:ext cx="0" cy="6238440"/>
            </a:xfrm>
            <a:prstGeom prst="line">
              <a:avLst/>
            </a:prstGeom>
            <a:ln w="9360">
              <a:solidFill>
                <a:srgbClr val="afafa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2702160" y="326880"/>
            <a:ext cx="101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12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012280" y="326880"/>
            <a:ext cx="101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hort-term</a:t>
            </a:r>
            <a:endParaRPr b="0" lang="en-US" sz="12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069680" y="326880"/>
            <a:ext cx="12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Medium-term</a:t>
            </a:r>
            <a:endParaRPr b="0" lang="en-US" sz="12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984320" y="1666800"/>
            <a:ext cx="167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189360" y="1374840"/>
            <a:ext cx="8459280" cy="795240"/>
            <a:chOff x="189360" y="1374840"/>
            <a:chExt cx="8459280" cy="795240"/>
          </a:xfrm>
        </p:grpSpPr>
        <p:sp>
          <p:nvSpPr>
            <p:cNvPr id="368" name=""/>
            <p:cNvSpPr/>
            <p:nvPr/>
          </p:nvSpPr>
          <p:spPr>
            <a:xfrm>
              <a:off x="189360" y="1374840"/>
              <a:ext cx="106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PB/2006/C-1</a:t>
              </a:r>
              <a:endParaRPr b="0" lang="en-US" sz="12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285920" y="1413000"/>
              <a:ext cx="7362720" cy="19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Improved modelling of non-uniform contact stress distribution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336680" y="1619280"/>
              <a:ext cx="2376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Closed form solution for circular, non-uniform 3D contact stress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22840" y="1619280"/>
              <a:ext cx="2233440" cy="55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Finite element (FE) solution for irregular shape, non-uniform 3D contact stress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189360" y="2355840"/>
            <a:ext cx="8459280" cy="973800"/>
            <a:chOff x="189360" y="2355840"/>
            <a:chExt cx="8459280" cy="973800"/>
          </a:xfrm>
        </p:grpSpPr>
        <p:sp>
          <p:nvSpPr>
            <p:cNvPr id="373" name=""/>
            <p:cNvSpPr/>
            <p:nvPr/>
          </p:nvSpPr>
          <p:spPr>
            <a:xfrm>
              <a:off x="189360" y="2355840"/>
              <a:ext cx="106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PB/2006/C-2</a:t>
              </a:r>
              <a:endParaRPr b="0" lang="en-US" sz="12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285920" y="2394000"/>
              <a:ext cx="7362720" cy="19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A benchmark of stress and strain in a variety of pavements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279440" y="2638440"/>
              <a:ext cx="243360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GB" sz="1000" spc="-1" strike="noStrike" baseline="30000">
                  <a:solidFill>
                    <a:srgbClr val="000000"/>
                  </a:solidFill>
                  <a:latin typeface="Tahoma"/>
                </a:rPr>
                <a:t>st</a:t>
              </a: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  order system for measuring </a:t>
              </a:r>
              <a:r>
                <a:rPr b="0" i="1" lang="en-GB" sz="1200" spc="-1" strike="noStrike">
                  <a:solidFill>
                    <a:srgbClr val="000000"/>
                  </a:solidFill>
                  <a:latin typeface="Times New Roman"/>
                </a:rPr>
                <a:t>T, </a:t>
              </a:r>
              <a:r>
                <a:rPr b="0" i="1" lang="el-GR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σ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l-GR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p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suc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Benchmark set of </a:t>
              </a:r>
              <a:r>
                <a:rPr b="0" i="1" lang="en-GB" sz="1200" spc="-1" strike="noStrike">
                  <a:solidFill>
                    <a:srgbClr val="000000"/>
                  </a:solidFill>
                  <a:latin typeface="Times New Roman"/>
                </a:rPr>
                <a:t>T,</a:t>
              </a:r>
              <a:r>
                <a:rPr b="0" i="1" lang="el-GR" sz="12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l-GR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, p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uc</a:t>
              </a:r>
              <a:endParaRPr b="0" lang="en-US" sz="12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65600" y="2638440"/>
              <a:ext cx="2290680" cy="45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Wireless intelligent aggregate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Additional </a:t>
              </a:r>
              <a:r>
                <a:rPr b="0" i="1" lang="en-GB" sz="1200" spc="-1" strike="noStrike">
                  <a:solidFill>
                    <a:srgbClr val="000000"/>
                  </a:solidFill>
                  <a:latin typeface="Times New Roman"/>
                </a:rPr>
                <a:t>T, </a:t>
              </a:r>
              <a:r>
                <a:rPr b="0" i="1" lang="el-GR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σ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l-GR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p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suc</a:t>
              </a:r>
              <a:endParaRPr b="0" lang="en-US" sz="1200" spc="-1" strike="noStrike">
                <a:solidFill>
                  <a:srgbClr val="afafaf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89360" y="3375000"/>
            <a:ext cx="8459280" cy="1099800"/>
            <a:chOff x="189360" y="3375000"/>
            <a:chExt cx="8459280" cy="1099800"/>
          </a:xfrm>
        </p:grpSpPr>
        <p:sp>
          <p:nvSpPr>
            <p:cNvPr id="378" name=""/>
            <p:cNvSpPr/>
            <p:nvPr/>
          </p:nvSpPr>
          <p:spPr>
            <a:xfrm>
              <a:off x="189360" y="3375000"/>
              <a:ext cx="106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PB/2006/C-3</a:t>
              </a:r>
              <a:endParaRPr b="0" lang="en-US" sz="12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85920" y="3413160"/>
              <a:ext cx="7362720" cy="20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Modelling vertical and horizontal variation in pavement response related to the temperature and stress dependency of materials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279440" y="3619440"/>
              <a:ext cx="243360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Closed form solution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Temp. gradient in AC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Dens. and MC gradient in unbound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Effective stress in unbound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Stress dependency in unbound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936960" y="3619440"/>
              <a:ext cx="2119320" cy="85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FE solution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3D variation in temp. dens. MC and stress condition 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Thermally coupled analysis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Effective stress in unbound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189360" y="4489560"/>
            <a:ext cx="8459280" cy="547920"/>
            <a:chOff x="189360" y="4489560"/>
            <a:chExt cx="8459280" cy="547920"/>
          </a:xfrm>
        </p:grpSpPr>
        <p:sp>
          <p:nvSpPr>
            <p:cNvPr id="383" name=""/>
            <p:cNvSpPr/>
            <p:nvPr/>
          </p:nvSpPr>
          <p:spPr>
            <a:xfrm>
              <a:off x="189360" y="4489560"/>
              <a:ext cx="106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PB/2006/C-4</a:t>
              </a:r>
              <a:endParaRPr b="0" lang="en-US" sz="12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285920" y="4527720"/>
              <a:ext cx="7362720" cy="19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Improved modelling of geometric non-linearity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89000" y="4791240"/>
              <a:ext cx="2624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Closed form solution with layer slip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108840" y="4791240"/>
              <a:ext cx="23097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FE solution with cracks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189360" y="5261040"/>
            <a:ext cx="8459280" cy="852480"/>
            <a:chOff x="189360" y="5261040"/>
            <a:chExt cx="8459280" cy="852480"/>
          </a:xfrm>
        </p:grpSpPr>
        <p:sp>
          <p:nvSpPr>
            <p:cNvPr id="388" name=""/>
            <p:cNvSpPr/>
            <p:nvPr/>
          </p:nvSpPr>
          <p:spPr>
            <a:xfrm>
              <a:off x="3936960" y="5562720"/>
              <a:ext cx="2119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FE solution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Perfect plasticity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Dynamic response analysis 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31920" y="5562720"/>
              <a:ext cx="24811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Closed form visco-elastic solution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9360" y="5261040"/>
              <a:ext cx="106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PB/2006/C-5</a:t>
              </a:r>
              <a:endParaRPr b="0" lang="en-US" sz="12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285920" y="5299200"/>
              <a:ext cx="7362720" cy="19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Improved modelling of material non-linearity and dynamic pavement response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327720" y="5562720"/>
              <a:ext cx="2119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FE solution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Visco-elasto-plastic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91800" y="650880"/>
            <a:ext cx="8786160" cy="5689080"/>
            <a:chOff x="91800" y="650880"/>
            <a:chExt cx="8786160" cy="5689080"/>
          </a:xfrm>
        </p:grpSpPr>
        <p:sp>
          <p:nvSpPr>
            <p:cNvPr id="394" name=""/>
            <p:cNvSpPr/>
            <p:nvPr/>
          </p:nvSpPr>
          <p:spPr>
            <a:xfrm>
              <a:off x="186840" y="650880"/>
              <a:ext cx="105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PB/2006/ILP</a:t>
              </a:r>
              <a:endParaRPr b="0" lang="en-US" sz="1200" spc="-1" strike="noStrike">
                <a:solidFill>
                  <a:srgbClr val="afafaf"/>
                </a:solidFill>
                <a:latin typeface="Arial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91800" y="689040"/>
              <a:ext cx="8786160" cy="5650920"/>
              <a:chOff x="91800" y="689040"/>
              <a:chExt cx="8786160" cy="5650920"/>
            </a:xfrm>
          </p:grpSpPr>
          <p:sp>
            <p:nvSpPr>
              <p:cNvPr id="396" name=""/>
              <p:cNvSpPr/>
              <p:nvPr/>
            </p:nvSpPr>
            <p:spPr>
              <a:xfrm>
                <a:off x="1285920" y="689040"/>
                <a:ext cx="7362720" cy="199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ahoma"/>
                  </a:rPr>
                  <a:t>Integration level project</a:t>
                </a:r>
                <a:endParaRPr b="0" lang="en-US" sz="1000" spc="-1" strike="noStrike">
                  <a:solidFill>
                    <a:srgbClr val="afafaf"/>
                  </a:solidFill>
                  <a:latin typeface="Arial"/>
                </a:endParaRPr>
              </a:p>
            </p:txBody>
          </p:sp>
          <p:grpSp>
            <p:nvGrpSpPr>
              <p:cNvPr id="397" name=""/>
              <p:cNvGrpSpPr/>
              <p:nvPr/>
            </p:nvGrpSpPr>
            <p:grpSpPr>
              <a:xfrm>
                <a:off x="91800" y="788400"/>
                <a:ext cx="8786160" cy="5551560"/>
                <a:chOff x="91800" y="788400"/>
                <a:chExt cx="8786160" cy="5551560"/>
              </a:xfrm>
            </p:grpSpPr>
            <p:cxnSp>
              <p:nvCxnSpPr>
                <p:cNvPr id="398" name=""/>
                <p:cNvCxnSpPr>
                  <a:stCxn id="389" idx="1"/>
                  <a:endCxn id="396" idx="2"/>
                </p:cNvCxnSpPr>
                <p:nvPr/>
              </p:nvCxnSpPr>
              <p:spPr>
                <a:xfrm flipH="1" rot="10800000">
                  <a:off x="1231560" y="888120"/>
                  <a:ext cx="3736080" cy="4796640"/>
                </a:xfrm>
                <a:prstGeom prst="bentConnector4">
                  <a:avLst>
                    <a:gd name="adj1" fmla="val -30384"/>
                    <a:gd name="adj2" fmla="val 93935"/>
                  </a:avLst>
                </a:prstGeom>
                <a:ln w="19080">
                  <a:solidFill>
                    <a:srgbClr val="ff0000"/>
                  </a:solidFill>
                  <a:miter/>
                  <a:tailEnd len="lg" type="stealth" w="med"/>
                </a:ln>
              </p:spPr>
            </p:cxnSp>
            <p:cxnSp>
              <p:nvCxnSpPr>
                <p:cNvPr id="399" name=""/>
                <p:cNvCxnSpPr>
                  <a:stCxn id="385" idx="1"/>
                  <a:endCxn id="396" idx="2"/>
                </p:cNvCxnSpPr>
                <p:nvPr/>
              </p:nvCxnSpPr>
              <p:spPr>
                <a:xfrm flipH="1" rot="10800000">
                  <a:off x="1087920" y="888120"/>
                  <a:ext cx="3879000" cy="4025160"/>
                </a:xfrm>
                <a:prstGeom prst="bentConnector4">
                  <a:avLst>
                    <a:gd name="adj1" fmla="val -25617"/>
                    <a:gd name="adj2" fmla="val 92656"/>
                  </a:avLst>
                </a:prstGeom>
                <a:ln w="19080">
                  <a:solidFill>
                    <a:srgbClr val="ff0000"/>
                  </a:solidFill>
                  <a:miter/>
                  <a:tailEnd len="lg" type="stealth" w="med"/>
                </a:ln>
              </p:spPr>
            </p:cxnSp>
            <p:cxnSp>
              <p:nvCxnSpPr>
                <p:cNvPr id="400" name=""/>
                <p:cNvCxnSpPr>
                  <a:stCxn id="380" idx="1"/>
                  <a:endCxn id="396" idx="2"/>
                </p:cNvCxnSpPr>
                <p:nvPr/>
              </p:nvCxnSpPr>
              <p:spPr>
                <a:xfrm flipH="1" rot="10800000">
                  <a:off x="1279080" y="888120"/>
                  <a:ext cx="3688560" cy="3158280"/>
                </a:xfrm>
                <a:prstGeom prst="bentConnector4">
                  <a:avLst>
                    <a:gd name="adj1" fmla="val -32113"/>
                    <a:gd name="adj2" fmla="val 90788"/>
                  </a:avLst>
                </a:prstGeom>
                <a:ln w="19080">
                  <a:solidFill>
                    <a:srgbClr val="ff0000"/>
                  </a:solidFill>
                  <a:miter/>
                  <a:tailEnd len="lg" type="stealth" w="med"/>
                </a:ln>
              </p:spPr>
            </p:cxnSp>
            <p:cxnSp>
              <p:nvCxnSpPr>
                <p:cNvPr id="401" name=""/>
                <p:cNvCxnSpPr>
                  <a:stCxn id="375" idx="1"/>
                  <a:endCxn id="396" idx="2"/>
                </p:cNvCxnSpPr>
                <p:nvPr/>
              </p:nvCxnSpPr>
              <p:spPr>
                <a:xfrm flipH="1" rot="10800000">
                  <a:off x="1279080" y="888120"/>
                  <a:ext cx="3688560" cy="2071080"/>
                </a:xfrm>
                <a:prstGeom prst="bentConnector4">
                  <a:avLst>
                    <a:gd name="adj1" fmla="val -32201"/>
                    <a:gd name="adj2" fmla="val 85796"/>
                  </a:avLst>
                </a:prstGeom>
                <a:ln w="19080">
                  <a:solidFill>
                    <a:srgbClr val="ff0000"/>
                  </a:solidFill>
                  <a:miter/>
                  <a:tailEnd len="lg" type="stealth" w="med"/>
                </a:ln>
              </p:spPr>
            </p:cxnSp>
            <p:cxnSp>
              <p:nvCxnSpPr>
                <p:cNvPr id="402" name=""/>
                <p:cNvCxnSpPr>
                  <a:stCxn id="370" idx="1"/>
                  <a:endCxn id="396" idx="2"/>
                </p:cNvCxnSpPr>
                <p:nvPr/>
              </p:nvCxnSpPr>
              <p:spPr>
                <a:xfrm flipH="1" rot="10800000">
                  <a:off x="1335600" y="888120"/>
                  <a:ext cx="3631320" cy="929520"/>
                </a:xfrm>
                <a:prstGeom prst="bentConnector4">
                  <a:avLst>
                    <a:gd name="adj1" fmla="val -34017"/>
                    <a:gd name="adj2" fmla="val 68888"/>
                  </a:avLst>
                </a:prstGeom>
                <a:ln w="19080">
                  <a:solidFill>
                    <a:srgbClr val="ff0000"/>
                  </a:solidFill>
                  <a:miter/>
                  <a:tailEnd len="lg" type="stealth" w="med"/>
                </a:ln>
              </p:spPr>
            </p:cxnSp>
            <p:cxnSp>
              <p:nvCxnSpPr>
                <p:cNvPr id="403" name=""/>
                <p:cNvCxnSpPr>
                  <a:stCxn id="388" idx="2"/>
                  <a:endCxn id="396" idx="3"/>
                </p:cNvCxnSpPr>
                <p:nvPr/>
              </p:nvCxnSpPr>
              <p:spPr>
                <a:xfrm flipH="1" flipV="1" rot="5400000">
                  <a:off x="4161600" y="1624320"/>
                  <a:ext cx="5323320" cy="3651840"/>
                </a:xfrm>
                <a:prstGeom prst="bentConnector4">
                  <a:avLst>
                    <a:gd name="adj1" fmla="val -4294"/>
                    <a:gd name="adj2" fmla="val 106250"/>
                  </a:avLst>
                </a:prstGeom>
                <a:ln w="19080">
                  <a:solidFill>
                    <a:srgbClr val="ff0000"/>
                  </a:solidFill>
                  <a:miter/>
                  <a:tailEnd len="lg" type="stealth" w="med"/>
                </a:ln>
              </p:spPr>
            </p:cxnSp>
            <p:cxnSp>
              <p:nvCxnSpPr>
                <p:cNvPr id="404" name=""/>
                <p:cNvCxnSpPr>
                  <a:stCxn id="381" idx="3"/>
                  <a:endCxn id="396" idx="3"/>
                </p:cNvCxnSpPr>
                <p:nvPr/>
              </p:nvCxnSpPr>
              <p:spPr>
                <a:xfrm flipV="1">
                  <a:off x="6055920" y="788760"/>
                  <a:ext cx="2592720" cy="3258000"/>
                </a:xfrm>
                <a:prstGeom prst="bentConnector3">
                  <a:avLst>
                    <a:gd name="adj1" fmla="val 108832"/>
                  </a:avLst>
                </a:prstGeom>
                <a:ln w="19080">
                  <a:solidFill>
                    <a:srgbClr val="ff0000"/>
                  </a:solidFill>
                  <a:miter/>
                  <a:tailEnd len="lg" type="stealth" w="med"/>
                </a:ln>
              </p:spPr>
            </p:cxnSp>
            <p:cxnSp>
              <p:nvCxnSpPr>
                <p:cNvPr id="405" name=""/>
                <p:cNvCxnSpPr>
                  <a:stCxn id="376" idx="3"/>
                  <a:endCxn id="396" idx="3"/>
                </p:cNvCxnSpPr>
                <p:nvPr/>
              </p:nvCxnSpPr>
              <p:spPr>
                <a:xfrm flipV="1">
                  <a:off x="6055920" y="788760"/>
                  <a:ext cx="2592720" cy="2064240"/>
                </a:xfrm>
                <a:prstGeom prst="bentConnector3">
                  <a:avLst>
                    <a:gd name="adj1" fmla="val 108832"/>
                  </a:avLst>
                </a:prstGeom>
                <a:ln w="19080">
                  <a:solidFill>
                    <a:srgbClr val="ff0000"/>
                  </a:solidFill>
                  <a:miter/>
                  <a:tailEnd len="lg" type="stealth" w="med"/>
                </a:ln>
              </p:spPr>
            </p:cxnSp>
            <p:cxnSp>
              <p:nvCxnSpPr>
                <p:cNvPr id="406" name=""/>
                <p:cNvCxnSpPr>
                  <a:stCxn id="371" idx="3"/>
                  <a:endCxn id="396" idx="3"/>
                </p:cNvCxnSpPr>
                <p:nvPr/>
              </p:nvCxnSpPr>
              <p:spPr>
                <a:xfrm flipV="1">
                  <a:off x="6055920" y="788400"/>
                  <a:ext cx="2592720" cy="1105560"/>
                </a:xfrm>
                <a:prstGeom prst="bentConnector3">
                  <a:avLst>
                    <a:gd name="adj1" fmla="val 108832"/>
                  </a:avLst>
                </a:prstGeom>
                <a:ln w="19080">
                  <a:solidFill>
                    <a:srgbClr val="ff0000"/>
                  </a:solidFill>
                  <a:miter/>
                  <a:tailEnd len="lg" type="stealth" w="med"/>
                </a:ln>
              </p:spPr>
            </p:cxnSp>
            <p:cxnSp>
              <p:nvCxnSpPr>
                <p:cNvPr id="407" name=""/>
                <p:cNvCxnSpPr>
                  <a:stCxn id="386" idx="3"/>
                  <a:endCxn id="396" idx="3"/>
                </p:cNvCxnSpPr>
                <p:nvPr/>
              </p:nvCxnSpPr>
              <p:spPr>
                <a:xfrm flipV="1">
                  <a:off x="8418240" y="788760"/>
                  <a:ext cx="230760" cy="4124880"/>
                </a:xfrm>
                <a:prstGeom prst="bentConnector3">
                  <a:avLst>
                    <a:gd name="adj1" fmla="val 199218"/>
                  </a:avLst>
                </a:prstGeom>
                <a:ln w="19080">
                  <a:solidFill>
                    <a:srgbClr val="ff0000"/>
                  </a:solidFill>
                  <a:miter/>
                  <a:tailEnd len="lg" type="stealth" w="med"/>
                </a:ln>
              </p:spPr>
            </p:cxnSp>
            <p:cxnSp>
              <p:nvCxnSpPr>
                <p:cNvPr id="408" name=""/>
                <p:cNvCxnSpPr>
                  <a:stCxn id="392" idx="3"/>
                  <a:endCxn id="396" idx="3"/>
                </p:cNvCxnSpPr>
                <p:nvPr/>
              </p:nvCxnSpPr>
              <p:spPr>
                <a:xfrm flipV="1">
                  <a:off x="8447040" y="788400"/>
                  <a:ext cx="202320" cy="4972680"/>
                </a:xfrm>
                <a:prstGeom prst="bentConnector3">
                  <a:avLst>
                    <a:gd name="adj1" fmla="val 213368"/>
                  </a:avLst>
                </a:prstGeom>
                <a:ln w="19080">
                  <a:solidFill>
                    <a:srgbClr val="ff0000"/>
                  </a:solidFill>
                  <a:miter/>
                  <a:tailEnd len="lg" type="stealth" w="med"/>
                </a:ln>
              </p:spPr>
            </p:cxn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3762360" y="162000"/>
            <a:ext cx="4686480" cy="5984280"/>
            <a:chOff x="3762360" y="162000"/>
            <a:chExt cx="4686480" cy="5984280"/>
          </a:xfrm>
        </p:grpSpPr>
        <p:sp>
          <p:nvSpPr>
            <p:cNvPr id="411" name=""/>
            <p:cNvSpPr/>
            <p:nvPr/>
          </p:nvSpPr>
          <p:spPr>
            <a:xfrm>
              <a:off x="3762360" y="162000"/>
              <a:ext cx="0" cy="5984280"/>
            </a:xfrm>
            <a:prstGeom prst="line">
              <a:avLst/>
            </a:prstGeom>
            <a:ln w="9360">
              <a:solidFill>
                <a:srgbClr val="afafa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081840" y="162000"/>
              <a:ext cx="0" cy="5984280"/>
            </a:xfrm>
            <a:prstGeom prst="line">
              <a:avLst/>
            </a:prstGeom>
            <a:ln w="9360">
              <a:solidFill>
                <a:srgbClr val="afafa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448840" y="162000"/>
              <a:ext cx="0" cy="5984280"/>
            </a:xfrm>
            <a:prstGeom prst="line">
              <a:avLst/>
            </a:prstGeom>
            <a:ln w="9360">
              <a:solidFill>
                <a:srgbClr val="afafa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2702160" y="326880"/>
            <a:ext cx="101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12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012280" y="326880"/>
            <a:ext cx="101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hort-term</a:t>
            </a:r>
            <a:endParaRPr b="0" lang="en-US" sz="12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69680" y="326880"/>
            <a:ext cx="12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Medium-term</a:t>
            </a:r>
            <a:endParaRPr b="0" lang="en-US" sz="12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984320" y="1428840"/>
            <a:ext cx="167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187200" y="3971880"/>
            <a:ext cx="8461440" cy="2470320"/>
            <a:chOff x="187200" y="3971880"/>
            <a:chExt cx="8461440" cy="2470320"/>
          </a:xfrm>
        </p:grpSpPr>
        <p:sp>
          <p:nvSpPr>
            <p:cNvPr id="419" name=""/>
            <p:cNvSpPr/>
            <p:nvPr/>
          </p:nvSpPr>
          <p:spPr>
            <a:xfrm>
              <a:off x="187200" y="3971880"/>
              <a:ext cx="108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PB/2006/D-3</a:t>
              </a:r>
              <a:endParaRPr b="0" lang="en-US" sz="12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285920" y="4010040"/>
              <a:ext cx="7362720" cy="20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Improved damage models for stabilized material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279440" y="4216320"/>
              <a:ext cx="2433600" cy="22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Final recommendation on appropriate damage models;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Accelerated curing procedures for simulating short and long-term aging;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Tahoma"/>
                </a:rPr>
                <a:t>Test protocols for yield strength, plastic strain and flexibility testing;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The effect of long-term changes on the yield strength, flexibility and plastic deformation resistance;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Recalibration of the effective fatigue damage model for cement-treated material.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936960" y="4216320"/>
              <a:ext cx="2119320" cy="100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Yield strength, plastic strain and flexibility models calibrated for a comprehensive range of stabilized materials at different stabilizer contents and different stages of curing 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187200" y="1136520"/>
            <a:ext cx="8461440" cy="1252080"/>
            <a:chOff x="187200" y="1136520"/>
            <a:chExt cx="8461440" cy="1252080"/>
          </a:xfrm>
        </p:grpSpPr>
        <p:sp>
          <p:nvSpPr>
            <p:cNvPr id="424" name=""/>
            <p:cNvSpPr/>
            <p:nvPr/>
          </p:nvSpPr>
          <p:spPr>
            <a:xfrm>
              <a:off x="187200" y="1136520"/>
              <a:ext cx="108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PB/2006/D-1</a:t>
              </a:r>
              <a:endParaRPr b="0" lang="en-US" sz="12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285920" y="1174680"/>
              <a:ext cx="7362720" cy="20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Improved damage models for bituminous materials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336680" y="1380960"/>
              <a:ext cx="23763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Fatigue damage models based on overseas research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Plastic strain predictive models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0000"/>
                  </a:solidFill>
                  <a:latin typeface="Tahoma"/>
                </a:rPr>
                <a:t>Test protocols and damage model calibration procedures for bituminous material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822840" y="1380960"/>
              <a:ext cx="2233440" cy="70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PMS based damage distributions and expected life for surface seals and non-structural thin layer bituminous surfacings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81840" y="1380960"/>
              <a:ext cx="23763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SA based fatigue and plastic strain damage models for HMA surfacing and base courses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Mechanistic damage models for seals and non-structural thin layer bituminous surfacings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187200" y="2400480"/>
            <a:ext cx="8461440" cy="1594440"/>
            <a:chOff x="187200" y="2400480"/>
            <a:chExt cx="8461440" cy="1594440"/>
          </a:xfrm>
        </p:grpSpPr>
        <p:sp>
          <p:nvSpPr>
            <p:cNvPr id="430" name=""/>
            <p:cNvSpPr/>
            <p:nvPr/>
          </p:nvSpPr>
          <p:spPr>
            <a:xfrm>
              <a:off x="187200" y="2400480"/>
              <a:ext cx="108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PB/2006/D-2</a:t>
              </a:r>
              <a:endParaRPr b="0" lang="en-US" sz="12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85920" y="2438280"/>
              <a:ext cx="7362720" cy="20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Improved plastic strain and shear damage models for unbound material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79440" y="2682720"/>
              <a:ext cx="243360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A subgrade permanent deformation damage model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Calibrated yield strength and plastic strain damage models for unbound structural layers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0000"/>
                  </a:solidFill>
                  <a:latin typeface="Tahoma"/>
                </a:rPr>
                <a:t>Test protocols and model calibration procedures for unbound material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822840" y="2682720"/>
              <a:ext cx="223344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Ongoing calibration of yield strength and plastic strain damage models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Continuous damage models for non-linear recursive analysis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Yield strength and damage models related to engineering parameters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116280" y="1884240"/>
            <a:ext cx="5153760" cy="4785120"/>
            <a:chOff x="116280" y="1884240"/>
            <a:chExt cx="5153760" cy="4785120"/>
          </a:xfrm>
        </p:grpSpPr>
        <p:sp>
          <p:nvSpPr>
            <p:cNvPr id="435" name=""/>
            <p:cNvSpPr/>
            <p:nvPr/>
          </p:nvSpPr>
          <p:spPr>
            <a:xfrm>
              <a:off x="4354920" y="6423120"/>
              <a:ext cx="91512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PB/2006/B-3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116280" y="1884240"/>
              <a:ext cx="4697280" cy="4539240"/>
              <a:chOff x="116280" y="1884240"/>
              <a:chExt cx="4697280" cy="4539240"/>
            </a:xfrm>
          </p:grpSpPr>
          <p:cxnSp>
            <p:nvCxnSpPr>
              <p:cNvPr id="437" name=""/>
              <p:cNvCxnSpPr>
                <a:stCxn id="426" idx="1"/>
                <a:endCxn id="435" idx="0"/>
              </p:cNvCxnSpPr>
              <p:nvPr/>
            </p:nvCxnSpPr>
            <p:spPr>
              <a:xfrm flipH="1" flipV="1" rot="10800000">
                <a:off x="1335600" y="1883880"/>
                <a:ext cx="3477240" cy="4539600"/>
              </a:xfrm>
              <a:prstGeom prst="bentConnector4">
                <a:avLst>
                  <a:gd name="adj1" fmla="val -35069"/>
                  <a:gd name="adj2" fmla="val 95550"/>
                </a:avLst>
              </a:prstGeom>
              <a:ln w="19080">
                <a:solidFill>
                  <a:srgbClr val="00ff00"/>
                </a:solidFill>
                <a:miter/>
                <a:tailEnd len="lg" type="stealth" w="med"/>
              </a:ln>
            </p:spPr>
          </p:cxnSp>
          <p:cxnSp>
            <p:nvCxnSpPr>
              <p:cNvPr id="438" name=""/>
              <p:cNvCxnSpPr>
                <a:stCxn id="432" idx="1"/>
                <a:endCxn id="435" idx="0"/>
              </p:cNvCxnSpPr>
              <p:nvPr/>
            </p:nvCxnSpPr>
            <p:spPr>
              <a:xfrm flipH="1" flipV="1" rot="10800000">
                <a:off x="1279080" y="3261960"/>
                <a:ext cx="3534480" cy="3161520"/>
              </a:xfrm>
              <a:prstGeom prst="bentConnector4">
                <a:avLst>
                  <a:gd name="adj1" fmla="val -32657"/>
                  <a:gd name="adj2" fmla="val 93360"/>
                </a:avLst>
              </a:prstGeom>
              <a:ln w="19080">
                <a:solidFill>
                  <a:srgbClr val="00ff00"/>
                </a:solidFill>
                <a:miter/>
                <a:tailEnd len="lg" type="stealth" w="med"/>
              </a:ln>
            </p:spPr>
          </p:cxnSp>
          <p:cxnSp>
            <p:nvCxnSpPr>
              <p:cNvPr id="439" name=""/>
              <p:cNvCxnSpPr>
                <a:stCxn id="421" idx="1"/>
                <a:endCxn id="435" idx="0"/>
              </p:cNvCxnSpPr>
              <p:nvPr/>
            </p:nvCxnSpPr>
            <p:spPr>
              <a:xfrm flipH="1" flipV="1" rot="10800000">
                <a:off x="1279080" y="5252760"/>
                <a:ext cx="3534480" cy="1170720"/>
              </a:xfrm>
              <a:prstGeom prst="bentConnector4">
                <a:avLst>
                  <a:gd name="adj1" fmla="val -32606"/>
                  <a:gd name="adj2" fmla="val 82743"/>
                </a:avLst>
              </a:prstGeom>
              <a:ln w="19080">
                <a:solidFill>
                  <a:srgbClr val="00ff00"/>
                </a:solidFill>
                <a:miter/>
                <a:tailEnd len="lg" type="stealth" w="med"/>
              </a:ln>
            </p:spPr>
          </p:cxnSp>
        </p:grpSp>
      </p:grpSp>
      <p:grpSp>
        <p:nvGrpSpPr>
          <p:cNvPr id="440" name=""/>
          <p:cNvGrpSpPr/>
          <p:nvPr/>
        </p:nvGrpSpPr>
        <p:grpSpPr>
          <a:xfrm>
            <a:off x="5421600" y="1274760"/>
            <a:ext cx="3455640" cy="5394600"/>
            <a:chOff x="5421600" y="1274760"/>
            <a:chExt cx="3455640" cy="5394600"/>
          </a:xfrm>
        </p:grpSpPr>
        <p:sp>
          <p:nvSpPr>
            <p:cNvPr id="441" name=""/>
            <p:cNvSpPr/>
            <p:nvPr/>
          </p:nvSpPr>
          <p:spPr>
            <a:xfrm>
              <a:off x="5421600" y="6423120"/>
              <a:ext cx="91512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PB/2006/B-4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6332040" y="1274760"/>
              <a:ext cx="2545200" cy="5275800"/>
              <a:chOff x="6332040" y="1274760"/>
              <a:chExt cx="2545200" cy="5275800"/>
            </a:xfrm>
          </p:grpSpPr>
          <p:cxnSp>
            <p:nvCxnSpPr>
              <p:cNvPr id="443" name=""/>
              <p:cNvCxnSpPr>
                <a:stCxn id="425" idx="3"/>
                <a:endCxn id="441" idx="3"/>
              </p:cNvCxnSpPr>
              <p:nvPr/>
            </p:nvCxnSpPr>
            <p:spPr>
              <a:xfrm flipH="1">
                <a:off x="6332040" y="1274760"/>
                <a:ext cx="2316960" cy="5276160"/>
              </a:xfrm>
              <a:prstGeom prst="bentConnector3">
                <a:avLst>
                  <a:gd name="adj1" fmla="val -9867"/>
                </a:avLst>
              </a:prstGeom>
              <a:ln w="19080">
                <a:solidFill>
                  <a:srgbClr val="0000ff"/>
                </a:solidFill>
                <a:miter/>
                <a:tailEnd len="lg" type="stealth" w="med"/>
              </a:ln>
            </p:spPr>
          </p:cxnSp>
          <p:cxnSp>
            <p:nvCxnSpPr>
              <p:cNvPr id="444" name=""/>
              <p:cNvCxnSpPr>
                <a:stCxn id="431" idx="3"/>
                <a:endCxn id="441" idx="3"/>
              </p:cNvCxnSpPr>
              <p:nvPr/>
            </p:nvCxnSpPr>
            <p:spPr>
              <a:xfrm flipH="1">
                <a:off x="6332040" y="2538360"/>
                <a:ext cx="2316960" cy="4012560"/>
              </a:xfrm>
              <a:prstGeom prst="bentConnector3">
                <a:avLst>
                  <a:gd name="adj1" fmla="val -9867"/>
                </a:avLst>
              </a:prstGeom>
              <a:ln w="19080">
                <a:solidFill>
                  <a:srgbClr val="0000ff"/>
                </a:solidFill>
                <a:miter/>
                <a:tailEnd len="lg" type="stealth" w="med"/>
              </a:ln>
            </p:spPr>
          </p:cxnSp>
          <p:cxnSp>
            <p:nvCxnSpPr>
              <p:cNvPr id="445" name=""/>
              <p:cNvCxnSpPr>
                <a:stCxn id="420" idx="3"/>
                <a:endCxn id="441" idx="3"/>
              </p:cNvCxnSpPr>
              <p:nvPr/>
            </p:nvCxnSpPr>
            <p:spPr>
              <a:xfrm flipH="1">
                <a:off x="6332040" y="4110120"/>
                <a:ext cx="2316960" cy="2440800"/>
              </a:xfrm>
              <a:prstGeom prst="bentConnector3">
                <a:avLst>
                  <a:gd name="adj1" fmla="val -9867"/>
                </a:avLst>
              </a:prstGeom>
              <a:ln w="19080">
                <a:solidFill>
                  <a:srgbClr val="0000ff"/>
                </a:solidFill>
                <a:miter/>
                <a:tailEnd len="lg" type="stealth" w="med"/>
              </a:ln>
            </p:spPr>
          </p:cxnSp>
        </p:grpSp>
      </p:grpSp>
      <p:grpSp>
        <p:nvGrpSpPr>
          <p:cNvPr id="446" name=""/>
          <p:cNvGrpSpPr/>
          <p:nvPr/>
        </p:nvGrpSpPr>
        <p:grpSpPr>
          <a:xfrm>
            <a:off x="186840" y="650880"/>
            <a:ext cx="8928000" cy="3458880"/>
            <a:chOff x="186840" y="650880"/>
            <a:chExt cx="8928000" cy="3458880"/>
          </a:xfrm>
        </p:grpSpPr>
        <p:sp>
          <p:nvSpPr>
            <p:cNvPr id="447" name=""/>
            <p:cNvSpPr/>
            <p:nvPr/>
          </p:nvSpPr>
          <p:spPr>
            <a:xfrm>
              <a:off x="186840" y="650880"/>
              <a:ext cx="105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PB/2006/ILP</a:t>
              </a:r>
              <a:endParaRPr b="0" lang="en-US" sz="12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285920" y="689040"/>
              <a:ext cx="7362720" cy="19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Integration level project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8648280" y="788400"/>
              <a:ext cx="466560" cy="3321360"/>
              <a:chOff x="8648280" y="788400"/>
              <a:chExt cx="466560" cy="3321360"/>
            </a:xfrm>
          </p:grpSpPr>
          <p:cxnSp>
            <p:nvCxnSpPr>
              <p:cNvPr id="450" name=""/>
              <p:cNvCxnSpPr>
                <a:stCxn id="420" idx="3"/>
                <a:endCxn id="448" idx="3"/>
              </p:cNvCxnSpPr>
              <p:nvPr/>
            </p:nvCxnSpPr>
            <p:spPr>
              <a:xfrm flipV="1">
                <a:off x="8648280" y="788400"/>
                <a:ext cx="2520" cy="3321720"/>
              </a:xfrm>
              <a:prstGeom prst="bentConnector3">
                <a:avLst>
                  <a:gd name="adj1" fmla="val 21600000"/>
                </a:avLst>
              </a:prstGeom>
              <a:ln w="19080">
                <a:solidFill>
                  <a:srgbClr val="ff0000"/>
                </a:solidFill>
                <a:miter/>
                <a:tailEnd len="lg" type="stealth" w="med"/>
              </a:ln>
            </p:spPr>
          </p:cxnSp>
          <p:cxnSp>
            <p:nvCxnSpPr>
              <p:cNvPr id="451" name=""/>
              <p:cNvCxnSpPr>
                <a:stCxn id="431" idx="3"/>
                <a:endCxn id="448" idx="3"/>
              </p:cNvCxnSpPr>
              <p:nvPr/>
            </p:nvCxnSpPr>
            <p:spPr>
              <a:xfrm flipV="1">
                <a:off x="8648280" y="788400"/>
                <a:ext cx="2520" cy="1749960"/>
              </a:xfrm>
              <a:prstGeom prst="bentConnector3">
                <a:avLst>
                  <a:gd name="adj1" fmla="val 21600000"/>
                </a:avLst>
              </a:prstGeom>
              <a:ln w="19080">
                <a:solidFill>
                  <a:srgbClr val="ff0000"/>
                </a:solidFill>
                <a:miter/>
                <a:tailEnd len="lg" type="stealth" w="med"/>
              </a:ln>
            </p:spPr>
          </p:cxnSp>
          <p:cxnSp>
            <p:nvCxnSpPr>
              <p:cNvPr id="452" name=""/>
              <p:cNvCxnSpPr>
                <a:stCxn id="425" idx="3"/>
                <a:endCxn id="448" idx="3"/>
              </p:cNvCxnSpPr>
              <p:nvPr/>
            </p:nvCxnSpPr>
            <p:spPr>
              <a:xfrm flipV="1">
                <a:off x="8648280" y="788400"/>
                <a:ext cx="2520" cy="486360"/>
              </a:xfrm>
              <a:prstGeom prst="bentConnector3">
                <a:avLst>
                  <a:gd name="adj1" fmla="val 21000000"/>
                </a:avLst>
              </a:prstGeom>
              <a:ln w="19080">
                <a:solidFill>
                  <a:srgbClr val="ff0000"/>
                </a:solidFill>
                <a:miter/>
                <a:tailEnd len="lg" type="stealth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3762360" y="162000"/>
            <a:ext cx="4686480" cy="5984280"/>
            <a:chOff x="3762360" y="162000"/>
            <a:chExt cx="4686480" cy="5984280"/>
          </a:xfrm>
        </p:grpSpPr>
        <p:sp>
          <p:nvSpPr>
            <p:cNvPr id="455" name=""/>
            <p:cNvSpPr/>
            <p:nvPr/>
          </p:nvSpPr>
          <p:spPr>
            <a:xfrm>
              <a:off x="3762360" y="162000"/>
              <a:ext cx="0" cy="5984280"/>
            </a:xfrm>
            <a:prstGeom prst="line">
              <a:avLst/>
            </a:prstGeom>
            <a:ln w="9360">
              <a:solidFill>
                <a:srgbClr val="afafa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81840" y="162000"/>
              <a:ext cx="0" cy="5984280"/>
            </a:xfrm>
            <a:prstGeom prst="line">
              <a:avLst/>
            </a:prstGeom>
            <a:ln w="9360">
              <a:solidFill>
                <a:srgbClr val="afafa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448840" y="162000"/>
              <a:ext cx="0" cy="5984280"/>
            </a:xfrm>
            <a:prstGeom prst="line">
              <a:avLst/>
            </a:prstGeom>
            <a:ln w="9360">
              <a:solidFill>
                <a:srgbClr val="afafa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2702160" y="326880"/>
            <a:ext cx="101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12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012280" y="326880"/>
            <a:ext cx="101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hort-term</a:t>
            </a:r>
            <a:endParaRPr b="0" lang="en-US" sz="12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069680" y="326880"/>
            <a:ext cx="12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Medium-term</a:t>
            </a:r>
            <a:endParaRPr b="0" lang="en-US" sz="12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984320" y="1428840"/>
            <a:ext cx="167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191160" y="2400480"/>
            <a:ext cx="8457480" cy="1442160"/>
            <a:chOff x="191160" y="2400480"/>
            <a:chExt cx="8457480" cy="1442160"/>
          </a:xfrm>
        </p:grpSpPr>
        <p:sp>
          <p:nvSpPr>
            <p:cNvPr id="463" name=""/>
            <p:cNvSpPr/>
            <p:nvPr/>
          </p:nvSpPr>
          <p:spPr>
            <a:xfrm>
              <a:off x="191160" y="2400480"/>
              <a:ext cx="105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PB/2006/E-2</a:t>
              </a:r>
              <a:endParaRPr b="0" lang="en-US" sz="12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285920" y="2438280"/>
              <a:ext cx="7362720" cy="20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Guidelines on the collection and interpretation of statistical data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279440" y="2682720"/>
              <a:ext cx="2433600" cy="11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Guidelines for collecting sufficiently large data samples and method specifications for statistical analysis and interpretation of the input data for new and rehabilitation design;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Tahoma"/>
                </a:rPr>
                <a:t>Training material on the content of the above documents.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186840" y="650880"/>
            <a:ext cx="8928000" cy="3458880"/>
            <a:chOff x="186840" y="650880"/>
            <a:chExt cx="8928000" cy="3458880"/>
          </a:xfrm>
        </p:grpSpPr>
        <p:sp>
          <p:nvSpPr>
            <p:cNvPr id="467" name=""/>
            <p:cNvSpPr/>
            <p:nvPr/>
          </p:nvSpPr>
          <p:spPr>
            <a:xfrm>
              <a:off x="186840" y="650880"/>
              <a:ext cx="105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PB/2006/ILP</a:t>
              </a:r>
              <a:endParaRPr b="0" lang="en-US" sz="12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285920" y="689040"/>
              <a:ext cx="7362720" cy="19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Integration level project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8648280" y="788400"/>
              <a:ext cx="466560" cy="3321360"/>
              <a:chOff x="8648280" y="788400"/>
              <a:chExt cx="466560" cy="3321360"/>
            </a:xfrm>
          </p:grpSpPr>
          <p:cxnSp>
            <p:nvCxnSpPr>
              <p:cNvPr id="470" name=""/>
              <p:cNvCxnSpPr>
                <a:stCxn id="471" idx="3"/>
                <a:endCxn id="468" idx="3"/>
              </p:cNvCxnSpPr>
              <p:nvPr/>
            </p:nvCxnSpPr>
            <p:spPr>
              <a:xfrm flipV="1">
                <a:off x="8648280" y="788400"/>
                <a:ext cx="2520" cy="3321720"/>
              </a:xfrm>
              <a:prstGeom prst="bentConnector3">
                <a:avLst>
                  <a:gd name="adj1" fmla="val 21600000"/>
                </a:avLst>
              </a:prstGeom>
              <a:ln w="19080">
                <a:solidFill>
                  <a:srgbClr val="ff0000"/>
                </a:solidFill>
                <a:miter/>
                <a:tailEnd len="lg" type="stealth" w="med"/>
              </a:ln>
            </p:spPr>
          </p:cxnSp>
          <p:cxnSp>
            <p:nvCxnSpPr>
              <p:cNvPr id="472" name=""/>
              <p:cNvCxnSpPr>
                <a:stCxn id="464" idx="3"/>
                <a:endCxn id="468" idx="3"/>
              </p:cNvCxnSpPr>
              <p:nvPr/>
            </p:nvCxnSpPr>
            <p:spPr>
              <a:xfrm flipV="1">
                <a:off x="8648280" y="788400"/>
                <a:ext cx="2520" cy="1749960"/>
              </a:xfrm>
              <a:prstGeom prst="bentConnector3">
                <a:avLst>
                  <a:gd name="adj1" fmla="val 21600000"/>
                </a:avLst>
              </a:prstGeom>
              <a:ln w="19080">
                <a:solidFill>
                  <a:srgbClr val="ff0000"/>
                </a:solidFill>
                <a:miter/>
                <a:tailEnd len="lg" type="stealth" w="med"/>
              </a:ln>
            </p:spPr>
          </p:cxnSp>
          <p:cxnSp>
            <p:nvCxnSpPr>
              <p:cNvPr id="473" name=""/>
              <p:cNvCxnSpPr>
                <a:stCxn id="474" idx="3"/>
                <a:endCxn id="468" idx="3"/>
              </p:cNvCxnSpPr>
              <p:nvPr/>
            </p:nvCxnSpPr>
            <p:spPr>
              <a:xfrm flipV="1">
                <a:off x="8648280" y="788400"/>
                <a:ext cx="2520" cy="486360"/>
              </a:xfrm>
              <a:prstGeom prst="bentConnector3">
                <a:avLst>
                  <a:gd name="adj1" fmla="val 21000000"/>
                </a:avLst>
              </a:prstGeom>
              <a:ln w="19080">
                <a:solidFill>
                  <a:srgbClr val="ff0000"/>
                </a:solidFill>
                <a:miter/>
                <a:tailEnd len="lg" type="stealth" w="med"/>
              </a:ln>
            </p:spPr>
          </p:cxnSp>
        </p:grpSp>
      </p:grpSp>
      <p:grpSp>
        <p:nvGrpSpPr>
          <p:cNvPr id="475" name=""/>
          <p:cNvGrpSpPr/>
          <p:nvPr/>
        </p:nvGrpSpPr>
        <p:grpSpPr>
          <a:xfrm>
            <a:off x="191160" y="1136520"/>
            <a:ext cx="8457480" cy="1252080"/>
            <a:chOff x="191160" y="1136520"/>
            <a:chExt cx="8457480" cy="1252080"/>
          </a:xfrm>
        </p:grpSpPr>
        <p:sp>
          <p:nvSpPr>
            <p:cNvPr id="476" name=""/>
            <p:cNvSpPr/>
            <p:nvPr/>
          </p:nvSpPr>
          <p:spPr>
            <a:xfrm>
              <a:off x="191160" y="1136520"/>
              <a:ext cx="105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PB/2006/E-1</a:t>
              </a:r>
              <a:endParaRPr b="0" lang="en-US" sz="12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285920" y="1174680"/>
              <a:ext cx="7362720" cy="20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Actual spatial and time variation of field variables, engineering parameters and the environment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336680" y="1380960"/>
              <a:ext cx="23763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Information system shell for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patial and time variation of field variables and engineering parameters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patial and time variation of environmental variables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705120" y="1380960"/>
              <a:ext cx="237672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Ongoing population of information systems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Models relating pavement conditions to environmental variables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191160" y="3971880"/>
            <a:ext cx="8457480" cy="947520"/>
            <a:chOff x="191160" y="3971880"/>
            <a:chExt cx="8457480" cy="947520"/>
          </a:xfrm>
        </p:grpSpPr>
        <p:sp>
          <p:nvSpPr>
            <p:cNvPr id="480" name=""/>
            <p:cNvSpPr/>
            <p:nvPr/>
          </p:nvSpPr>
          <p:spPr>
            <a:xfrm>
              <a:off x="191160" y="3971880"/>
              <a:ext cx="105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PB/2006/E-3</a:t>
              </a:r>
              <a:endParaRPr b="0" lang="en-US" sz="12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285920" y="4010040"/>
              <a:ext cx="7362720" cy="20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Design risk analysis and pavement performance simulation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279440" y="4216320"/>
              <a:ext cx="24336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robabilistic simulation on design traffic and bearing capacity estimation to calculate design risk.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876840" y="4216320"/>
              <a:ext cx="2179440" cy="55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Linear recursive simulation for time-based modeling of pavement  performance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69040" y="4216320"/>
              <a:ext cx="2179800" cy="55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on-linear recursive simulation for time-based modeling of pavement  performance</a:t>
              </a:r>
              <a:endParaRPr b="0" lang="en-US" sz="1000" spc="-1" strike="noStrike">
                <a:solidFill>
                  <a:srgbClr val="afafa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14320" y="-360"/>
            <a:ext cx="763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12d50"/>
                </a:solidFill>
                <a:latin typeface="Arial"/>
              </a:rPr>
              <a:t>Aka GODZILLA</a:t>
            </a: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057400" y="928800"/>
            <a:ext cx="4829040" cy="48895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886040" y="6391440"/>
            <a:ext cx="619128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14320" y="-360"/>
            <a:ext cx="763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12d50"/>
                </a:solidFill>
                <a:latin typeface="Arial"/>
              </a:rPr>
              <a:t>Historical overview – SAMDM development</a:t>
            </a: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0800" y="1146240"/>
            <a:ext cx="813744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2d50"/>
                </a:solidFill>
                <a:latin typeface="Arial"/>
              </a:rPr>
              <a:t>Origin of Current SAMDM – Damage Models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lvl="2" marL="1143000" indent="-22860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tigue of asphalt concrete wearing cour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1899"/>
              </a:lnSpc>
              <a:spcBef>
                <a:spcPts val="176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eeme – 1970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tigue of asphalt concrete base layers including 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1899"/>
              </a:lnSpc>
              <a:spcBef>
                <a:spcPts val="176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shed data – 1970s to 1980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S permanent deformation for unbound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1899"/>
              </a:lnSpc>
              <a:spcBef>
                <a:spcPts val="176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ree – 1970s to 1980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ffective fatigue and crushing failure for cement stabilized la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1899"/>
              </a:lnSpc>
              <a:spcBef>
                <a:spcPts val="176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 Beer – 1980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tical strain criteria for sub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1899"/>
              </a:lnSpc>
              <a:spcBef>
                <a:spcPts val="176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orman and Metcalf – 19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847800" y="4343400"/>
            <a:ext cx="5715000" cy="1193760"/>
            <a:chOff x="847800" y="4343400"/>
            <a:chExt cx="5715000" cy="119376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847800" y="4343400"/>
              <a:ext cx="1618920" cy="115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4924440" y="4362480"/>
              <a:ext cx="163836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2923920" y="4810320"/>
              <a:ext cx="1752840" cy="295200"/>
            </a:xfrm>
            <a:custGeom>
              <a:avLst/>
              <a:gdLst>
                <a:gd name="textAreaLeft" fmla="*/ 273600 w 1752840"/>
                <a:gd name="textAreaRight" fmla="*/ 1533960 w 1752840"/>
                <a:gd name="textAreaTop" fmla="*/ 73800 h 295200"/>
                <a:gd name="textAreaBottom" fmla="*/ 221400 h 29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25aa0"/>
            </a:solidFill>
            <a:ln w="12600">
              <a:solidFill>
                <a:srgbClr val="af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62040" y="4363920"/>
              <a:ext cx="237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be3232"/>
                  </a:solidFill>
                  <a:latin typeface="Times New Roman"/>
                </a:rPr>
                <a:t>New Tire Technology</a:t>
              </a:r>
              <a:endParaRPr b="0" lang="en-US" sz="20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19280" y="5168880"/>
              <a:ext cx="239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be3232"/>
                  </a:solidFill>
                  <a:latin typeface="Times New Roman"/>
                </a:rPr>
                <a:t>Increased Tire Pressure</a:t>
              </a:r>
              <a:endParaRPr b="0" lang="en-US" sz="1800" spc="-1" strike="noStrike">
                <a:solidFill>
                  <a:srgbClr val="afafaf"/>
                </a:solidFill>
                <a:latin typeface="Arial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673680" y="5200560"/>
            <a:ext cx="2470320" cy="1657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524400" y="5688000"/>
            <a:ext cx="2019240" cy="1170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704960" y="5695920"/>
            <a:ext cx="1839960" cy="1162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7839000" y="3448080"/>
            <a:ext cx="130500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4040" y="0"/>
            <a:ext cx="7966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12d50"/>
                </a:solidFill>
                <a:latin typeface="Arial"/>
              </a:rPr>
              <a:t>SAMDM - Current status</a:t>
            </a: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9520" y="1413000"/>
            <a:ext cx="790884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2d50"/>
                </a:solidFill>
                <a:latin typeface="Arial"/>
              </a:rPr>
              <a:t>Past implementation exposed all the weaknesses of the method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2d50"/>
                </a:solidFill>
                <a:latin typeface="Arial"/>
              </a:rPr>
              <a:t>Users became disillusioned with the method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lvl="1" marL="743040" indent="-2858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nter-intuitive and inadmissible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treme sensitivity of the method to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onsistent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ilient response (FWD, MDD, Laborat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ength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2d50"/>
                </a:solidFill>
                <a:latin typeface="Arial"/>
              </a:rPr>
              <a:t>Statements made that ME-design is not possible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lvl="1" marL="743040" indent="-2858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o many unexplained effects (cha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ign can only be based on past performance (LTPP, rehabilitation investigation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6720" y="-360"/>
            <a:ext cx="83869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d50"/>
                </a:solidFill>
                <a:latin typeface="Arial"/>
              </a:rPr>
              <a:t>R&amp;D Dream #1: Close Gap Between Reality and Theory</a:t>
            </a:r>
            <a:endParaRPr b="0" lang="en-US" sz="2400" spc="-1" strike="noStrike">
              <a:solidFill>
                <a:srgbClr val="012d5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066080" y="4546440"/>
            <a:ext cx="1863720" cy="1225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057320" y="3057480"/>
            <a:ext cx="1893960" cy="1320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060560" y="1525680"/>
            <a:ext cx="1901880" cy="1528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1055520" y="4417920"/>
            <a:ext cx="1887840" cy="1538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7064280" y="3305160"/>
            <a:ext cx="1860480" cy="1247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7067520" y="1914480"/>
            <a:ext cx="1847880" cy="1379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387160" y="6400800"/>
            <a:ext cx="495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just the Theory to Predict Reality</a:t>
            </a:r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69920" y="92376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ory</a:t>
            </a:r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97520" y="87624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lity</a:t>
            </a:r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424400" y="2050560"/>
            <a:ext cx="1440" cy="87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2873520"/>
            <a:ext cx="149400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12440" y="1833480"/>
            <a:ext cx="27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Rut</a:t>
            </a:r>
            <a:endParaRPr b="0" lang="en-US" sz="8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24400" y="2219400"/>
            <a:ext cx="1336680" cy="649080"/>
          </a:xfrm>
          <a:custGeom>
            <a:avLst/>
            <a:gdLst/>
            <a:ahLst/>
            <a:rect l="l" t="t" r="r" b="b"/>
            <a:pathLst>
              <a:path w="842" h="409">
                <a:moveTo>
                  <a:pt x="0" y="409"/>
                </a:moveTo>
                <a:cubicBezTo>
                  <a:pt x="10" y="363"/>
                  <a:pt x="24" y="300"/>
                  <a:pt x="72" y="282"/>
                </a:cubicBezTo>
                <a:cubicBezTo>
                  <a:pt x="97" y="244"/>
                  <a:pt x="132" y="244"/>
                  <a:pt x="166" y="221"/>
                </a:cubicBezTo>
                <a:cubicBezTo>
                  <a:pt x="170" y="215"/>
                  <a:pt x="172" y="208"/>
                  <a:pt x="177" y="204"/>
                </a:cubicBezTo>
                <a:cubicBezTo>
                  <a:pt x="186" y="197"/>
                  <a:pt x="200" y="197"/>
                  <a:pt x="211" y="193"/>
                </a:cubicBezTo>
                <a:cubicBezTo>
                  <a:pt x="239" y="184"/>
                  <a:pt x="266" y="174"/>
                  <a:pt x="294" y="166"/>
                </a:cubicBezTo>
                <a:cubicBezTo>
                  <a:pt x="309" y="156"/>
                  <a:pt x="322" y="142"/>
                  <a:pt x="338" y="132"/>
                </a:cubicBezTo>
                <a:cubicBezTo>
                  <a:pt x="360" y="118"/>
                  <a:pt x="402" y="119"/>
                  <a:pt x="427" y="116"/>
                </a:cubicBezTo>
                <a:cubicBezTo>
                  <a:pt x="451" y="107"/>
                  <a:pt x="472" y="92"/>
                  <a:pt x="493" y="77"/>
                </a:cubicBezTo>
                <a:cubicBezTo>
                  <a:pt x="509" y="66"/>
                  <a:pt x="567" y="62"/>
                  <a:pt x="582" y="60"/>
                </a:cubicBezTo>
                <a:cubicBezTo>
                  <a:pt x="651" y="50"/>
                  <a:pt x="717" y="34"/>
                  <a:pt x="787" y="27"/>
                </a:cubicBezTo>
                <a:cubicBezTo>
                  <a:pt x="805" y="15"/>
                  <a:pt x="819" y="0"/>
                  <a:pt x="842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81560" y="2367000"/>
            <a:ext cx="136980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66520" y="2168640"/>
            <a:ext cx="65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erminal rut</a:t>
            </a:r>
            <a:endParaRPr b="0" lang="en-US" sz="8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440240" y="3314880"/>
            <a:ext cx="1440" cy="869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71840" y="4137120"/>
            <a:ext cx="149400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28280" y="3097080"/>
            <a:ext cx="66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Roughness</a:t>
            </a:r>
            <a:endParaRPr b="0" lang="en-US" sz="8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40240" y="3483000"/>
            <a:ext cx="1336680" cy="649440"/>
          </a:xfrm>
          <a:custGeom>
            <a:avLst/>
            <a:gdLst/>
            <a:ahLst/>
            <a:rect l="l" t="t" r="r" b="b"/>
            <a:pathLst>
              <a:path w="842" h="409">
                <a:moveTo>
                  <a:pt x="0" y="409"/>
                </a:moveTo>
                <a:cubicBezTo>
                  <a:pt x="10" y="363"/>
                  <a:pt x="24" y="300"/>
                  <a:pt x="72" y="282"/>
                </a:cubicBezTo>
                <a:cubicBezTo>
                  <a:pt x="97" y="244"/>
                  <a:pt x="132" y="244"/>
                  <a:pt x="166" y="221"/>
                </a:cubicBezTo>
                <a:cubicBezTo>
                  <a:pt x="170" y="215"/>
                  <a:pt x="172" y="208"/>
                  <a:pt x="177" y="204"/>
                </a:cubicBezTo>
                <a:cubicBezTo>
                  <a:pt x="186" y="197"/>
                  <a:pt x="200" y="197"/>
                  <a:pt x="211" y="193"/>
                </a:cubicBezTo>
                <a:cubicBezTo>
                  <a:pt x="239" y="184"/>
                  <a:pt x="266" y="174"/>
                  <a:pt x="294" y="166"/>
                </a:cubicBezTo>
                <a:cubicBezTo>
                  <a:pt x="309" y="156"/>
                  <a:pt x="322" y="142"/>
                  <a:pt x="338" y="132"/>
                </a:cubicBezTo>
                <a:cubicBezTo>
                  <a:pt x="360" y="118"/>
                  <a:pt x="402" y="119"/>
                  <a:pt x="427" y="116"/>
                </a:cubicBezTo>
                <a:cubicBezTo>
                  <a:pt x="451" y="107"/>
                  <a:pt x="472" y="92"/>
                  <a:pt x="493" y="77"/>
                </a:cubicBezTo>
                <a:cubicBezTo>
                  <a:pt x="509" y="66"/>
                  <a:pt x="567" y="62"/>
                  <a:pt x="582" y="60"/>
                </a:cubicBezTo>
                <a:cubicBezTo>
                  <a:pt x="651" y="50"/>
                  <a:pt x="717" y="34"/>
                  <a:pt x="787" y="27"/>
                </a:cubicBezTo>
                <a:cubicBezTo>
                  <a:pt x="805" y="15"/>
                  <a:pt x="819" y="0"/>
                  <a:pt x="842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97400" y="3630600"/>
            <a:ext cx="13701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81640" y="3432240"/>
            <a:ext cx="66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erminal IRI</a:t>
            </a:r>
            <a:endParaRPr b="0" lang="en-US" sz="8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424400" y="4642920"/>
            <a:ext cx="1440" cy="87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56000" y="5465880"/>
            <a:ext cx="149400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12080" y="4425840"/>
            <a:ext cx="90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Extent of fatigue</a:t>
            </a:r>
            <a:endParaRPr b="0" lang="en-US" sz="8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83680" y="5495760"/>
            <a:ext cx="33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8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24400" y="4933800"/>
            <a:ext cx="1239840" cy="528840"/>
          </a:xfrm>
          <a:custGeom>
            <a:avLst/>
            <a:gdLst/>
            <a:ahLst/>
            <a:rect l="l" t="t" r="r" b="b"/>
            <a:pathLst>
              <a:path w="781" h="333">
                <a:moveTo>
                  <a:pt x="0" y="327"/>
                </a:moveTo>
                <a:lnTo>
                  <a:pt x="582" y="333"/>
                </a:lnTo>
                <a:lnTo>
                  <a:pt x="781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24120" y="790560"/>
            <a:ext cx="4772160" cy="704880"/>
          </a:xfrm>
          <a:custGeom>
            <a:avLst/>
            <a:gdLst>
              <a:gd name="textAreaLeft" fmla="*/ 834840 w 4772160"/>
              <a:gd name="textAreaRight" fmla="*/ 3459960 w 4772160"/>
              <a:gd name="textAreaTop" fmla="*/ 94320 h 704880"/>
              <a:gd name="textAreaBottom" fmla="*/ 610560 h 704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afa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0800000">
            <a:off x="987120" y="6016680"/>
            <a:ext cx="7638840" cy="419040"/>
          </a:xfrm>
          <a:custGeom>
            <a:avLst/>
            <a:gdLst>
              <a:gd name="textAreaLeft" fmla="*/ 1336680 w 7638840"/>
              <a:gd name="textAreaRight" fmla="*/ 5538240 w 7638840"/>
              <a:gd name="textAreaTop" fmla="*/ 56160 h 419040"/>
              <a:gd name="textAreaBottom" fmla="*/ 362880 h 419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afa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6720" y="-360"/>
            <a:ext cx="83869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d50"/>
                </a:solidFill>
                <a:latin typeface="Arial"/>
              </a:rPr>
              <a:t>R&amp;D Dream #2: Levelling the Playing Field</a:t>
            </a:r>
            <a:endParaRPr b="0" lang="en-US" sz="2400" spc="-1" strike="noStrike">
              <a:solidFill>
                <a:srgbClr val="012d5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79560" y="942840"/>
            <a:ext cx="8021520" cy="4915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586160" y="6058080"/>
            <a:ext cx="62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verall system just as good as Weakest Link</a:t>
            </a:r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6720" y="-360"/>
            <a:ext cx="83869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d50"/>
                </a:solidFill>
                <a:latin typeface="Arial"/>
              </a:rPr>
              <a:t>R&amp;D Dream #3: Single “Tool” – Different User/Risk Levels</a:t>
            </a:r>
            <a:endParaRPr b="0" lang="en-US" sz="2400" spc="-1" strike="noStrike">
              <a:solidFill>
                <a:srgbClr val="012d5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830160" y="3438360"/>
            <a:ext cx="8313480" cy="1390680"/>
            <a:chOff x="830160" y="3438360"/>
            <a:chExt cx="8313480" cy="1390680"/>
          </a:xfrm>
        </p:grpSpPr>
        <p:sp>
          <p:nvSpPr>
            <p:cNvPr id="134" name=""/>
            <p:cNvSpPr/>
            <p:nvPr/>
          </p:nvSpPr>
          <p:spPr>
            <a:xfrm>
              <a:off x="830160" y="4829040"/>
              <a:ext cx="83134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0160" y="3438360"/>
              <a:ext cx="83134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853920" y="2073240"/>
            <a:ext cx="21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ahoma"/>
              </a:rPr>
              <a:t>Young professional</a:t>
            </a: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5200" y="3781440"/>
            <a:ext cx="221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ahoma"/>
              </a:rPr>
              <a:t>Seasoned professional</a:t>
            </a: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4400" y="4959360"/>
            <a:ext cx="126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ahoma"/>
              </a:rPr>
              <a:t>Design </a:t>
            </a: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ahoma"/>
              </a:rPr>
              <a:t>Specialist</a:t>
            </a: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83560" y="2044800"/>
            <a:ext cx="3254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Tahoma"/>
              </a:rPr>
              <a:t>Design scenario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400" spc="-1" strike="noStrike">
              <a:solidFill>
                <a:srgbClr val="afafa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Routine and preliminary design</a:t>
            </a:r>
            <a:endParaRPr b="0" lang="en-US" sz="1400" spc="-1" strike="noStrike">
              <a:solidFill>
                <a:srgbClr val="afafa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Low risk</a:t>
            </a:r>
            <a:endParaRPr b="0" lang="en-US" sz="1400" spc="-1" strike="noStrike">
              <a:solidFill>
                <a:srgbClr val="afafa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Low design experience</a:t>
            </a:r>
            <a:endParaRPr b="0" lang="en-US" sz="1400" spc="-1" strike="noStrike">
              <a:solidFill>
                <a:srgbClr val="afafa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Known materials – default input</a:t>
            </a:r>
            <a:endParaRPr b="0" lang="en-US" sz="1400" spc="-1" strike="noStrike">
              <a:solidFill>
                <a:srgbClr val="afafa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Conventional material classification</a:t>
            </a:r>
            <a:endParaRPr b="0" lang="en-US" sz="1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86520" y="3495600"/>
            <a:ext cx="28382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Tahoma"/>
              </a:rPr>
              <a:t>Design scenario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400" spc="-1" strike="noStrike">
              <a:solidFill>
                <a:srgbClr val="afafa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Important design</a:t>
            </a:r>
            <a:endParaRPr b="0" lang="en-US" sz="1400" spc="-1" strike="noStrike">
              <a:solidFill>
                <a:srgbClr val="afafa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Medium risk </a:t>
            </a:r>
            <a:endParaRPr b="0" lang="en-US" sz="1400" spc="-1" strike="noStrike">
              <a:solidFill>
                <a:srgbClr val="afafa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Seasoned professional designer</a:t>
            </a:r>
            <a:endParaRPr b="0" lang="en-US" sz="1400" spc="-1" strike="noStrike">
              <a:solidFill>
                <a:srgbClr val="afafa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Project specific input</a:t>
            </a:r>
            <a:endParaRPr b="0" lang="en-US" sz="1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06960" y="4816440"/>
            <a:ext cx="297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Tahoma"/>
              </a:rPr>
              <a:t>Design scenario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400" spc="-1" strike="noStrike">
              <a:solidFill>
                <a:srgbClr val="afafa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Very important design, high risk</a:t>
            </a:r>
            <a:endParaRPr b="0" lang="en-US" sz="1400" spc="-1" strike="noStrike">
              <a:solidFill>
                <a:srgbClr val="afafa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Special investigations </a:t>
            </a:r>
            <a:endParaRPr b="0" lang="en-US" sz="1400" spc="-1" strike="noStrike">
              <a:solidFill>
                <a:srgbClr val="afafa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Specialist designer</a:t>
            </a:r>
            <a:endParaRPr b="0" lang="en-US" sz="1400" spc="-1" strike="noStrike">
              <a:solidFill>
                <a:srgbClr val="afafa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Unusual materials</a:t>
            </a:r>
            <a:endParaRPr b="0" lang="en-US" sz="1400" spc="-1" strike="noStrike">
              <a:solidFill>
                <a:srgbClr val="afafa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Project specific input</a:t>
            </a:r>
            <a:endParaRPr b="0" lang="en-US" sz="1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80560" y="1476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99"/>
                </a:solidFill>
                <a:uFillTx/>
                <a:latin typeface="Tahoma"/>
              </a:rPr>
              <a:t>User</a:t>
            </a:r>
            <a:endParaRPr b="0" lang="en-US" sz="20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03560" y="1504800"/>
            <a:ext cx="25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99"/>
                </a:solidFill>
                <a:uFillTx/>
                <a:latin typeface="Tahoma"/>
              </a:rPr>
              <a:t>Design application</a:t>
            </a:r>
            <a:endParaRPr b="0" lang="en-US" sz="20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44" name="Pyr1"/>
          <p:cNvSpPr/>
          <p:nvPr/>
        </p:nvSpPr>
        <p:spPr>
          <a:xfrm>
            <a:off x="2978280" y="1209600"/>
            <a:ext cx="2017440" cy="21877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45" name="Pyr3"/>
          <p:cNvSpPr/>
          <p:nvPr/>
        </p:nvSpPr>
        <p:spPr>
          <a:xfrm>
            <a:off x="2354400" y="3500280"/>
            <a:ext cx="3232080" cy="13003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46" name="Pyr4"/>
          <p:cNvSpPr/>
          <p:nvPr/>
        </p:nvSpPr>
        <p:spPr>
          <a:xfrm>
            <a:off x="1781280" y="4861080"/>
            <a:ext cx="4371840" cy="129204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895480" y="1238400"/>
            <a:ext cx="1095480" cy="490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990960" y="1267920"/>
            <a:ext cx="4680" cy="488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978360" y="1216080"/>
            <a:ext cx="1095120" cy="494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314440" y="3495600"/>
            <a:ext cx="857520" cy="265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416400" y="3492000"/>
            <a:ext cx="314280" cy="2660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4241520" y="3498840"/>
            <a:ext cx="298440" cy="266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4762440" y="3485880"/>
            <a:ext cx="790560" cy="267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028960" y="4867200"/>
            <a:ext cx="495000" cy="128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577960" y="4863960"/>
            <a:ext cx="362160" cy="128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139920" y="4873680"/>
            <a:ext cx="228600" cy="128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3701880" y="4854240"/>
            <a:ext cx="86040" cy="131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4184640" y="4861080"/>
            <a:ext cx="7632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4593960" y="4854600"/>
            <a:ext cx="190440" cy="130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4994280" y="4854240"/>
            <a:ext cx="324000" cy="12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5381640" y="4861080"/>
            <a:ext cx="44136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23680" y="0"/>
            <a:ext cx="83199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12d50"/>
                </a:solidFill>
                <a:latin typeface="Arial"/>
              </a:rPr>
              <a:t>Research and Development (R&amp;D) Framework</a:t>
            </a: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47440" y="1230480"/>
            <a:ext cx="82962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649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2d50"/>
                </a:solidFill>
                <a:latin typeface="Arial"/>
              </a:rPr>
              <a:t>Pavement Design Task Group</a:t>
            </a:r>
            <a:endParaRPr b="0" lang="en-US" sz="2600" spc="-1" strike="noStrike">
              <a:solidFill>
                <a:srgbClr val="012d5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249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ed May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249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ies of meetings during July and August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249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&amp;D framework submitted in November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100000"/>
              </a:lnSpc>
              <a:spcBef>
                <a:spcPts val="249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racteristics of new pavement design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100000"/>
              </a:lnSpc>
              <a:spcBef>
                <a:spcPts val="249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&amp;D top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lnSpc>
                <a:spcPct val="100000"/>
              </a:lnSpc>
              <a:spcBef>
                <a:spcPts val="201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mand analysis (Traffic and environ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lnSpc>
                <a:spcPct val="100000"/>
              </a:lnSpc>
              <a:spcBef>
                <a:spcPts val="201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terial resilient response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lnSpc>
                <a:spcPct val="100000"/>
              </a:lnSpc>
              <a:spcBef>
                <a:spcPts val="201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vement resilient response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lnSpc>
                <a:spcPct val="100000"/>
              </a:lnSpc>
              <a:spcBef>
                <a:spcPts val="201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mage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lnSpc>
                <a:spcPct val="100000"/>
              </a:lnSpc>
              <a:spcBef>
                <a:spcPts val="201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babilistic and recursive sche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100000"/>
              </a:lnSpc>
              <a:spcBef>
                <a:spcPts val="249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R&amp;D topic have a number of identified R&amp;D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100000"/>
              </a:lnSpc>
              <a:spcBef>
                <a:spcPts val="249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R&amp;D need translated into one or more project briefs to address the need – November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14320" y="-360"/>
            <a:ext cx="7639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12d50"/>
                </a:solidFill>
                <a:latin typeface="Arial"/>
              </a:rPr>
              <a:t>Project Objectives</a:t>
            </a: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25480" y="1053720"/>
            <a:ext cx="7858080" cy="36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d50"/>
                </a:solidFill>
                <a:latin typeface="Arial"/>
              </a:rPr>
              <a:t>Overall objective</a:t>
            </a:r>
            <a:endParaRPr b="0" lang="en-US" sz="2400" spc="-1" strike="noStrike">
              <a:solidFill>
                <a:srgbClr val="012d5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249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velop a design method tha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100000"/>
              </a:lnSpc>
              <a:spcBef>
                <a:spcPts val="249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urate (agree with rea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100000"/>
              </a:lnSpc>
              <a:spcBef>
                <a:spcPts val="249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rtial in terms of pavement type 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100000"/>
              </a:lnSpc>
              <a:spcBef>
                <a:spcPts val="201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bound (Crushed stone, natural grav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100000"/>
              </a:lnSpc>
              <a:spcBef>
                <a:spcPts val="201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bilised (Cement, Foamed-bitumen, Emulsified-bitum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100000"/>
              </a:lnSpc>
              <a:spcBef>
                <a:spcPts val="201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100000"/>
              </a:lnSpc>
              <a:spcBef>
                <a:spcPts val="201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ncrete (not included in flexible pavement design R&amp;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d50"/>
                </a:solidFill>
                <a:latin typeface="Arial"/>
              </a:rPr>
              <a:t>Project structured according to immediate, short, medium and long-term objectives and deliverables</a:t>
            </a:r>
            <a:endParaRPr b="0" lang="en-US" sz="2400" spc="-1" strike="noStrike">
              <a:solidFill>
                <a:srgbClr val="012d5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249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hievement of immediate, short, medium and long-term objectives subject to availability of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10:33:22Z</dcterms:created>
  <dc:creator>Tony</dc:creator>
  <dc:description/>
  <dc:language>en-US</dc:language>
  <cp:lastModifiedBy>louwk</cp:lastModifiedBy>
  <cp:lastPrinted>2005-12-08T11:33:35Z</cp:lastPrinted>
  <dcterms:modified xsi:type="dcterms:W3CDTF">2007-05-07T16:16:55Z</dcterms:modified>
  <cp:revision>207</cp:revision>
  <dc:subject/>
  <dc:title>PowerPoint Presentation</dc:title>
</cp:coreProperties>
</file>