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6AC00-4E05-4EA6-B358-F0B2D5500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72E61-BFA8-498B-BF12-0424C6ECD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22D44-DB5F-41CF-9AD5-F92AAB8B8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18470-D2B0-4B73-AA87-310FF07A8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CC4AF-D857-46A1-A24B-67EAE6EA6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C3728-36E1-4F44-AC73-D1B201E16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8F7AE-B715-4C2A-AD8E-AB37E8372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D4BF0-A24E-44ED-A22D-EE96F6278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4FDD5-BB69-41A6-B767-2F83B64CF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BB7D3-051E-400E-B124-41AC664E9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7DBF7-02C5-4702-AE83-7CD46CEBF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35F50-4EF6-4625-A1FF-548BEC32D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cc33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333399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9BA94-0155-4697-A02B-886F6BE625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2"/>
          <p:cNvSpPr>
            <a:spLocks noGrp="1"/>
          </p:cNvSpPr>
          <p:nvPr>
            <p:ph type="title"/>
          </p:nvPr>
        </p:nvSpPr>
        <p:spPr>
          <a:xfrm>
            <a:off x="611280" y="3124080"/>
            <a:ext cx="6913440" cy="14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Feedback on HMA recycling task team</a:t>
            </a:r>
            <a:br>
              <a:rPr sz="4000"/>
            </a:br>
            <a:endParaRPr b="0" lang="en-US" sz="4000" spc="-1" strike="noStrike">
              <a:solidFill>
                <a:srgbClr val="cc3300"/>
              </a:solidFill>
              <a:latin typeface="Comic Sans MS"/>
            </a:endParaRPr>
          </a:p>
        </p:txBody>
      </p:sp>
      <p:sp>
        <p:nvSpPr>
          <p:cNvPr id="44" name=""/>
          <p:cNvSpPr/>
          <p:nvPr/>
        </p:nvSpPr>
        <p:spPr>
          <a:xfrm>
            <a:off x="1258920" y="5229360"/>
            <a:ext cx="4537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revor Dist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RPF May 200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Comic Sans MS"/>
              </a:rPr>
              <a:t>Way forward</a:t>
            </a:r>
            <a:endParaRPr b="0" lang="en-US" sz="4400" spc="-1" strike="noStrike">
              <a:solidFill>
                <a:srgbClr val="cc33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ppoint consultant/s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omic Sans MS"/>
              </a:rPr>
              <a:t>June 2008</a:t>
            </a:r>
            <a:endParaRPr b="0" lang="en-US" sz="2800" spc="-1" strike="noStrike">
              <a:solidFill>
                <a:srgbClr val="3333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mplete first draft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omic Sans MS"/>
              </a:rPr>
              <a:t>Nov 2008 RPF</a:t>
            </a:r>
            <a:endParaRPr b="0" lang="en-US" sz="2800" spc="-1" strike="noStrike">
              <a:solidFill>
                <a:srgbClr val="3333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ublish best practice documen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omic Sans MS"/>
              </a:rPr>
              <a:t>Jan 2009</a:t>
            </a:r>
            <a:endParaRPr b="0" lang="en-US" sz="2800" spc="-1" strike="noStrike">
              <a:solidFill>
                <a:srgbClr val="3333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orkshop best practice documen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omic Sans MS"/>
              </a:rPr>
              <a:t>Feb 2009</a:t>
            </a:r>
            <a:endParaRPr b="0" lang="en-US" sz="2800" spc="-1" strike="noStrike">
              <a:solidFill>
                <a:srgbClr val="333399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7020000" y="404640"/>
            <a:ext cx="1944720" cy="14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Comic Sans MS"/>
              </a:rPr>
              <a:t>Progress since last RPF</a:t>
            </a:r>
            <a:endParaRPr b="0" lang="en-US" sz="4400" spc="-1" strike="noStrike">
              <a:solidFill>
                <a:srgbClr val="cc33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solution passed at Nov 07 RPF that a task team be established to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o develop best practice guidelines for the use of RAP in HM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s follows from 3 SAT seminars &amp; specialty session held at CAPSA07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rst task team meeting held 24 Apri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rcRect l="-540" t="-541" r="-540" b="-541"/>
          <a:stretch/>
        </p:blipFill>
        <p:spPr>
          <a:xfrm>
            <a:off x="8101080" y="625320"/>
            <a:ext cx="1042920" cy="7876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0" y="476280"/>
            <a:ext cx="974880" cy="10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Comic Sans MS"/>
              </a:rPr>
              <a:t>Task Team</a:t>
            </a:r>
            <a:endParaRPr b="0" lang="en-US" sz="4400" spc="-1" strike="noStrike">
              <a:solidFill>
                <a:srgbClr val="cc33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4000" y="1844640"/>
            <a:ext cx="3809880" cy="454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en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Dennis Rossmann</a:t>
            </a:r>
            <a:endParaRPr b="0" lang="en-US" sz="24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Adreo Brits</a:t>
            </a:r>
            <a:endParaRPr b="0" lang="en-US" sz="24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Rob Lindsay</a:t>
            </a:r>
            <a:endParaRPr b="0" lang="en-US" sz="24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Eric Lathlief/ Krishna Naidoo</a:t>
            </a:r>
            <a:endParaRPr b="0" lang="en-US" sz="2400" spc="-1" strike="noStrike">
              <a:solidFill>
                <a:srgbClr val="3333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ngineer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Derick Pretorius</a:t>
            </a:r>
            <a:endParaRPr b="0" lang="en-US" sz="24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Tony Lewis</a:t>
            </a:r>
            <a:endParaRPr b="0" lang="en-US" sz="24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Nico vd Walt</a:t>
            </a:r>
            <a:endParaRPr b="0" lang="en-US" sz="24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Benoit Verhaege</a:t>
            </a:r>
            <a:endParaRPr b="0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43280" y="1773360"/>
            <a:ext cx="3810240" cy="44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nufacturers &amp; Contractor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Bennie Greyling</a:t>
            </a:r>
            <a:endParaRPr b="0" lang="en-US" sz="24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Herman Marais</a:t>
            </a:r>
            <a:endParaRPr b="0" lang="en-US" sz="24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Wynand Nortje</a:t>
            </a:r>
            <a:endParaRPr b="0" lang="en-US" sz="24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Gary Catin</a:t>
            </a:r>
            <a:endParaRPr b="0" lang="en-US" sz="2400" spc="-1" strike="noStrike">
              <a:solidFill>
                <a:srgbClr val="333399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437080" y="4437000"/>
            <a:ext cx="2448000" cy="20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Comic Sans MS"/>
              </a:rPr>
              <a:t>Plan of action</a:t>
            </a:r>
            <a:endParaRPr b="0" lang="en-US" sz="4400" spc="-1" strike="noStrike">
              <a:solidFill>
                <a:srgbClr val="cc33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se draft TRH 21 (1996) as working documen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pdate with latest international best practic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dentify appropriate documen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gree on content of new TRH 2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ppoint a consultant/s to rewrite new documen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dentify specialists from task team to act as peer reviewers for each sec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tract specifications to be incorporated into revised COTO documen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SANRAL to include in proforma project specifications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3300"/>
                </a:solidFill>
                <a:latin typeface="Comic Sans MS"/>
              </a:rPr>
              <a:t>Proposed specification framework</a:t>
            </a:r>
            <a:endParaRPr b="0" lang="en-US" sz="4000" spc="-1" strike="noStrike">
              <a:solidFill>
                <a:srgbClr val="cc33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3 classes of HM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&lt; 15% RAP</a:t>
            </a:r>
            <a:endParaRPr b="0" lang="en-US" sz="24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&gt; 15 &lt; 30% RAP</a:t>
            </a:r>
            <a:endParaRPr b="0" lang="en-US" sz="24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&gt; 30 % RAP</a:t>
            </a:r>
            <a:endParaRPr b="0" lang="en-US" sz="2400" spc="-1" strike="noStrike">
              <a:solidFill>
                <a:srgbClr val="3333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escribe same mix end properties irrespective % of RAP within each class of HMA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or each class identify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risk/application/constraints/protocols</a:t>
            </a:r>
            <a:endParaRPr b="0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pic>
        <p:nvPicPr>
          <p:cNvPr id="57" name="Picture 27" descr="RAP unp "/>
          <p:cNvPicPr/>
          <p:nvPr/>
        </p:nvPicPr>
        <p:blipFill>
          <a:blip r:embed="rId1"/>
          <a:stretch/>
        </p:blipFill>
        <p:spPr>
          <a:xfrm>
            <a:off x="6012000" y="1446120"/>
            <a:ext cx="2439720" cy="21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Comic Sans MS"/>
              </a:rPr>
              <a:t>Paradigm shift</a:t>
            </a:r>
            <a:endParaRPr b="0" lang="en-US" sz="4400" spc="-1" strike="noStrike">
              <a:solidFill>
                <a:srgbClr val="cc3300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5181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reat RAP as a valuable asset of the Sta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AP to be regarded as an alternative aggregate source ie linear quarr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ockpile RAP for general use on future projec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ptimise use of RA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AP to be seen as competitive advantag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6073920" y="2125800"/>
            <a:ext cx="2520720" cy="36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Comic Sans MS"/>
              </a:rPr>
              <a:t>Handling of RAP</a:t>
            </a:r>
            <a:endParaRPr b="0" lang="en-US" sz="4400" spc="-1" strike="noStrike">
              <a:solidFill>
                <a:srgbClr val="cc330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94920" y="1981080"/>
            <a:ext cx="80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Develop protocol for reclaiming, stockpiling and processing RAP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illing of RAP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698400" indent="-26856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Comic Sans MS"/>
              </a:rPr>
              <a:t>Investigate insitu layers</a:t>
            </a:r>
            <a:endParaRPr b="0" lang="en-US" sz="1400" spc="-1" strike="noStrike">
              <a:solidFill>
                <a:srgbClr val="333399"/>
              </a:solidFill>
              <a:latin typeface="Comic Sans MS"/>
            </a:endParaRPr>
          </a:p>
          <a:p>
            <a:pPr lvl="1" marL="698400" indent="-26856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Comic Sans MS"/>
              </a:rPr>
              <a:t>Selected premilling</a:t>
            </a:r>
            <a:endParaRPr b="0" lang="en-US" sz="1400" spc="-1" strike="noStrike">
              <a:solidFill>
                <a:srgbClr val="333399"/>
              </a:solidFill>
              <a:latin typeface="Comic Sans MS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ockpiling of RAP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698400" indent="-26856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Comic Sans MS"/>
              </a:rPr>
              <a:t>Demarcate dedicated stockpiles </a:t>
            </a:r>
            <a:endParaRPr b="0" lang="en-US" sz="1400" spc="-1" strike="noStrike">
              <a:solidFill>
                <a:srgbClr val="333399"/>
              </a:solidFill>
              <a:latin typeface="Comic Sans MS"/>
            </a:endParaRPr>
          </a:p>
          <a:p>
            <a:pPr lvl="1" marL="698400" indent="-26856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Comic Sans MS"/>
              </a:rPr>
              <a:t>Minimise moisture content of RAP</a:t>
            </a:r>
            <a:endParaRPr b="0" lang="en-US" sz="1400" spc="-1" strike="noStrike">
              <a:solidFill>
                <a:srgbClr val="333399"/>
              </a:solidFill>
              <a:latin typeface="Comic Sans MS"/>
            </a:endParaRPr>
          </a:p>
          <a:p>
            <a:pPr lvl="1" marL="698400" indent="-26856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Comic Sans MS"/>
              </a:rPr>
              <a:t>Avoid segregation and consolidation</a:t>
            </a:r>
            <a:endParaRPr b="0" lang="en-US" sz="1400" spc="-1" strike="noStrike">
              <a:solidFill>
                <a:srgbClr val="333399"/>
              </a:solidFill>
              <a:latin typeface="Comic Sans MS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rocessing of RAP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698400" indent="-26856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Comic Sans MS"/>
              </a:rPr>
              <a:t>Screen RAP into different sizes</a:t>
            </a:r>
            <a:endParaRPr b="0" lang="en-US" sz="1400" spc="-1" strike="noStrike">
              <a:solidFill>
                <a:srgbClr val="333399"/>
              </a:solidFill>
              <a:latin typeface="Comic Sans MS"/>
            </a:endParaRPr>
          </a:p>
          <a:p>
            <a:pPr lvl="1" marL="698400" indent="-26856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Comic Sans MS"/>
              </a:rPr>
              <a:t>Fractionating of RAP when using &gt;15%</a:t>
            </a:r>
            <a:endParaRPr b="0" lang="en-US" sz="1400" spc="-1" strike="noStrike">
              <a:solidFill>
                <a:srgbClr val="333399"/>
              </a:solidFill>
              <a:latin typeface="Comic Sans MS"/>
            </a:endParaRPr>
          </a:p>
          <a:p>
            <a:pPr lvl="1" marL="698400" indent="-26856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Comic Sans MS"/>
              </a:rPr>
              <a:t>Plant limitations</a:t>
            </a:r>
            <a:endParaRPr b="0" lang="en-US" sz="1400" spc="-1" strike="noStrike">
              <a:solidFill>
                <a:srgbClr val="333399"/>
              </a:solidFill>
              <a:latin typeface="Comic Sans MS"/>
            </a:endParaRPr>
          </a:p>
          <a:p>
            <a:pPr lvl="2" marL="1074240" indent="-214560">
              <a:lnSpc>
                <a:spcPct val="80000"/>
              </a:lnSpc>
              <a:spcBef>
                <a:spcPts val="300"/>
              </a:spcBef>
              <a:buClr>
                <a:srgbClr val="333399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Comic Sans MS"/>
              </a:rPr>
              <a:t>Type of plant</a:t>
            </a:r>
            <a:endParaRPr b="0" lang="en-US" sz="1200" spc="-1" strike="noStrike">
              <a:solidFill>
                <a:srgbClr val="333399"/>
              </a:solidFill>
              <a:latin typeface="Comic Sans MS"/>
            </a:endParaRPr>
          </a:p>
          <a:p>
            <a:pPr lvl="2" marL="1074240" indent="-214560">
              <a:lnSpc>
                <a:spcPct val="80000"/>
              </a:lnSpc>
              <a:spcBef>
                <a:spcPts val="300"/>
              </a:spcBef>
              <a:buClr>
                <a:srgbClr val="333399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Comic Sans MS"/>
              </a:rPr>
              <a:t>Where the RAP is feed into mixing process</a:t>
            </a:r>
            <a:endParaRPr b="0" lang="en-US" sz="1200" spc="-1" strike="noStrike">
              <a:solidFill>
                <a:srgbClr val="333399"/>
              </a:solidFill>
              <a:latin typeface="Comic Sans MS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rcRect l="14567" t="14304" r="1961" b="13239"/>
          <a:stretch/>
        </p:blipFill>
        <p:spPr>
          <a:xfrm>
            <a:off x="5154480" y="2732040"/>
            <a:ext cx="381024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Comic Sans MS"/>
              </a:rPr>
              <a:t>Reference documents</a:t>
            </a:r>
            <a:endParaRPr b="0" lang="en-US" sz="4400" spc="-1" strike="noStrike">
              <a:solidFill>
                <a:srgbClr val="cc33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24000" y="1981080"/>
            <a:ext cx="8424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rock D (2007),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Milling &amp; recycling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Technical paper T-127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ewcomb D (2007),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Designing HMA mixtures with high RAP conten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QIS 124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oung T (2007),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rocessing &amp; handling of RAP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IS 123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N 13108-8 (2005),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Bituminous mixtures – materials specifications for reclaimed HM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ustroads (2000),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ramework specifications for HMA recycling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AP-T0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bbechi J (2005),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ustroads guide &amp; commentary series on HMA recycl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IARC (2007),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Review of the growth &amp; development of recycling in pavement construc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-27000"/>
            <a:ext cx="1436760" cy="187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7" name=""/>
          <p:cNvGraphicFramePr/>
          <p:nvPr/>
        </p:nvGraphicFramePr>
        <p:xfrm>
          <a:off x="7718400" y="0"/>
          <a:ext cx="1425600" cy="1844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718400" y="0"/>
                    <a:ext cx="1425600" cy="184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Comic Sans MS"/>
              </a:rPr>
              <a:t>Content</a:t>
            </a:r>
            <a:endParaRPr b="0" lang="en-US" sz="4400" spc="-1" strike="noStrike">
              <a:solidFill>
                <a:srgbClr val="cc330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28120" indent="-528120"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28120" indent="-528120"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avement recycling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28120" indent="-528120"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se of RAP in HMA plant recycling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28120" indent="-528120"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easibility of recycling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28120" indent="-528120"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ix desig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28120" indent="-528120"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claiming of RAP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28120" indent="-528120"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tockpiling of RAP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28120" indent="-528120"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ixing &amp; plan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2987640" y="5981760"/>
            <a:ext cx="3809880" cy="68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7T14:48:05Z</dcterms:created>
  <dc:creator>linda lurie</dc:creator>
  <dc:description/>
  <dc:language>en-US</dc:language>
  <cp:lastModifiedBy>Trevor</cp:lastModifiedBy>
  <dcterms:modified xsi:type="dcterms:W3CDTF">2008-05-06T11:15:20Z</dcterms:modified>
  <cp:revision>11</cp:revision>
  <dc:subject/>
  <dc:title>PowerPoint Presentation</dc:title>
</cp:coreProperties>
</file>