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77724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3465000"/>
            <a:ext cx="77724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340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8720" y="154944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6360" y="154944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346500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8720" y="346500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6360" y="346500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900"/>
              </a:lnSpc>
              <a:spcBef>
                <a:spcPts val="56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0956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9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72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900"/>
              </a:lnSpc>
              <a:spcBef>
                <a:spcPts val="56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340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720" y="3465000"/>
            <a:ext cx="77724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77724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720" y="3465000"/>
            <a:ext cx="77724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72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340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8720" y="154944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6360" y="154944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720" y="346500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8720" y="346500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6360" y="3465000"/>
            <a:ext cx="250236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956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9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3400" y="346500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3400" y="1549440"/>
            <a:ext cx="37926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3465000"/>
            <a:ext cx="7772400" cy="174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12114" b="293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635472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2d50"/>
                </a:solidFill>
                <a:latin typeface="Arial"/>
              </a:rPr>
              <a:t>Slide </a:t>
            </a:r>
            <a:fld id="{7B9E7F3A-EC4C-4498-AB6C-FBC4FAD3954E}" type="slidenum">
              <a:rPr b="0" lang="en-US" sz="1200" spc="-1" strike="noStrike">
                <a:solidFill>
                  <a:srgbClr val="012d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14880" y="615636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12d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2d50"/>
                </a:solidFill>
                <a:latin typeface="Times New Roman"/>
              </a:rPr>
              <a:t>© CSIR  2006                        www.csir.co.z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rcRect l="0" t="0" r="18461" b="0"/>
          <a:stretch/>
        </p:blipFill>
        <p:spPr>
          <a:xfrm>
            <a:off x="8317080" y="6280200"/>
            <a:ext cx="792000" cy="60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2114" b="293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8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rcRect l="0" t="0" r="18461" b="0"/>
          <a:stretch/>
        </p:blipFill>
        <p:spPr>
          <a:xfrm>
            <a:off x="8317080" y="6280200"/>
            <a:ext cx="792000" cy="60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62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624"/>
              </a:spcBef>
              <a:spcAft>
                <a:spcPts val="125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624"/>
              </a:spcBef>
              <a:spcAft>
                <a:spcPts val="125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624"/>
              </a:spcBef>
              <a:spcAft>
                <a:spcPts val="125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afafa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8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33320" y="24382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spcBef>
                <a:spcPts val="56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58640" y="1614600"/>
            <a:ext cx="645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Environmental Sustainability</a:t>
            </a:r>
            <a:endParaRPr b="0" lang="en-US" sz="36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f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PF May 2008</a:t>
            </a:r>
            <a:endParaRPr b="0" lang="en-US" sz="36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2421000"/>
            <a:ext cx="6545160" cy="71280"/>
          </a:xfrm>
          <a:prstGeom prst="rect">
            <a:avLst/>
          </a:prstGeom>
          <a:solidFill>
            <a:srgbClr val="afafaf"/>
          </a:solidFill>
          <a:ln w="936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4451400"/>
            <a:ext cx="2952720" cy="22176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9560" y="7095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solution: RPF Nov 2007</a:t>
            </a: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72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201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t an RPF working group be established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develop guidelines for environmentally sustainable practices in construction and maintenance of road pa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419640" y="189000"/>
            <a:ext cx="3241440" cy="1079280"/>
          </a:xfrm>
          <a:prstGeom prst="roundRect">
            <a:avLst>
              <a:gd name="adj" fmla="val 16667"/>
            </a:avLst>
          </a:prstGeom>
          <a:solidFill>
            <a:srgbClr val="025aa0"/>
          </a:solidFill>
          <a:ln w="936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imate Change</a:t>
            </a:r>
            <a:endParaRPr b="0" lang="en-US" sz="2400" spc="-1" strike="noStrike">
              <a:solidFill>
                <a:srgbClr val="afafa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55640" y="189000"/>
            <a:ext cx="2592360" cy="1081080"/>
            <a:chOff x="755640" y="189000"/>
            <a:chExt cx="2592360" cy="1081080"/>
          </a:xfrm>
        </p:grpSpPr>
        <p:sp>
          <p:nvSpPr>
            <p:cNvPr id="92" name=""/>
            <p:cNvSpPr/>
            <p:nvPr/>
          </p:nvSpPr>
          <p:spPr>
            <a:xfrm>
              <a:off x="755640" y="189000"/>
              <a:ext cx="1800360" cy="1081080"/>
            </a:xfrm>
            <a:prstGeom prst="ellipse">
              <a:avLst/>
            </a:prstGeom>
            <a:solidFill>
              <a:srgbClr val="025aa0"/>
            </a:solidFill>
            <a:ln w="936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600"/>
                  </a:solidFill>
                  <a:latin typeface="Arial"/>
                </a:rPr>
                <a:t>Do nothing</a:t>
              </a:r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27280" y="549360"/>
              <a:ext cx="720720" cy="358560"/>
            </a:xfrm>
            <a:prstGeom prst="leftArrow">
              <a:avLst>
                <a:gd name="adj1" fmla="val 50000"/>
                <a:gd name="adj2" fmla="val 50251"/>
              </a:avLst>
            </a:prstGeom>
            <a:solidFill>
              <a:srgbClr val="025aa0"/>
            </a:solidFill>
            <a:ln w="936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836720" y="1248480"/>
            <a:ext cx="2519280" cy="2109240"/>
            <a:chOff x="1836720" y="1248480"/>
            <a:chExt cx="2519280" cy="2109240"/>
          </a:xfrm>
        </p:grpSpPr>
        <p:sp>
          <p:nvSpPr>
            <p:cNvPr id="95" name=""/>
            <p:cNvSpPr/>
            <p:nvPr/>
          </p:nvSpPr>
          <p:spPr>
            <a:xfrm>
              <a:off x="1836720" y="2349360"/>
              <a:ext cx="2519280" cy="1008360"/>
            </a:xfrm>
            <a:prstGeom prst="roundRect">
              <a:avLst>
                <a:gd name="adj" fmla="val 16667"/>
              </a:avLst>
            </a:prstGeom>
            <a:solidFill>
              <a:srgbClr val="025aa0"/>
            </a:solidFill>
            <a:ln w="936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Mitigation</a:t>
              </a:r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242200">
              <a:off x="3490560" y="1268280"/>
              <a:ext cx="431640" cy="1081080"/>
            </a:xfrm>
            <a:prstGeom prst="upDownArrow">
              <a:avLst>
                <a:gd name="adj1" fmla="val 50000"/>
                <a:gd name="adj2" fmla="val 49860"/>
              </a:avLst>
            </a:prstGeom>
            <a:solidFill>
              <a:srgbClr val="025aa0"/>
            </a:solidFill>
            <a:ln w="936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653080" y="1248480"/>
            <a:ext cx="2519280" cy="2109240"/>
            <a:chOff x="5653080" y="1248480"/>
            <a:chExt cx="2519280" cy="2109240"/>
          </a:xfrm>
        </p:grpSpPr>
        <p:sp>
          <p:nvSpPr>
            <p:cNvPr id="98" name=""/>
            <p:cNvSpPr/>
            <p:nvPr/>
          </p:nvSpPr>
          <p:spPr>
            <a:xfrm>
              <a:off x="5653080" y="2349360"/>
              <a:ext cx="2519280" cy="1008360"/>
            </a:xfrm>
            <a:prstGeom prst="roundRect">
              <a:avLst>
                <a:gd name="adj" fmla="val 16667"/>
              </a:avLst>
            </a:prstGeom>
            <a:solidFill>
              <a:srgbClr val="025aa0"/>
            </a:solidFill>
            <a:ln w="936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Adaptation</a:t>
              </a:r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19357800">
              <a:off x="6156000" y="1268280"/>
              <a:ext cx="431640" cy="1081080"/>
            </a:xfrm>
            <a:prstGeom prst="upDownArrow">
              <a:avLst>
                <a:gd name="adj1" fmla="val 50000"/>
                <a:gd name="adj2" fmla="val 49860"/>
              </a:avLst>
            </a:prstGeom>
            <a:solidFill>
              <a:srgbClr val="025aa0"/>
            </a:solidFill>
            <a:ln w="936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afafaf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836720" y="3573360"/>
            <a:ext cx="2519280" cy="2737080"/>
          </a:xfrm>
          <a:custGeom>
            <a:avLst/>
            <a:gdLst>
              <a:gd name="textAreaLeft" fmla="*/ 122760 w 2519280"/>
              <a:gd name="textAreaRight" fmla="*/ 2396520 w 2519280"/>
              <a:gd name="textAreaTop" fmla="*/ 122760 h 2737080"/>
              <a:gd name="textAreaBottom" fmla="*/ 2614320 h 2737080"/>
            </a:gdLst>
            <a:ahLst/>
            <a:rect l="textAreaLeft" t="textAreaTop" r="textAreaRight" b="textAreaBottom"/>
            <a:pathLst>
              <a:path w="21600" h="23467">
                <a:moveTo>
                  <a:pt x="3600" y="0"/>
                </a:moveTo>
                <a:arcTo wR="3600" hR="3600" stAng="16200000" swAng="-5400000"/>
                <a:lnTo>
                  <a:pt x="0" y="19867"/>
                </a:lnTo>
                <a:arcTo wR="3600" hR="3600" stAng="10800000" swAng="-5400000"/>
                <a:lnTo>
                  <a:pt x="18000" y="234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25aa0"/>
          </a:solidFill>
          <a:ln w="936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600"/>
                </a:solidFill>
                <a:latin typeface="Arial"/>
              </a:rPr>
              <a:t>Soften impact of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6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9600"/>
                </a:solidFill>
                <a:latin typeface="Arial"/>
              </a:rPr>
              <a:t>climate change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uce GHG 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issions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uce energy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umption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600"/>
                </a:solidFill>
                <a:latin typeface="Arial"/>
              </a:rPr>
              <a:t>Mitigation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9600"/>
                </a:solidFill>
                <a:latin typeface="Arial"/>
              </a:rPr>
              <a:t>strategies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3080" y="3573360"/>
            <a:ext cx="2519280" cy="2737080"/>
          </a:xfrm>
          <a:custGeom>
            <a:avLst/>
            <a:gdLst>
              <a:gd name="textAreaLeft" fmla="*/ 122760 w 2519280"/>
              <a:gd name="textAreaRight" fmla="*/ 2396520 w 2519280"/>
              <a:gd name="textAreaTop" fmla="*/ 122760 h 2737080"/>
              <a:gd name="textAreaBottom" fmla="*/ 2614320 h 2737080"/>
            </a:gdLst>
            <a:ahLst/>
            <a:rect l="textAreaLeft" t="textAreaTop" r="textAreaRight" b="textAreaBottom"/>
            <a:pathLst>
              <a:path w="21600" h="23467">
                <a:moveTo>
                  <a:pt x="3600" y="0"/>
                </a:moveTo>
                <a:arcTo wR="3600" hR="3600" stAng="16200000" swAng="-5400000"/>
                <a:lnTo>
                  <a:pt x="0" y="19867"/>
                </a:lnTo>
                <a:arcTo wR="3600" hR="3600" stAng="10800000" swAng="-5400000"/>
                <a:lnTo>
                  <a:pt x="18000" y="234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25aa0"/>
          </a:solidFill>
          <a:ln w="936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600"/>
                </a:solidFill>
                <a:latin typeface="Arial"/>
              </a:rPr>
              <a:t>Adjust to changing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6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9600"/>
                </a:solidFill>
                <a:latin typeface="Arial"/>
              </a:rPr>
              <a:t>environmental</a:t>
            </a:r>
            <a:r>
              <a:rPr b="1" lang="en-US" sz="1800" spc="-1" strike="noStrike">
                <a:solidFill>
                  <a:srgbClr val="ff9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96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mate change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enarios (local)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sks/vulnerability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600"/>
                </a:solidFill>
                <a:latin typeface="Arial"/>
              </a:rPr>
              <a:t>Adaptation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9600"/>
                </a:solidFill>
                <a:latin typeface="Arial"/>
              </a:rPr>
              <a:t>strategies</a:t>
            </a:r>
            <a:endParaRPr b="0" lang="en-US" sz="1800" spc="-1" strike="noStrike">
              <a:solidFill>
                <a:srgbClr val="afa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4680"/>
            <a:ext cx="7236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56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ntribution of transport to 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emission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28600" y="907920"/>
          <a:ext cx="762012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8600" y="907920"/>
                    <a:ext cx="762012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nergy consumption in transport (%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882720"/>
          <a:ext cx="8137440" cy="54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82720"/>
                    <a:ext cx="813744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9560" y="380880"/>
            <a:ext cx="8183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ssible roadmap for </a:t>
            </a:r>
            <a:r>
              <a:rPr b="1" lang="en-US" sz="2800" spc="-1" strike="noStrike">
                <a:solidFill>
                  <a:srgbClr val="ff9600"/>
                </a:solidFill>
                <a:latin typeface="Arial"/>
              </a:rPr>
              <a:t>Mitigat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f Climate Chan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cation of mitigation o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eening of mitigation o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of reduction potential and cost of mit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cation and removal of barriers to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itution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ion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9200" y="380880"/>
            <a:ext cx="8039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ep 1: Identification, screening and quantification of mitigation option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600"/>
                </a:solidFill>
                <a:latin typeface="Arial"/>
              </a:rPr>
              <a:t>Best practice guideline for the use of environmentally sustainable materials and processes in road co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624"/>
              </a:spcBef>
              <a:spcAft>
                <a:spcPts val="125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oduction (contex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624"/>
              </a:spcBef>
              <a:spcAft>
                <a:spcPts val="125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 consid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24"/>
              </a:spcBef>
              <a:spcAft>
                <a:spcPts val="125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uminous materials (warm, half-warm, bio-binders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24"/>
              </a:spcBef>
              <a:spcAft>
                <a:spcPts val="125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mentitious materials (HPC, high solar reflectance concrete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24"/>
              </a:spcBef>
              <a:spcAft>
                <a:spcPts val="125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ycling of materials (CIPR, HIPR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24"/>
              </a:spcBef>
              <a:spcAft>
                <a:spcPts val="125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tive materials (bio-binders, recycled concrete, slag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624"/>
              </a:spcBef>
              <a:spcAft>
                <a:spcPts val="125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ad design considerations (preservation, long-life pavemen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624"/>
              </a:spcBef>
              <a:spcAft>
                <a:spcPts val="125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on considerations (energy demands, emissions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624"/>
              </a:spcBef>
              <a:spcAft>
                <a:spcPts val="125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ffic considerations (capacity/congestion, ITS, model shif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624"/>
              </a:spcBef>
              <a:spcAft>
                <a:spcPts val="125"/>
              </a:spcAft>
              <a:buClr>
                <a:srgbClr val="be3232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considerations (noise attenuation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5000"/>
              </a:lnSpc>
              <a:spcBef>
                <a:spcPts val="6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0:33:22Z</dcterms:created>
  <dc:creator>Benoit Verhaeghe</dc:creator>
  <dc:description/>
  <dc:language>en-US</dc:language>
  <cp:lastModifiedBy>Verhaeghe</cp:lastModifiedBy>
  <cp:lastPrinted>2005-12-08T11:33:35Z</cp:lastPrinted>
  <dcterms:modified xsi:type="dcterms:W3CDTF">2008-05-08T12:01:24Z</dcterms:modified>
  <cp:revision>153</cp:revision>
  <dc:subject/>
  <dc:title>Environmental sustainability</dc:title>
</cp:coreProperties>
</file>