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DD90-7D1C-40B4-97C0-FDCB846A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21B5-A70A-4FAA-8D5F-E9E9F6F7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F1DA-CEEF-4A7E-9755-EBD8B885A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BE41-BDDA-48AB-A765-3FBE5AA9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6EA7-E2E0-4E17-8C4F-A95D9F39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6A76-AA02-4F2B-8FD5-90C1963E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FA8E-E691-421F-8B8C-8B27E202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E680-B94F-4566-A773-AACE3C3F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EE2A-E605-45E5-9E73-61E91D5A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9BF1-4B88-470C-B162-EC2D0CF2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66F4-022D-4267-AEA4-3CD9576B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7154-EC24-46ED-8B20-5F8D2FF2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851C-7071-4D4C-B203-0F5D1A426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EMENT STABILIZATION OF RO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58920" y="43430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 Perrie &amp; P Paige-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1413000"/>
            <a:ext cx="70866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22361" t="33507" r="8610" b="27952"/>
          <a:stretch/>
        </p:blipFill>
        <p:spPr>
          <a:xfrm>
            <a:off x="179280" y="5373720"/>
            <a:ext cx="2887920" cy="1282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804000" y="5232240"/>
            <a:ext cx="2168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Quiet for a couple of RPF mee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eveloped and circulated protocol for collecting information to assist with identifying optimum cement types and construction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ittle response so f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iscussions indicate that a number of problems, including durability issues are still occur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1484280"/>
            <a:ext cx="70866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imes New Roman"/>
              </a:rPr>
              <a:t>Propos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inue collecting information from ongoing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a is to identify various properties and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fect of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ual field temper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timum working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tocol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ak to me (or Bryan) please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371600"/>
            <a:ext cx="70866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6800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5219640" y="1268280"/>
            <a:ext cx="1584360" cy="3016440"/>
            <a:chOff x="5219640" y="1268280"/>
            <a:chExt cx="1584360" cy="3016440"/>
          </a:xfrm>
        </p:grpSpPr>
        <p:sp>
          <p:nvSpPr>
            <p:cNvPr id="56" name=""/>
            <p:cNvSpPr/>
            <p:nvPr/>
          </p:nvSpPr>
          <p:spPr>
            <a:xfrm>
              <a:off x="5940360" y="2276640"/>
              <a:ext cx="0" cy="93636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84720" y="2852640"/>
              <a:ext cx="0" cy="93672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257880" y="3348000"/>
              <a:ext cx="0" cy="9367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219640" y="126828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7% of 1 h dens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89600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5219640" y="1182600"/>
            <a:ext cx="1584360" cy="2462400"/>
            <a:chOff x="5219640" y="1182600"/>
            <a:chExt cx="1584360" cy="2462400"/>
          </a:xfrm>
        </p:grpSpPr>
        <p:sp>
          <p:nvSpPr>
            <p:cNvPr id="62" name=""/>
            <p:cNvSpPr/>
            <p:nvPr/>
          </p:nvSpPr>
          <p:spPr>
            <a:xfrm>
              <a:off x="5219640" y="118260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0% of 1 h U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5954760" y="2391840"/>
              <a:ext cx="0" cy="57636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6113520" y="2541600"/>
              <a:ext cx="0" cy="50328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6227640" y="3141720"/>
              <a:ext cx="12960" cy="50328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imes New Roman"/>
              </a:rPr>
              <a:t>RPF task team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640" y="1828440"/>
            <a:ext cx="791856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Various discussions and feed-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uggestion to resuscitate RPF cement stabilization task team – Resolution 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ull meeting/workshop early in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dentify issues and problem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ut together small working group – remainder sort of peer-review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1371600"/>
            <a:ext cx="70866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imes New Roman"/>
              </a:rPr>
              <a:t>Worksh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1628640"/>
            <a:ext cx="70866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2060640"/>
            <a:ext cx="77724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you are interested in being involved in the workshop, contact: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ryan@cnci.org.z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39757" t="17459" r="10625" b="32842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124000" y="1197000"/>
            <a:ext cx="4753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THANK YOU 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14:19:48Z</dcterms:created>
  <dc:creator>User @</dc:creator>
  <dc:description/>
  <dc:language>en-US</dc:language>
  <cp:lastModifiedBy>User @</cp:lastModifiedBy>
  <dcterms:modified xsi:type="dcterms:W3CDTF">2007-11-20T18:21:32Z</dcterms:modified>
  <cp:revision>13</cp:revision>
  <dc:subject/>
  <dc:title>CEMENT STABILIZATION OF ROADS</dc:title>
</cp:coreProperties>
</file>