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721D-0183-4F71-958C-1DFAD29FE2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RAL – Dennis Ross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ces – Gautrans (Adreo Brits), Limpopo (through 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ultants - Vela VKE (Jo Grobler), BKS (Nick Kong), SSi (Philip Joubert), Africon (Johan Calitz), KweziV3 (Gerhard Verw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liers – AfriSam (Sebasti Badenhor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RAL – Dennis Ross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ces – Gautrans (Adreo Brits), Limpopo (through 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ultants - Vela VKE (Jo Grobler), BKS (Nick Kong), SSi (Philip Joubert), Africon (Johan Calitz), KweziV3 (Gerhard Verw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liers – AfriSam (Sebasti Badenhor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A4B-1CC5-44CC-928E-E7B4953F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2DF-9790-4648-8FA8-76FE485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91C-130D-4147-80B9-8A726B00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1F5-F0DF-4BD3-9A60-0CC50E84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FC2-397C-4C37-9343-AD1AA2F8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B0D-F20B-4542-AA5B-DA7A5CF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E49-9F0F-4BE3-B84C-17FD324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E33-1023-439B-93E5-1A3E6DE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4DF-B408-41E1-A51C-E557A43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826-C1DA-40EC-AFCA-1BAF4D2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D70-DE4B-48CF-B615-782AD19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07B-19BB-4ABB-8E1C-1B3B85E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AF73-10CC-453E-9132-E1EAEE624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PF STABILIZATION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4130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2887920" cy="128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04000" y="5232240"/>
            <a:ext cx="2168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atus q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veloped and circulated protocol for collecting information to assist with identifying optimum cement types and construc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PF stabilization sub-committe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12536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RPF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185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ions in early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(email) sub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d by P Paige-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ular email contact to identify ongoing and new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obtain as much relevant information as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it roads where possible and collect samples and 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 data base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3716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RPF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185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ly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IR and C&amp;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N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nces (Gautrans, Limpo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ltants (VKE, BKS, SSI, Afric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liers (AfriS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one else who is keen and can contribute meaningfully? Let us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3716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RPF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185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paigegr@csir.co.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yan@cnci.org.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3716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19:48Z</dcterms:created>
  <dc:creator>User @</dc:creator>
  <dc:description/>
  <dc:language>en-US</dc:language>
  <cp:lastModifiedBy>BRYAN</cp:lastModifiedBy>
  <dcterms:modified xsi:type="dcterms:W3CDTF">2008-05-06T08:37:05Z</dcterms:modified>
  <cp:revision>23</cp:revision>
  <dc:subject/>
  <dc:title>CEMENT STABILIZATION OF ROADS</dc:title>
</cp:coreProperties>
</file>