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4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.wmf" ContentType="image/x-wmf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0.jpeg" ContentType="image/jpeg"/>
  <Override PartName="/ppt/media/image13.jpeg" ContentType="image/jpeg"/>
  <Override PartName="/ppt/media/image6.wmf" ContentType="image/x-wmf"/>
  <Override PartName="/ppt/media/image19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5F50-B974-4117-82C8-B6EF61A6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625-5D84-4C60-9AAD-F12837A5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CC3-CB87-4D0B-9C5F-C31675E2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3DC-DD94-4B96-BC1F-47E548D9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EB7-8298-4256-AEDA-CE53B847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5E9-747C-4576-B249-78F32C5C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8EF-D0C8-417A-941D-E6723840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B09-A170-4968-817E-78DFCEDE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97F-853D-4C44-BA01-44C82E43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197D-4E93-4E2A-9E90-024A6B6D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C513-B9C3-437A-AF71-D335C503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E23-EC99-49ED-A962-E9C553BD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9CA5-03DF-4F6F-B5F0-88EA00F86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7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to RPF –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S 308 Review Proce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Johan Mu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ad Pavement Forum Task Team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6720" y="236520"/>
            <a:ext cx="5549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Properties of Cutback Bitumen MC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(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introduction of a new low viscosity prim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24000" y="1114560"/>
          <a:ext cx="8569080" cy="5103720"/>
        </p:xfrm>
        <a:graphic>
          <a:graphicData uri="http://schemas.openxmlformats.org/drawingml/2006/table">
            <a:tbl>
              <a:tblPr/>
              <a:tblGrid>
                <a:gridCol w="2565360"/>
                <a:gridCol w="674640"/>
                <a:gridCol w="1019160"/>
                <a:gridCol w="770040"/>
                <a:gridCol w="701640"/>
                <a:gridCol w="28382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E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M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 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rookefield Viscosity @ 60 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mPa.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 - 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D4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Used as field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inematic Viscosity @ 60 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2170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Used by refineries 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Flash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D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afety requir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Water, % by mass or v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2 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ity at (60) ?? 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illation @ 101.325 kPa a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402/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illate % (v/v) of total distillate up to 360 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 to 190 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-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 to 225 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-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 to 260 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 to 316 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ue From Distillation to 360 °C ( by differen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Viscosity @ 60 ºC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on residue from distil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a.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D4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To replace penetration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praying Temp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Guideline for applica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 Viscosity Cu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0" y="1303200"/>
          <a:ext cx="9144000" cy="464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03200"/>
                    <a:ext cx="9144000" cy="46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82296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Spec Developments Based on Literature Survey of State of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435640" y="3860640"/>
            <a:ext cx="2089080" cy="1505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124000" y="3573360"/>
            <a:ext cx="165600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364000" y="1773360"/>
            <a:ext cx="2087640" cy="1617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619280" y="2103480"/>
            <a:ext cx="29527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938840" y="1052640"/>
            <a:ext cx="3809880" cy="2539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7400" y="1033560"/>
            <a:ext cx="3810240" cy="2539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OMPARISONS UNDER CONTROLLED CONDITIONS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4027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C30 @ 0.8 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  <a:ea typeface="Arial"/>
              </a:rPr>
              <a:t>ℓ / m</a:t>
            </a:r>
            <a:r>
              <a:rPr b="0" lang="en-ZA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6000" y="1989000"/>
            <a:ext cx="3970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C30 @ 0.5 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  <a:ea typeface="Arial"/>
              </a:rPr>
              <a:t>ℓ / m</a:t>
            </a:r>
            <a:r>
              <a:rPr b="0" lang="en-ZA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938840" y="2637000"/>
            <a:ext cx="3809880" cy="2539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11280" y="270828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11280" y="431784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4932360" y="4317840"/>
            <a:ext cx="38098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052640"/>
            <a:ext cx="3810240" cy="253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3809880" cy="2539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OMPARISONS UNDER CONTROLL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IBE @ 0.8 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  <a:ea typeface="Arial"/>
              </a:rPr>
              <a:t>ℓ / m</a:t>
            </a:r>
            <a:r>
              <a:rPr b="0" lang="en-ZA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IBE @ 0.5 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  <a:ea typeface="Arial"/>
              </a:rPr>
              <a:t>ℓ / m</a:t>
            </a:r>
            <a:r>
              <a:rPr b="0" lang="en-ZA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95280" y="2781360"/>
            <a:ext cx="3809880" cy="2539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95280" y="434484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076720" y="2689200"/>
            <a:ext cx="3808440" cy="253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5076720" y="4344840"/>
            <a:ext cx="38102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360" y="112536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110484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OMPARISONS UNDER CONTROLL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C10 @ 0.8 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  <a:ea typeface="Arial"/>
              </a:rPr>
              <a:t>ℓ / m</a:t>
            </a:r>
            <a:r>
              <a:rPr b="0" lang="en-ZA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C10 @ 0.5 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  <a:ea typeface="Arial"/>
              </a:rPr>
              <a:t>ℓ / m</a:t>
            </a:r>
            <a:r>
              <a:rPr b="0" lang="en-ZA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8360" y="249228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932360" y="2544840"/>
            <a:ext cx="3809880" cy="253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68360" y="431784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4932360" y="4317840"/>
            <a:ext cx="38098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809880" cy="2539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722840" y="1052640"/>
            <a:ext cx="3809880" cy="2539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OMPARISONS UNDER CONTROLL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00720" y="256536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90480" y="2565360"/>
            <a:ext cx="3810240" cy="254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568920" y="3048120"/>
            <a:ext cx="2540160" cy="3809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87480" y="3048120"/>
            <a:ext cx="2539800" cy="3809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An un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emulsion pr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@ 0.8 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  <a:ea typeface="Arial"/>
              </a:rPr>
              <a:t>ℓ / m</a:t>
            </a:r>
            <a:r>
              <a:rPr b="0" lang="en-ZA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Another un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emulsion pr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@ 0.8 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  <a:ea typeface="Arial"/>
              </a:rPr>
              <a:t>ℓ / m</a:t>
            </a:r>
            <a:r>
              <a:rPr b="0" lang="en-ZA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34120" y="1052640"/>
            <a:ext cx="3809880" cy="2539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3809880" cy="2539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OMPARISONS UNDER CONTROLL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3754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osas QD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@ 0.8 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  <a:ea typeface="Arial"/>
              </a:rPr>
              <a:t>ℓ / m</a:t>
            </a:r>
            <a:r>
              <a:rPr b="0" lang="en-ZA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64000" y="2276280"/>
            <a:ext cx="3322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C 15 @ 0.8 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  <a:ea typeface="Arial"/>
              </a:rPr>
              <a:t>ℓ / m</a:t>
            </a:r>
            <a:r>
              <a:rPr b="0" lang="en-ZA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334120" y="2997360"/>
            <a:ext cx="3809880" cy="2539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603840" y="3048120"/>
            <a:ext cx="2540160" cy="3809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324000" y="256536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24000" y="4317840"/>
            <a:ext cx="38098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to RPF - SANS 308 Review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Current Status – MANUFAC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ONLY NATREF manufactures MC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OTHER LOCAL PRIMARY PRODU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Volumes dr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Storage tanks is an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INVERT BITUMEN EMULSION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EMULSION PRIMES NOW ALSO USED MORE EXTENS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THIS TASK TEAM ONLY LOOKS AT THE CUTBACK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to RPF - SANS 308 Review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Current Status – PRIM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Issues associated to Priming – Dr Netter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curing - cement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Carbonis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Dense crushed stone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Penetration requir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ETB – no prime required only t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AKE COGNISANCE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DE-LAMINATION / DEBONDING - Prof Hu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to RPF - SANS 308 Review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Meeting held 15 Nov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92000" y="2852640"/>
          <a:ext cx="8101080" cy="3672000"/>
        </p:xfrm>
        <a:graphic>
          <a:graphicData uri="http://schemas.openxmlformats.org/drawingml/2006/table">
            <a:tbl>
              <a:tblPr/>
              <a:tblGrid>
                <a:gridCol w="636840"/>
                <a:gridCol w="3414600"/>
                <a:gridCol w="2798640"/>
                <a:gridCol w="1251000"/>
              </a:tblGrid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spons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i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Welcome/Backg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Johan Mu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h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view process to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revor Dis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h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Proposed specification ch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Jacques van Hee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h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iscussion and recommend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h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ormulation of feedback to the R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Johan Mu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5h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osure of me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Johan Mu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5h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to RPF - SANS 308 Review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Task team proposes to the R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Introduce MC10 product on </a:t>
            </a:r>
            <a:r>
              <a:rPr b="1" lang="en-ZA" sz="2800" spc="-1" strike="noStrike" u="sng">
                <a:solidFill>
                  <a:srgbClr val="ff0000"/>
                </a:solidFill>
                <a:uFillTx/>
                <a:latin typeface="Arial"/>
              </a:rPr>
              <a:t>TRIAL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O AMENDMENT TO SANS 308, YET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DEVELOPMENT OF A PRIME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DIFFERENT PR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DIFFERENT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EFFECT ON C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EST PRACTICE GUIDELINE IN PROCESS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Initiative of major client bodies – Mr Rossma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to RPF - SANS 308 Review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Acknowledgement &amp; 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ero Tolerance for Speeding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trucks driving in fast lanes this Dece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76360" y="1579680"/>
            <a:ext cx="640224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to RPF - SANS 308 Review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129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ctor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pany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mary Produce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apref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ke Zacharia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tref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acques Van Heerde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ref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aniel Mashatol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lref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mon Co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mary Markete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san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omas Pring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san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s O’Brie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ob Horns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sil Jonss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aso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ieter Goose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evr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ris Viljoe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ondary produce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la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obus Louw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sa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han Mulle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ent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ANR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nnis Rossman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PTRW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zbieta Sadzik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plicators/contracto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pray Pav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evin Spen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r Spra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bin Dryburg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mac Surfacin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evan Roche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ultant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la VK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thur Taut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la VK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mon Kotz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SP S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uglas Jud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SI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rian Berg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ank Netterber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to RPF - SANS 308 Review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LAST REVIEW 19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2004 CAPSA ID ENVIRONMENTAL NEED TO DISCONTINUATION OF TAR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2006TAR PRIMES AND PRE-COATING FLUIDS DISCONTINU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SASOL CARBO-TAR CLOSED JUNE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MC 30 DOES NOT PENET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AND DRY QUICK ENOU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(ESPECIALLY IN COLDER WEA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MC70 &amp; MC800 NO LONGER MANUFACTURED DUE TO LOW MARKET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RC NO LONGER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to RPF - SANS 308 Review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76720" y="1557360"/>
            <a:ext cx="5761080" cy="3840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55640" y="1846440"/>
            <a:ext cx="2736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MC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DENSE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STABILISED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POOR PENET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AFTER 10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ESPECI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IN COL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WEA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248520" y="5746680"/>
            <a:ext cx="2895480" cy="111132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0" y="5867280"/>
            <a:ext cx="1944720" cy="990720"/>
            <a:chOff x="0" y="5867280"/>
            <a:chExt cx="1944720" cy="990720"/>
          </a:xfrm>
        </p:grpSpPr>
        <p:grpSp>
          <p:nvGrpSpPr>
            <p:cNvPr id="56" name=""/>
            <p:cNvGrpSpPr/>
            <p:nvPr/>
          </p:nvGrpSpPr>
          <p:grpSpPr>
            <a:xfrm>
              <a:off x="0" y="5867280"/>
              <a:ext cx="981360" cy="990720"/>
              <a:chOff x="0" y="5867280"/>
              <a:chExt cx="981360" cy="990720"/>
            </a:xfrm>
          </p:grpSpPr>
          <p:sp>
            <p:nvSpPr>
              <p:cNvPr id="57" name=""/>
              <p:cNvSpPr/>
              <p:nvPr/>
            </p:nvSpPr>
            <p:spPr>
              <a:xfrm>
                <a:off x="0" y="5867280"/>
                <a:ext cx="981360" cy="9907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66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0" y="5867280"/>
                <a:ext cx="981360" cy="990720"/>
                <a:chOff x="0" y="5867280"/>
                <a:chExt cx="981360" cy="9907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0" y="5867280"/>
                  <a:ext cx="981360" cy="9907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6346800"/>
                  <a:ext cx="9813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5120" y="6250680"/>
                  <a:ext cx="9507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45720" y="6170760"/>
                  <a:ext cx="889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76320" y="6090840"/>
                  <a:ext cx="828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22400" y="6026760"/>
                  <a:ext cx="736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83960" y="5978880"/>
                  <a:ext cx="628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14560" y="5946840"/>
                  <a:ext cx="551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45160" y="5931000"/>
                  <a:ext cx="4906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21840" y="5898960"/>
                  <a:ext cx="3524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67920" y="5883120"/>
                  <a:ext cx="260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35640" y="6061320"/>
              <a:ext cx="1909080" cy="70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22960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800" spc="-1" strike="noStrike">
                <a:solidFill>
                  <a:srgbClr val="4d4d4d"/>
                </a:solidFill>
                <a:latin typeface="Arial"/>
              </a:rPr>
              <a:t>SANS 30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30320" y="1052640"/>
            <a:ext cx="7142040" cy="5421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56000" y="2421000"/>
            <a:ext cx="1440000" cy="3240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356000" y="2421000"/>
            <a:ext cx="1440000" cy="3240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to RPF - SANS 308 Review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NEW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DUE TO PROBLEMS ASSOCIATED TO POOR PENETRATION AND LONG DRYING TIME R&amp;D FO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AIM:</a:t>
            </a: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FIND ALTERNATIVES THAT </a:t>
            </a: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ZA" sz="3200" spc="-1" strike="noStrike">
                <a:solidFill>
                  <a:srgbClr val="000000"/>
                </a:solidFill>
                <a:latin typeface="Arial"/>
              </a:rPr>
              <a:t>PERFORM BETTER THAN MC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PRODUCT MUST BE MANUFAC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PREFERABLE AT PRIMARY PRODUCER LEVEL TO EN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CONSISTENT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600" spc="-1" strike="noStrike">
                <a:solidFill>
                  <a:srgbClr val="000000"/>
                </a:solidFill>
                <a:latin typeface="Arial"/>
              </a:rPr>
              <a:t>SAFER PRODUCTION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600" spc="-1" strike="noStrike">
                <a:solidFill>
                  <a:srgbClr val="000000"/>
                </a:solidFill>
                <a:latin typeface="Arial"/>
              </a:rPr>
              <a:t>PROTECT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600" spc="-1" strike="noStrike">
                <a:solidFill>
                  <a:srgbClr val="000000"/>
                </a:solidFill>
                <a:latin typeface="Arial"/>
              </a:rPr>
              <a:t>ENSURE GOOD GOVER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NO HEATING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The effect of 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36360" y="1020600"/>
            <a:ext cx="907236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96720" y="25920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Properties of Cutback Bitumen MC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24000" y="1114560"/>
          <a:ext cx="8569080" cy="5103720"/>
        </p:xfrm>
        <a:graphic>
          <a:graphicData uri="http://schemas.openxmlformats.org/drawingml/2006/table">
            <a:tbl>
              <a:tblPr/>
              <a:tblGrid>
                <a:gridCol w="2570040"/>
                <a:gridCol w="669960"/>
                <a:gridCol w="1050840"/>
                <a:gridCol w="771480"/>
                <a:gridCol w="701640"/>
                <a:gridCol w="28051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E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M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 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rookefield Viscosity @ 60 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mPa.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5 –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D4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Used as field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inematic Viscosity @ 60 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2170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Used by refineries 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Flash 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D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afety requir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Water, % by mass or v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2 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ity at (60) ?? 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/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illation @ 101.325 kPa a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402/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illate % (v/v) of total distillate up to 360 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 to 190 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 to 225 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 to 260 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-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 to 316 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ue From Distillation to 360 °C ( by differen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Viscosity @ 60 ºC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on residue from distil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a.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D4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To replace penetration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praying Temp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5 – 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Guideline for applica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6:30:17Z</dcterms:created>
  <dc:creator>Johan Muller</dc:creator>
  <dc:description/>
  <dc:language>en-US</dc:language>
  <cp:lastModifiedBy>Johan Muller</cp:lastModifiedBy>
  <dcterms:modified xsi:type="dcterms:W3CDTF">2007-11-21T04:49:35Z</dcterms:modified>
  <cp:revision>7</cp:revision>
  <dc:subject/>
  <dc:title>Slide 1</dc:title>
</cp:coreProperties>
</file>