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D6D0-C7A4-438D-9E6B-18EF22503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8827-70B1-43DB-9F52-99ED22BA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8165-B01C-487B-8D81-0FEF686E9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2CFB-7CDB-4E03-A3E2-CD0ADD3C5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5BC7-FE24-427B-B4F1-90E0A124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1DD9-AFBC-4560-90A9-1C8F3D27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87CD-C29F-4563-BDF8-8BD7EAA7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B1FC-532F-4822-8B71-D5499E4C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3000" y="330120"/>
            <a:ext cx="8118000" cy="478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F450-36B4-4A98-8F56-364D38E8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EE25-B826-4BA4-9EBA-403AEA68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95DB-EEA7-4701-85C8-A25C8D8B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EC27-0460-4150-970B-14004EB0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1D80-9638-4C75-B7FC-DB005C480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9720" y="909720"/>
            <a:ext cx="7629120" cy="132696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REPORT to RP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7543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November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MH1 Revision</a:t>
            </a:r>
            <a:r>
              <a:rPr b="1" lang="en-ZA" sz="3200" spc="-1" strike="noStrike">
                <a:solidFill>
                  <a:srgbClr val="ff3300"/>
                </a:solidFill>
                <a:latin typeface="Arial"/>
              </a:rPr>
              <a:t> &amp; 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Mervyn Henderson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8000"/>
                </a:solidFill>
                <a:latin typeface="Arial"/>
              </a:rPr>
              <a:t>TMH1 report prepared by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ave W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92120" y="309240"/>
            <a:ext cx="8159760" cy="64620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MH1  PROJECT  T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Tony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Wim W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Basie Nothnag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Dave W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A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mai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fhw@telkomsa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l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082 790 61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n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021 790 16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600"/>
                            </p:stCondLst>
                            <p:childTnLst>
                              <p:par>
                                <p:cTn id="2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700"/>
                            </p:stCondLst>
                            <p:childTnLst>
                              <p:par>
                                <p:cTn id="2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800"/>
                            </p:stCondLst>
                            <p:childTnLst>
                              <p:par>
                                <p:cTn id="2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9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69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1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1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79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900"/>
                            </p:stCondLst>
                            <p:childTnLst>
                              <p:par>
                                <p:cTn id="269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000" autoRev="1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271" dur="1000" autoRev="1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272" dur="1000" autoRev="1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ff3300"/>
                </a:solidFill>
                <a:latin typeface="Arial"/>
              </a:rPr>
              <a:t>Proficiency Test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99"/>
                </a:solidFill>
                <a:latin typeface="Arial"/>
              </a:rPr>
              <a:t>Tender for phase 1 finalised by Wesley Weber in May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75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99"/>
                </a:solidFill>
                <a:latin typeface="Arial"/>
              </a:rPr>
              <a:t>Phase 1 : establishment  of  framework  for  the National  Proficiency  Testing 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99"/>
                </a:solidFill>
                <a:latin typeface="Arial"/>
              </a:rPr>
              <a:t>Tender items 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75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99"/>
                </a:solidFill>
                <a:latin typeface="Arial"/>
              </a:rPr>
              <a:t>Provide a Business Plan for (</a:t>
            </a:r>
            <a:r>
              <a:rPr b="0" lang="en-ZA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National Proficiency Assessment Services for Roads) </a:t>
            </a:r>
            <a:r>
              <a:rPr b="0" lang="en-ZA" sz="1800" spc="-1" strike="noStrike">
                <a:solidFill>
                  <a:srgbClr val="000099"/>
                </a:solidFill>
                <a:latin typeface="Arial"/>
              </a:rPr>
              <a:t>NPASR which includes the functional and administrative structure of the National Proficiency Testing Scheme, based on ISO 43 and ILAC G13: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75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Design a Test Method Registry as well as providing a list of National Standard Test methods required for the Proficiency Testing Programme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75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Provide a document for statistical randomised sampling procedures and test item preparation as required by the Proficiency Testing 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75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Establish and provide procedures for test item preparation, handling, transporting, storage as well as containers and labelling,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lang="en-ZA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etc. (18 ite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ff3300"/>
                </a:solidFill>
                <a:latin typeface="Arial"/>
              </a:rPr>
              <a:t>Proficiency Test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99"/>
                </a:solidFill>
                <a:latin typeface="Arial"/>
              </a:rPr>
              <a:t>NO TAKERS could be found in private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99"/>
                </a:solidFill>
                <a:latin typeface="Arial"/>
              </a:rPr>
              <a:t>Rob Damhuis of SANRAL suggested that we ask the National Laboratory Association to assist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99"/>
                </a:solidFill>
                <a:latin typeface="Arial"/>
              </a:rPr>
              <a:t>NLA has experience with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ter laboratory comparison </a:t>
            </a:r>
            <a:r>
              <a:rPr b="0" lang="en-ZA" sz="2800" spc="-1" strike="noStrike">
                <a:solidFill>
                  <a:srgbClr val="000099"/>
                </a:solidFill>
                <a:latin typeface="Arial"/>
              </a:rPr>
              <a:t>sc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99"/>
                </a:solidFill>
                <a:latin typeface="Arial"/>
              </a:rPr>
              <a:t>The schem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empower</a:t>
            </a:r>
            <a:r>
              <a:rPr b="0" lang="en-ZA" sz="24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the laboratory with valuable data to evaluate staff competency</a:t>
            </a:r>
            <a:r>
              <a:rPr b="0" lang="en-ZA" sz="24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o identify potential deficiencies in the measuremen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99"/>
                </a:solidFill>
                <a:latin typeface="Arial"/>
              </a:rPr>
              <a:t>Rob is arranging a meeting with Steve Sidney of the NLA Board to take the matter fur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95720" y="313200"/>
            <a:ext cx="8152560" cy="71496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MH1 Revision -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nder auspices of M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unded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ANRAL, PAWC, Freetrans and SAB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iorities set by fu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Arial"/>
              </a:rPr>
              <a:t>Rewrite TMH1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methods into SANS format, where necessary improving and amen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ublish as SANS managed by S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gal standing, credibility in Africa and long-term ow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tand-alone methods – reviewed after first year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1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1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10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03280" y="320760"/>
            <a:ext cx="8137440" cy="85248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MH1 Revision -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rst Draft circulated as widely as possible throughout industry (also SAD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tentious issues reviewed by small work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nal Draft approved by MTC and submitted to S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ABS: Tech review, Edit review, TC 61 subcommittee, call for Public Comment &amp; Objections, Final Approval and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99320" y="316800"/>
            <a:ext cx="8145360" cy="78408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Arial"/>
              </a:rPr>
              <a:t>PILOT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1 Methods – In Final Draf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waiting 2 normative 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et grading, Atterberg Limits and Linear Shrinkage (3 LL procedures), Moisture content, Dry grading, ALD (Meas &amp; Comp), Calcs of GM, FM etc, Mod and C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een through SABS up to review by TC61 sub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06880" y="324000"/>
            <a:ext cx="8130240" cy="92124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SECOND 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6840" y="13712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7 First Drafts sent out for industry 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ggregates: grading, FI, ACV, 10% FACT, ARD / B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crete: Lab mix specimens, Slump, Dimensions of specimens &amp; compr. str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hecking, handling and maintenance of sie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tabilization testing including UCS &amp; 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urrently being prepared for Final Draf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99320" y="316800"/>
            <a:ext cx="8145360" cy="78408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008000"/>
                </a:solidFill>
                <a:latin typeface="Arial"/>
              </a:rPr>
              <a:t>SECOND 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ZA" sz="2800" spc="-1" strike="noStrike">
                <a:solidFill>
                  <a:srgbClr val="008000"/>
                </a:solidFill>
                <a:latin typeface="Arial"/>
              </a:rPr>
              <a:t>SABITA funded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333399"/>
                </a:solidFill>
                <a:latin typeface="Arial"/>
              </a:rPr>
              <a:t>5 Asphalt Methods - First D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ZA" sz="2800" spc="-1" strike="noStrike">
                <a:solidFill>
                  <a:srgbClr val="333399"/>
                </a:solidFill>
                <a:latin typeface="Arial"/>
              </a:rPr>
              <a:t>To be discussed separately in R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333399"/>
                </a:solidFill>
                <a:latin typeface="Arial"/>
              </a:rPr>
              <a:t>6 Binder Distributor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ZA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ZA" sz="2800" spc="-1" strike="noStrike">
                <a:solidFill>
                  <a:srgbClr val="333399"/>
                </a:solidFill>
                <a:latin typeface="Arial"/>
              </a:rPr>
              <a:t>from SABITA DRAFT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ZA" sz="2400" spc="-1" strike="noStrike">
                <a:solidFill>
                  <a:srgbClr val="ff3300"/>
                </a:solidFill>
                <a:latin typeface="Arial"/>
              </a:rPr>
              <a:t>Being ‘SANS-ified’ by Project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ZA" sz="2400" spc="-1" strike="noStrike">
                <a:solidFill>
                  <a:srgbClr val="ff3300"/>
                </a:solidFill>
                <a:latin typeface="Arial"/>
              </a:rPr>
              <a:t>SABITA investigating alternative procedures to annual ‘certification’ of  BDs – move away from ‘test centres’ to more accessible form of checking for ‘fit for purpose’ using SANS test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1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10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172200" y="304920"/>
            <a:ext cx="2666880" cy="2485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99320" y="423000"/>
            <a:ext cx="8145360" cy="78408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NUCLEAR DENSITY T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Recent Problems with Nuclear Gauge Density measu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Issues raised in meeting at SANRAL WC in March 2007 – Dave Wright asked to work on as priority in conjunction with Barry Du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Work attached to TMH1 brief and funded through PAWC con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Major misconception – not a density meter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943600" y="380880"/>
            <a:ext cx="2819520" cy="2629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21560" y="345600"/>
            <a:ext cx="8148240" cy="75672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NUCLEAR DENSITY T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Issues requiring 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ibration of gau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perator certification including handling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Verification – standard b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esting procedure – initialization, bedding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rientation, count time, block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nterpretation of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oblem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1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10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10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943600" y="380880"/>
            <a:ext cx="2819520" cy="2629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21560" y="345600"/>
            <a:ext cx="8148240" cy="75672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NUCLEAR DENSITY T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Calibration invest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urrently under way – prelim results indicate</a:t>
            </a:r>
            <a:r>
              <a:rPr b="1" lang="en-ZA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nteresting improvement to calib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ill confirm with more detailed</a:t>
            </a:r>
            <a:r>
              <a:rPr b="1" lang="en-ZA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nvestigation</a:t>
            </a:r>
            <a:r>
              <a:rPr b="1" lang="en-ZA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ver year-end break when a suitable</a:t>
            </a:r>
            <a:r>
              <a:rPr b="1" lang="en-ZA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ssortment of makes and ages of gauges will be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ill then proceed with validation of gauges and field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6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1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8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6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6T11:17:26Z</dcterms:created>
  <dc:creator>home pc</dc:creator>
  <dc:description/>
  <dc:language>en-US</dc:language>
  <cp:lastModifiedBy>MG Henderson</cp:lastModifiedBy>
  <dcterms:modified xsi:type="dcterms:W3CDTF">2007-11-19T13:22:12Z</dcterms:modified>
  <cp:revision>26</cp:revision>
  <dc:subject/>
  <dc:title>REPORT BACK to MTC</dc:title>
</cp:coreProperties>
</file>