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DF7-0F94-4E7D-BA56-06B3BAC1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B7A-07E7-4A84-872E-FF08C6B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6E3-3939-4B57-B72F-2048FC24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052-8CEA-465A-8E5A-A382867E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07F5-CF3C-444E-99AA-975BE536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8382-6A3F-4DE7-B157-78BD14C4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9796-F79F-4F2E-9E62-2E06B6A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EFB4-6C9B-43FE-A60A-9108B3E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688-5E9B-49A5-B761-03B5504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87CC-E428-4202-B42C-B9029E78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9F9-AF2C-4756-9D1C-4738C31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7FE-3255-4FD6-8DD2-C0BF041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2B0-E287-414E-8BC4-98D3CA1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A1D4-5EF5-4831-BC36-B2AC026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2B6B-F261-4A59-8308-9795539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A9A-17E8-471A-A5F1-4B6915A0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F75-606D-4AB9-BAA0-15FA9143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50C-B963-426E-A561-EF2A868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6A3-75D4-4E43-95BB-B7AFEA5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BB3-ED10-4E7A-91B6-33F5313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6D4-1E4F-4B4C-95C3-EDEEAF4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B04-5FFA-4390-B1F5-EB18608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6DE-4EAE-47F0-B243-1B4F6E80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609-EEEA-4068-9920-865ACE2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D53C-DF15-4895-90FD-B6E7BF5B68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" name=""/>
          <p:cNvGraphicFramePr/>
          <p:nvPr/>
        </p:nvGraphicFramePr>
        <p:xfrm>
          <a:off x="152280" y="6019920"/>
          <a:ext cx="6858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19920"/>
                    <a:ext cx="685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D895-23B3-41F4-B336-C1D9EDDE8B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6019920"/>
          <a:ext cx="6858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19920"/>
                    <a:ext cx="685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58669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0066"/>
                </a:solidFill>
                <a:latin typeface="Arial"/>
              </a:rPr>
              <a:t>Feedback to RPF</a:t>
            </a:r>
            <a:br>
              <a:rPr sz="2400"/>
            </a:br>
            <a:r>
              <a:rPr b="1" lang="en-ZA" sz="2400" spc="-1" strike="noStrike">
                <a:solidFill>
                  <a:srgbClr val="330066"/>
                </a:solidFill>
                <a:latin typeface="Arial"/>
              </a:rPr>
              <a:t>May 2008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674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330066"/>
                </a:solidFill>
                <a:latin typeface="Arial"/>
                <a:ea typeface="Arial"/>
              </a:rPr>
              <a:t>HVS Technology Development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top_r1_c1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top_r1_c2" descr=""/>
          <p:cNvPicPr/>
          <p:nvPr/>
        </p:nvPicPr>
        <p:blipFill>
          <a:blip r:embed="rId2"/>
          <a:stretch/>
        </p:blipFill>
        <p:spPr>
          <a:xfrm>
            <a:off x="914400" y="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57" name="top_r1_c3" descr=""/>
          <p:cNvPicPr/>
          <p:nvPr/>
        </p:nvPicPr>
        <p:blipFill>
          <a:blip r:embed="rId3"/>
          <a:stretch/>
        </p:blipFill>
        <p:spPr>
          <a:xfrm>
            <a:off x="2286000" y="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top_r1_c4" descr=""/>
          <p:cNvPicPr/>
          <p:nvPr/>
        </p:nvPicPr>
        <p:blipFill>
          <a:blip r:embed="rId4"/>
          <a:stretch/>
        </p:blipFill>
        <p:spPr>
          <a:xfrm>
            <a:off x="3733920" y="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1447920" cy="915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629400" y="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op_r2_c1" descr=""/>
          <p:cNvPicPr/>
          <p:nvPr/>
        </p:nvPicPr>
        <p:blipFill>
          <a:blip r:embed="rId8"/>
          <a:stretch/>
        </p:blipFill>
        <p:spPr>
          <a:xfrm>
            <a:off x="0" y="914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top_r2_c2" descr=""/>
          <p:cNvPicPr/>
          <p:nvPr/>
        </p:nvPicPr>
        <p:blipFill>
          <a:blip r:embed="rId9"/>
          <a:stretch/>
        </p:blipFill>
        <p:spPr>
          <a:xfrm>
            <a:off x="914400" y="914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top_r2_c3" descr=""/>
          <p:cNvPicPr/>
          <p:nvPr/>
        </p:nvPicPr>
        <p:blipFill>
          <a:blip r:embed="rId10"/>
          <a:stretch/>
        </p:blipFill>
        <p:spPr>
          <a:xfrm>
            <a:off x="2286000" y="914400"/>
            <a:ext cx="1447920" cy="830160"/>
          </a:xfrm>
          <a:prstGeom prst="rect">
            <a:avLst/>
          </a:prstGeom>
          <a:ln w="0">
            <a:noFill/>
          </a:ln>
        </p:spPr>
      </p:pic>
      <p:pic>
        <p:nvPicPr>
          <p:cNvPr id="166" name="top_r2_c6" descr=""/>
          <p:cNvPicPr/>
          <p:nvPr/>
        </p:nvPicPr>
        <p:blipFill>
          <a:blip r:embed="rId11"/>
          <a:stretch/>
        </p:blipFill>
        <p:spPr>
          <a:xfrm>
            <a:off x="6629400" y="9144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167" name="top_r2_c7" descr=""/>
          <p:cNvPicPr/>
          <p:nvPr/>
        </p:nvPicPr>
        <p:blipFill>
          <a:blip r:embed="rId12"/>
          <a:stretch/>
        </p:blipFill>
        <p:spPr>
          <a:xfrm>
            <a:off x="8153280" y="9144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5181480" y="914400"/>
            <a:ext cx="1447920" cy="838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4">
            <a:lum bright="-6000"/>
          </a:blip>
          <a:srcRect l="7793" t="18472" r="0" b="35384"/>
          <a:stretch/>
        </p:blipFill>
        <p:spPr>
          <a:xfrm>
            <a:off x="152280" y="2819520"/>
            <a:ext cx="7086600" cy="3047760"/>
          </a:xfrm>
          <a:prstGeom prst="rect">
            <a:avLst/>
          </a:prstGeom>
          <a:ln w="0">
            <a:noFill/>
          </a:ln>
        </p:spPr>
      </p:pic>
      <p:pic>
        <p:nvPicPr>
          <p:cNvPr id="171" name="top_r2_c4" descr=""/>
          <p:cNvPicPr/>
          <p:nvPr/>
        </p:nvPicPr>
        <p:blipFill>
          <a:blip r:embed="rId15"/>
          <a:stretch/>
        </p:blipFill>
        <p:spPr>
          <a:xfrm>
            <a:off x="3733920" y="914400"/>
            <a:ext cx="1447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PT Strategic Plan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r 2006 - 2009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8600" y="1676520"/>
            <a:ext cx="8253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cus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Sustainable Development and the environment (including cold recyc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100" spc="-1" strike="noStrike">
                <a:solidFill>
                  <a:srgbClr val="669999"/>
                </a:solidFill>
                <a:latin typeface="Arial"/>
              </a:rPr>
              <a:t>To include alternative materials (RAP), warm mix technology, construction processes &amp; quality of construction and sustainability (APT SCom Feb 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Labour-intensiv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Asphalt perform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Vehicle-pavement interaction (VPI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Provision of low volume road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Concrete pavements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Structural Pavement Desig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Guidelines for bitumen stabilization–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ompletion date August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HMA HVS and Lab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Standard mix –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ompleted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Rut-resistant mix –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tarted Apri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VS programme: recent and current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VS programme: recent and current projects (cont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Thin CR concrete pavement</a:t>
            </a:r>
            <a:r>
              <a:rPr b="1" lang="en-US" sz="3000" spc="-1" strike="noStrike">
                <a:solidFill>
                  <a:srgbClr val="6699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ompletion date May 2008 (SAN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SIM testing: HVS &amp; MMLS 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-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Job creation, skills development and empowerment in Road Construction – </a:t>
            </a: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ompletion date Apri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VS programme: recent and current projects (cont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99"/>
                </a:solidFill>
                <a:latin typeface="Arial"/>
              </a:rPr>
              <a:t>LTPP monitoring: 2388, P243/1, N7, MR538 -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ong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99"/>
                </a:solidFill>
                <a:latin typeface="Arial"/>
              </a:rPr>
              <a:t>Instrumentation for HVS (PSPA) –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ompleted</a:t>
            </a:r>
            <a:r>
              <a:rPr b="1" lang="en-US" sz="30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ture Project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Rut resistant mix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8b8a"/>
                </a:solidFill>
                <a:latin typeface="Arial"/>
              </a:rPr>
              <a:t>First mix constructed early March 2008, HVS testing started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8b8a"/>
                </a:solidFill>
                <a:latin typeface="Arial"/>
              </a:rPr>
              <a:t>Second mix – constructed in May, HVS testing in June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H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c8b8a"/>
                </a:solidFill>
                <a:latin typeface="Arial"/>
              </a:rPr>
              <a:t>Sabita fu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5c8b8a"/>
                </a:solidFill>
                <a:latin typeface="Arial"/>
              </a:rPr>
              <a:t>Technology Transfe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5c8b8a"/>
                </a:solidFill>
                <a:latin typeface="Arial"/>
              </a:rPr>
              <a:t>Design 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5c8b8a"/>
                </a:solidFill>
                <a:latin typeface="Arial"/>
              </a:rPr>
              <a:t>Construction after May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Thin concrete pavements for low volume roa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5c8b8a"/>
                </a:solidFill>
                <a:latin typeface="Arial"/>
              </a:rPr>
              <a:t>Construction of test sections –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5c8b8a"/>
                </a:solidFill>
                <a:latin typeface="Arial"/>
              </a:rPr>
              <a:t>Testing – en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vement Engineering Cour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Postponed until January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ccreditation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HEQF meeting 1  Apr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Restructuring qualification for Technicians, Technologists &amp; Engin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3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B Tech will probably fall away wit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urse run in association with T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Framework for duplication at other Univ of T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ertificate in Pavement Engineering with credits for higher deg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2:11:29Z</dcterms:created>
  <dc:creator>Colleen McCaul</dc:creator>
  <dc:description/>
  <dc:language>en-US</dc:language>
  <cp:lastModifiedBy>Les</cp:lastModifiedBy>
  <dcterms:modified xsi:type="dcterms:W3CDTF">2008-05-07T05:45:31Z</dcterms:modified>
  <cp:revision>85</cp:revision>
  <dc:subject/>
  <dc:title>Strategic Agenda for Transport in Gauteng</dc:title>
</cp:coreProperties>
</file>