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345-E1A0-48C4-9C9F-AA964FA4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D03-1B48-43A2-9DEF-3A5B068F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E89-A01A-4EEC-ABE9-02CF3A64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FA4-DC03-4F6A-8369-7224478B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7B6-4A90-47CB-A92F-92392A70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64B-14EE-4E0B-844D-A805B04C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511-7764-47B5-B894-290DFDB6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FA5-F88C-478A-AA11-D7C2A950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DD6-65C4-4180-91CD-ABE069EF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300-6C1F-457A-AC8B-11A2190B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46D-8EFE-425A-9394-B2CEF37D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1CF-19CE-463E-A5AF-AA87E20E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C7B3-442A-4AD1-BF94-35BB03FFE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7296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AS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e &amp; Sand Producers Association of South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11120" y="2276640"/>
            <a:ext cx="7148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en-ZA" sz="2400" spc="-1" strike="noStrike">
                <a:solidFill>
                  <a:srgbClr val="660066"/>
                </a:solidFill>
                <a:latin typeface="Arial"/>
              </a:rPr>
              <a:t>PRESENTATION TO RPF – MA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ASPASA ISHE 18001 AUDIT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00" y="4797360"/>
            <a:ext cx="39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ed by:  Nico Pien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or – Asp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Thank you for listening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ontact details for Aspa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lephone: (011) 498-726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x: (011) 498-726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 O Box 61809, Marshalltown, 210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: http://www.aspasa.co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3280" y="38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84200" y="351000"/>
            <a:ext cx="64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289160"/>
            <a:ext cx="57452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mestic production of indust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728800"/>
            <a:ext cx="877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2421000"/>
          <a:ext cx="8642160" cy="3095280"/>
        </p:xfrm>
        <a:graphic>
          <a:graphicData uri="http://schemas.openxmlformats.org/drawingml/2006/table">
            <a:tbl>
              <a:tblPr/>
              <a:tblGrid>
                <a:gridCol w="1296720"/>
                <a:gridCol w="1295640"/>
                <a:gridCol w="1112760"/>
                <a:gridCol w="1231920"/>
                <a:gridCol w="1236600"/>
                <a:gridCol w="1233720"/>
                <a:gridCol w="1234800"/>
              </a:tblGrid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ctu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mill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Britannic Bold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1628640"/>
            <a:ext cx="89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Product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rete stone (26mm – 9.5mm) + Sand (natural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shed) and specialist Roadstone constitutes about 6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ance is made up of layer works (G1 – G9) and rail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l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 products such as cubicle single – size product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phalt mixes are difficult to manufacture and creat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ong impression of supply shor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* No shortage of aggreg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Britannic Bold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000" y="1699920"/>
            <a:ext cx="8135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Aggregate and sand supply challenges, sensitivities and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oor industry regulation: Too many quarries &amp; po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industry standards vs First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Diminishing suitable natural sand res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oor industry knowledge: Inaccurate stats and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understanding of challenges facing th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Historical neglect of crushing plants coupled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increased demand for finer products, resulting in po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lant effici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I S H E 18001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Promoting Health and Safety in the Quarrying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Aspasa 18001 audit is a totally new Health and Safety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Has been developed by Aspasa intern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Aspasa believes fatalities &amp; injuries on quarries in SA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reve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New ISHE 18001 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isk Management at quarries, including risk assess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Safety, health and welfare of persons at the quar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Aspects of the working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atters related to high risk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I S H E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udit goes beyond the requirements of legi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Pro-active approach to safety @ quar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ll Aspasa’s members will be expected to undergo the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 Aspasa ISHE 18001 Au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his year a GAP Analys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Cost effective system – cheap audit for a quarr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spasa spon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Big and small operations will benefit from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ecognition requested from D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Britannic Bold"/>
              </a:rPr>
              <a:t>ISHE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re are specific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easures compl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Gives instant results. Gives an action list to the operation to work f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Increase the awareness to members of legi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Is a positive drive to improve health and saf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aises the standards in th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Ensures uniformity in th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Addresses issues such as Silicosis and NIH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cument available on the Aspasa website under Health and Safety  - ISHE 18001. See www.aspasa.co.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9:19:44Z</dcterms:created>
  <dc:creator>Diana</dc:creator>
  <dc:description/>
  <dc:language>en-US</dc:language>
  <cp:lastModifiedBy>ASPASA</cp:lastModifiedBy>
  <dcterms:modified xsi:type="dcterms:W3CDTF">2007-05-07T06:16:29Z</dcterms:modified>
  <cp:revision>12</cp:revision>
  <dc:subject/>
  <dc:title>Slide 1</dc:title>
</cp:coreProperties>
</file>