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7D3-D096-4F0E-82EB-3D805246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895-146D-4233-9BE5-0DA8A6E8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7E1-13D8-4A86-BBEB-B23E2679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409-A09D-41B7-8174-555AF9E0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33E-242D-4F70-83C4-345E1C6F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411-3C27-48B2-A3A5-07751855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A3D-1C15-4452-BCE0-DD800BDB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5AD-9B0F-4A7E-A0D4-6AC65022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D01-E4DB-4A11-A391-4F8E5A2B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804-CE46-4EB0-8B66-9084FA52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C58-0DA3-4E1B-A969-734352AF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7FE-0A8E-4992-AEA0-1CF9A79B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CE78-DC08-4E05-9396-BD46B7488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TM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on asp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vity and incompleteness of AS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M Int. by far more comprehensive - constitutes a standard (rigorous description of apparatus, method and precision to ensure uniform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bjections to the adoption of the relevant (ASTM) international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n 6 No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utcome &amp;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of task group, Barry Dum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evor Distin and Dave 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5335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eriod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dopt international standard (ASTM, 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options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5383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ppropriate on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5383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a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5383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in national standards (or SA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ita to develop (user friendly) bench methods (training manuals)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to ensure compliance with the standard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/co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through SABS only if it admits the adoption of option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arshall hammer type described in 1.2 of ASTM D 6926 or extraction method(s) A – E in ASTM D217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in laboratory technicians/testers on standard adopted and manuals (bench methods) by As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the above to R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ceptable, task team to proceed to investigate suitable standard and implementation thereof on lab floor for submission to next R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MTC through established chann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Sab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expects realistic standard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qualit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thereof in a quality management process (during process and acceptanc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associated with inconsistent/incorrect testing - significant and wast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contribution to any effort that would advance consistency in production of test results used as a basis for judgement of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ita (&amp; SABS) subscribes to WTO policy and obligations on government procur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“…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technical specifications shall be based on international standards, where they exist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deviations should be for compelling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M applied to assessment of bitumen quality (SANS 3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cy of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are regularly reviewed and readi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H 1 last reviewed in 1986 (21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ita agreed to fund investigation into revision of TMH tests on asp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a more comprehensive process (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nterested parties, expert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TC – S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ng of Sabita task team of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cit comments on SANS 3001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te com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to MTC (correct chann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67160" y="5311800"/>
            <a:ext cx="827280" cy="0"/>
          </a:xfrm>
          <a:prstGeom prst="line">
            <a:avLst/>
          </a:prstGeom>
          <a:ln w="63360">
            <a:solidFill>
              <a:srgbClr val="ff66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bita task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team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9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Appollis (Much Asph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m Hofsink  (PD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y Lewis (Il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nie Loots (S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eter Molenaar (S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ert Mynhardt (Aka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ynand Nortje (National Asphalt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ois Ruiters (More Asph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Swart (BC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 Ungerer (Go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daa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daa31"/>
                </a:solidFill>
                <a:latin typeface="Arial"/>
              </a:rPr>
              <a:t>ASTM Interna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lected as a benchmark 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methods (SANS 3001) to be subjected to comparative apprai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nd suggestions on the adoption of international stand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 - a critical comparison of the methods proposed in SANS with ASTM stand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8480" y="21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ig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06560" y="1552680"/>
          <a:ext cx="5321160" cy="48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6560" y="1552680"/>
                    <a:ext cx="532116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09:12:25Z</dcterms:created>
  <dc:creator>Myburgh</dc:creator>
  <dc:description/>
  <dc:language>en-US</dc:language>
  <cp:lastModifiedBy>Myburgh</cp:lastModifiedBy>
  <dcterms:modified xsi:type="dcterms:W3CDTF">2007-11-18T04:27:34Z</dcterms:modified>
  <cp:revision>11</cp:revision>
  <dc:subject/>
  <dc:title>Review of TMH1</dc:title>
</cp:coreProperties>
</file>