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54200"/>
            <a:ext cx="503388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D7DB54B-AA9A-4E5F-9F52-660922AB3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If we don’t lead then others will take the initiative away from us and we will have to follow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73 files of the NOSA 5 Star program, the Technilaw safety system, Master Builders Association that had a very low key auditing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Gauteng region was using it own designed checklist and was used for a number of years to check safety 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Lafarge had started with an auditing document of its own and was adopted in principle with a number of modifications for use by SAR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is document was modified in 2003 with a different layout. This has been in use until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Accidents continue to plague the industry especially with road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Some operations were just coasting along from one audit till the next. Now the audit was conducted every two years so the gaps started to appear with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release of the Construction Regulations has put a new focus of legislation pertaining to the construction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two year gap made compliance lax during the rest of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ISO 14000 for environmental, ISO 9000 for quality and recently OHASA 18000 for health &amp;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The growing number of vehicles on our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ONE COMBINED PROGRAM to cover all of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3880" cy="37749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One audit to be do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One set of filing to cover all 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</a:rPr>
              <a:t>Pay one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2C4-C256-4CDE-B25C-F0E8CE6B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3C4-61C1-478E-9574-9CA3D196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D24-2937-44DC-8C58-CBBE2727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8D1-3584-475F-93D0-1E1B7CDD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C80C-3055-494C-A520-1EA5836F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0B4-B946-4A41-B6DA-A1E9863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8E8A-8AFD-499C-96F2-9BB8032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8CD3-A9BB-4A0F-BB10-518A93B3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C51-C700-4A48-9137-0D63388E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7BAD-EEBE-4E4D-85B1-F762FFB7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4EC-5B80-4EFE-97B2-31D00A27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C5B-A5C7-4415-A0DF-EE3DFCF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539-BA1A-4F1C-A7A8-8083D01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17B-9B38-491A-897B-8BE5A4B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095-EC9C-470A-8DBA-1233452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BBEB-E2D0-4EF4-BC7D-E7EC8BEE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E295-3A1B-4D1C-8C06-AB42D3F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66C-DE40-4D46-A228-B2E4DF6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D4E-61E3-40C2-8816-839BBCF7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8C7-CC4E-4C04-A846-70D27BD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123-60C4-4F9E-9A73-B3CE01B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EA9-1A48-4481-B52F-647733D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634-FC09-4DFC-B3A9-6690C0F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F51-E6BA-4CB4-87C8-8E6B3F5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8FE7-11C1-41DC-A1B6-3F2D353CDE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F38E-7A4F-44D3-A25A-8C63A23373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b76"/>
                </a:solidFill>
                <a:latin typeface="Arial"/>
              </a:rPr>
              <a:t>SARMA SHREQ PROGRA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Development f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Safer Concrete Manufacturing &amp; Deliver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Verdana"/>
              </a:rPr>
              <a:t>RPF MAY 2007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27600" y="5877000"/>
            <a:ext cx="30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by: Nico Piena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Director - SARMA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2440" y="495612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b76"/>
                </a:solidFill>
                <a:latin typeface="Verdana"/>
                <a:ea typeface="Arial"/>
              </a:rPr>
              <a:t>Presented  by: Nico Piena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b76"/>
                </a:solidFill>
                <a:latin typeface="Verdana"/>
                <a:ea typeface="Arial"/>
              </a:rPr>
              <a:t>Director – Sa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1268280"/>
            <a:ext cx="784836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Policies that will be expected to be available in an organis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Recognition that SHREQ as an integral part of the busin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Recognition that SHREQ is a line management responsibility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the top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Involvement and consultation with employe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Provision of adequate training to meet competence lev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Compliance with legal requirements and publishing of objec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Provisions of adequate resour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Cost effective improvements in SHREQ perform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Understanding and implementation at all lev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000" spc="-1" strike="noStrike">
                <a:solidFill>
                  <a:srgbClr val="003b76"/>
                </a:solidFill>
                <a:latin typeface="Arial"/>
              </a:rPr>
              <a:t>Reviewing, auditing and maintenance of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90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ccecff"/>
                </a:solidFill>
                <a:latin typeface="Arial"/>
                <a:ea typeface="Arial"/>
              </a:rPr>
              <a:t>SHREQ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ccecff"/>
                </a:solidFill>
                <a:latin typeface="Arial"/>
              </a:rPr>
              <a:t>SHREQ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196640"/>
            <a:ext cx="8142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Verdana"/>
              </a:rPr>
              <a:t>Results and Evalua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Verdana"/>
              </a:rPr>
              <a:t>This is not a competi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Verdana"/>
              </a:rPr>
              <a:t>Results will be in 3 level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2997360"/>
          <a:ext cx="7993080" cy="37285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7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The results of the audit require that a </a:t>
                      </a:r>
                      <a:r>
                        <a:rPr b="1" i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eady-mix operation complies with the Quality aspects of the audit and achieves at least 90% score in order to be regarded as a 'PASS'.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The other components of the audit that make up the Safety, Health, Environment and the road transport system will be added to give a total score. The Pass mark category must be obtained for the Platinum, Gold or Silver categories. Platinum = 90% +, Gold = 80% to 90% and Silver = 75% to 80% respectively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ccecff"/>
                </a:solidFill>
                <a:latin typeface="Arial"/>
              </a:rPr>
              <a:t>SHREQ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413000"/>
          <a:ext cx="8353080" cy="4320720"/>
        </p:xfrm>
        <a:graphic>
          <a:graphicData uri="http://schemas.openxmlformats.org/drawingml/2006/table">
            <a:tbl>
              <a:tblPr/>
              <a:tblGrid>
                <a:gridCol w="8353080"/>
              </a:tblGrid>
              <a:tr h="43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66cc"/>
                          </a:solidFill>
                          <a:latin typeface="Verdana"/>
                          <a:ea typeface="Arial"/>
                        </a:rPr>
                        <a:t>i.e.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66cc"/>
                          </a:solidFill>
                          <a:latin typeface="Verdana"/>
                          <a:ea typeface="Arial"/>
                        </a:rPr>
                        <a:t>   </a:t>
                      </a:r>
                      <a:r>
                        <a:rPr b="0" lang="en-US" sz="2500" spc="-1" strike="noStrike">
                          <a:solidFill>
                            <a:srgbClr val="0066cc"/>
                          </a:solidFill>
                          <a:latin typeface="Verdana"/>
                          <a:ea typeface="Arial"/>
                        </a:rPr>
                        <a:t>This means if you have obtained an overall score of 85%, but the Quality component was only 88%, then a Gold Certificate cannot be given. The Quality audit will thus  have to be re-done within three months and if  90% for quality is achieved, then the Gold Certificate would be awarded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ccecff"/>
                </a:solidFill>
                <a:latin typeface="Arial"/>
              </a:rPr>
              <a:t>Reference Publica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836640"/>
          <a:ext cx="8359560" cy="5960880"/>
        </p:xfrm>
        <a:graphic>
          <a:graphicData uri="http://schemas.openxmlformats.org/drawingml/2006/table">
            <a:tbl>
              <a:tblPr/>
              <a:tblGrid>
                <a:gridCol w="8359560"/>
              </a:tblGrid>
              <a:tr h="50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HSAS 18001:1999 Specificatio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HSAS 18002:2000 Guidelin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SO 9000: Guidelin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SO 14000: Guidelin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ANS 878:200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LO Guidelines for Safety Management Systems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The Guide to Environmental Auditing in South Africa –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Butterworth's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ccupational Health &amp; Safety Act 85: 1993 &amp;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egulations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Mine Health &amp; Safety Act 29 : 1996 &amp; Regulations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BVQI Standard for Third party Certification of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ccupational Safety and Health Management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ystems.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ccecff"/>
                </a:solidFill>
                <a:latin typeface="Arial"/>
              </a:rPr>
              <a:t>Suggested Main Filing Reference System</a:t>
            </a:r>
            <a:r>
              <a:rPr b="0" lang="en-Z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907920"/>
          <a:ext cx="8359560" cy="5553000"/>
        </p:xfrm>
        <a:graphic>
          <a:graphicData uri="http://schemas.openxmlformats.org/drawingml/2006/table">
            <a:tbl>
              <a:tblPr/>
              <a:tblGrid>
                <a:gridCol w="835956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May require more than one file for some operations due to the size/contents: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HIRA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[</a:t>
                      </a: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H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azard </a:t>
                      </a: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dentification &amp; </a:t>
                      </a: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isk </a:t>
                      </a: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A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sessment, Survey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Appointments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Organogram, appointment letters, scop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f authority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Training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Needs analysis, Certification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Procedures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Separate according to loading, batching,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maintenance etc.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egal Register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[Listing of legislation, Notices, permits,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licence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Objectives &amp; Targets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Goals and action plan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ccecff"/>
                </a:solidFill>
                <a:latin typeface="Arial"/>
              </a:rPr>
              <a:t>Suggested Main Filing Reference Syst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1828800"/>
          <a:ext cx="8153280" cy="434988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Communication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News information, notices &amp; brief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Emergency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Overall actions, dry runs &amp; report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Statistics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General stats, In house, industry etc.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Accidents/Incidents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Incident reports, investigations &amp;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form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Audits &amp; Inspections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 [Internal &amp; External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Management Reviews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[Minutes and actions &amp; Policies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Registers: </a:t>
                      </a: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Various [i.e. Fire, Pressure vessels, Lifting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equipment, Electrical etc.]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63480" y="419040"/>
            <a:ext cx="8156520" cy="9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Verdana"/>
                <a:ea typeface="Arial"/>
              </a:rPr>
              <a:t>THANKS FOR LISTE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b76"/>
                </a:solidFill>
                <a:latin typeface="Verdana"/>
                <a:ea typeface="Arial"/>
              </a:rPr>
              <a:t>THOSE SLEEPING – THANKS FOR NOT SNORING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Verdana"/>
                <a:ea typeface="Arial"/>
              </a:rPr>
              <a:t>SARMA CONTACT DETAIL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Telephone: (011) 498-72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Telefax: (011) 498-72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P O Box 618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Marshall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2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76"/>
                </a:solidFill>
                <a:latin typeface="Verdana"/>
                <a:ea typeface="Arial"/>
              </a:rPr>
              <a:t>Web: http//www.sarma.co.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260280"/>
            <a:ext cx="7775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Backgr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 Black"/>
              </a:rPr>
              <a:t>Domestic</a:t>
            </a:r>
            <a:r>
              <a:rPr b="1" lang="en-ZA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ZA" sz="3200" spc="-1" strike="noStrike">
                <a:solidFill>
                  <a:srgbClr val="003b76"/>
                </a:solidFill>
                <a:latin typeface="Arial Black"/>
              </a:rPr>
              <a:t>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1916280"/>
            <a:ext cx="756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76"/>
                </a:solidFill>
                <a:latin typeface="Arial"/>
              </a:rPr>
              <a:t>Sarma members produce in the region of 75% of the total S A total Readymix 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In 2006, Sarma audited approximately 170 plants for Health &amp; Safety and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Fleet size of carrier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3b76"/>
                </a:solidFill>
                <a:latin typeface="Arial"/>
              </a:rPr>
              <a:t>2006      2007      2008      2009     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1583      1792      1954      2086      22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89000"/>
            <a:ext cx="7632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Backgr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3b76"/>
                </a:solidFill>
                <a:latin typeface="Arial Black"/>
              </a:rPr>
              <a:t>Metric tons (Readymi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3573360"/>
          <a:ext cx="8280360" cy="1479600"/>
        </p:xfrm>
        <a:graphic>
          <a:graphicData uri="http://schemas.openxmlformats.org/drawingml/2006/table">
            <a:tbl>
              <a:tblPr/>
              <a:tblGrid>
                <a:gridCol w="1655640"/>
                <a:gridCol w="1584360"/>
                <a:gridCol w="1541520"/>
                <a:gridCol w="1593720"/>
                <a:gridCol w="190512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0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8 0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0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9 0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0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9 7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0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1 04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000" spc="-1" strike="noStrike">
                          <a:solidFill>
                            <a:srgbClr val="003b76"/>
                          </a:solidFill>
                          <a:latin typeface="Verdana"/>
                          <a:ea typeface="Arial"/>
                        </a:rPr>
                        <a:t>11 0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260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Backgr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844640"/>
            <a:ext cx="770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No of Transport Opera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(Sarma Memb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3429000"/>
          <a:ext cx="7993080" cy="167940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8760"/>
                <a:gridCol w="1598760"/>
                <a:gridCol w="15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2800" spc="-1" strike="noStrike">
                          <a:solidFill>
                            <a:srgbClr val="33cccc"/>
                          </a:solidFill>
                          <a:latin typeface="Verdana"/>
                          <a:ea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32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3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32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32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3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32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3200" spc="-1" strike="noStrike">
                          <a:solidFill>
                            <a:srgbClr val="003b76"/>
                          </a:solidFill>
                          <a:latin typeface="Arial"/>
                          <a:ea typeface="Arial"/>
                        </a:rPr>
                        <a:t>4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404640"/>
            <a:ext cx="78483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Backgr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Fleet composition is estimat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90%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=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6m</a:t>
            </a:r>
            <a:r>
              <a:rPr b="0" lang="en-ZA" sz="2800" spc="-1" strike="noStrike" baseline="30000">
                <a:solidFill>
                  <a:srgbClr val="003b76"/>
                </a:solidFill>
                <a:latin typeface="Arial"/>
              </a:rPr>
              <a:t>3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tru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10%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=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8m</a:t>
            </a:r>
            <a:r>
              <a:rPr b="0" lang="en-ZA" sz="2800" spc="-1" strike="noStrike" baseline="30000">
                <a:solidFill>
                  <a:srgbClr val="003b76"/>
                </a:solidFill>
                <a:latin typeface="Arial"/>
              </a:rPr>
              <a:t>3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tru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Ownership of readymix trucks range from: </a:t>
            </a:r>
            <a:br>
              <a:rPr sz="2800"/>
            </a:b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Single truck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b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Fleet operators with excess of 20 tru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260280"/>
            <a:ext cx="806436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Arial"/>
              </a:rPr>
              <a:t>Backgro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3b76"/>
                </a:solidFill>
                <a:latin typeface="Arial"/>
              </a:rPr>
              <a:t>RMC logistics supply challenges, sensitivities and dependen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Access to raw materials – cement, fly ash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slag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Lowering of industry quality, safety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environmental standards by new entrants 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focus on quick retur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1" lang="en-ZA" sz="2400" spc="-1" strike="noStrike">
                <a:solidFill>
                  <a:srgbClr val="003b76"/>
                </a:solidFill>
                <a:latin typeface="Arial"/>
              </a:rPr>
              <a:t>Increased traffic congestion in urban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10982" t="0" r="0" b="0"/>
          <a:stretch/>
        </p:blipFill>
        <p:spPr>
          <a:xfrm>
            <a:off x="0" y="11916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476280"/>
            <a:ext cx="81360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SHREQ AUDIT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 u="sng">
                <a:solidFill>
                  <a:srgbClr val="003b76"/>
                </a:solidFill>
                <a:uFillTx/>
                <a:latin typeface="Arial"/>
              </a:rPr>
              <a:t>SHREQ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S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H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R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oa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E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nviron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3b76"/>
                </a:solidFill>
                <a:latin typeface="Arial"/>
              </a:rPr>
              <a:t>Q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 u="sng">
                <a:solidFill>
                  <a:srgbClr val="003b76"/>
                </a:solidFill>
                <a:uFillTx/>
                <a:latin typeface="Arial"/>
              </a:rPr>
              <a:t>Sarma had 2 audits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SHE  + 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476280"/>
            <a:ext cx="8064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  <a:ea typeface="Arial"/>
              </a:rPr>
              <a:t>SHR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Now all in one audit  + Road Tran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All Sarma member plants will be audited by 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independent auditor.  In 2007 expecting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audit 191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Results will be available on the Sarma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en-ZA" sz="2800" spc="-1" strike="noStrike">
                <a:solidFill>
                  <a:srgbClr val="003b76"/>
                </a:solidFill>
                <a:latin typeface="Arial"/>
              </a:rPr>
              <a:t>as they are aud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b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12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9:38:01Z</dcterms:created>
  <dc:creator>Tom Bellamy</dc:creator>
  <dc:description/>
  <dc:language>en-US</dc:language>
  <cp:lastModifiedBy>ASPASA</cp:lastModifiedBy>
  <dcterms:modified xsi:type="dcterms:W3CDTF">2007-05-07T06:22:31Z</dcterms:modified>
  <cp:revision>50</cp:revision>
  <dc:subject/>
  <dc:title>ASPASA’s Audits</dc:title>
</cp:coreProperties>
</file>