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0C1-5A2D-4F9F-9624-97A8F913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908-7ED1-49B1-A5A8-383CC460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BE0-9834-4D85-A113-F12C93FE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670-3512-4D0A-821B-B6E65590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D763-EA90-452F-8D7D-23BDFE4C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F4DE-F54B-43BA-9206-9FD52782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F3E-8FAF-42A9-859C-71793FDC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664-EF38-4D10-A68D-1107DBEA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85C-1BE9-42CF-BB87-DE997136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A1C7-1C26-49D4-892F-83991F14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D8B-3D26-423F-B6AA-B35B5771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C47-2706-446D-A875-44C4A62F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45C0-B2A6-4ED2-81C0-F2F612F75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Binder Distributor Certification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8464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1 November 200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PF Preto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771640" y="1920960"/>
          <a:ext cx="3424320" cy="31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920960"/>
                    <a:ext cx="3424320" cy="31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New approach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nitial calibration of BD to become the responsibility of equipment manufactur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requirements for road worthy will remain responsibility of BD own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bita to publish a guideline on mechanical performance requirements and testing of B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New approach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Comic Sans MS"/>
              </a:rPr>
              <a:t>Simple assessment of BD so that it can be done anywhere ie not limited to 2 fixed pit testing cent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Comic Sans MS"/>
              </a:rPr>
              <a:t>What should be checked: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Mechanical condition (BT21 and by 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observation BT22)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Pump system output (BT22, also cover 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dipstick and thermometer checks)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Transverse distribution (BT24)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6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8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New approach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Comic Sans MS"/>
              </a:rPr>
              <a:t>What equipment / facilities would be required over and above normal BD operational need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Trough of capacity at least 2 500 L 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Buckets for BT24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For more permanent facilities a sophisticated volume measuring system :-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Flow-meter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Weighing system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New approach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ZA" sz="3200" spc="-1" strike="noStrike">
                <a:solidFill>
                  <a:srgbClr val="000000"/>
                </a:solidFill>
                <a:latin typeface="Comic Sans MS"/>
              </a:rPr>
              <a:t>Three situations envisaged: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Large projects – tests carried out on site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Small / occasional work – tests carried out in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BD  owner’s yard shortly before use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3.   General competency (for those who don’t know</a:t>
            </a: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 or care) – tests carried out in BD owner’s yard on a regular basis (annually?)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omic Sans MS"/>
              </a:rPr>
              <a:t>Tester:-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333399"/>
                </a:solidFill>
                <a:latin typeface="Comic Sans MS"/>
              </a:rPr>
              <a:t>Testing for 2 and 3 supervised by independent accredited tester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8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New approach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883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omic Sans MS"/>
              </a:rPr>
              <a:t>Testing fluid: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333399"/>
                </a:solidFill>
                <a:latin typeface="Comic Sans MS"/>
              </a:rPr>
              <a:t>General – emulsion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333399"/>
                </a:solidFill>
                <a:latin typeface="Comic Sans MS"/>
              </a:rPr>
              <a:t>Specific – project binder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omic Sans MS"/>
              </a:rPr>
              <a:t>This approach has been discussed with industry stakeholders at a meeting held 19 November who have reacted favourab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omic Sans MS"/>
              </a:rPr>
              <a:t>Mindset change – think of checking rather than calibration or certific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omic Sans MS"/>
              </a:rPr>
              <a:t>New approach allows to check if BD is</a:t>
            </a:r>
            <a:r>
              <a:rPr b="0" lang="en-ZA" sz="2800" spc="-1" strike="noStrike">
                <a:solidFill>
                  <a:srgbClr val="ff0000"/>
                </a:solidFill>
                <a:latin typeface="Comic Sans MS"/>
              </a:rPr>
              <a:t> ‘fit for purpose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1287" t="2177" r="2603" b="846"/>
          <a:stretch/>
        </p:blipFill>
        <p:spPr>
          <a:xfrm>
            <a:off x="4859280" y="3551400"/>
            <a:ext cx="3962520" cy="2998800"/>
          </a:xfrm>
          <a:prstGeom prst="rect">
            <a:avLst/>
          </a:prstGeom>
          <a:ln w="0">
            <a:noFill/>
          </a:ln>
          <a:effectLst>
            <a:outerShdw dist="134955" dir="2927119" blurRad="0" rotWithShape="0">
              <a:srgbClr val="808080"/>
            </a:outerShdw>
          </a:effectLst>
        </p:spPr>
      </p:pic>
      <p:pic>
        <p:nvPicPr>
          <p:cNvPr id="72" name="" descr=""/>
          <p:cNvPicPr/>
          <p:nvPr/>
        </p:nvPicPr>
        <p:blipFill>
          <a:blip r:embed="rId2"/>
          <a:srcRect l="0" t="0" r="0" b="2379"/>
          <a:stretch/>
        </p:blipFill>
        <p:spPr>
          <a:xfrm>
            <a:off x="250920" y="260280"/>
            <a:ext cx="3960720" cy="2927520"/>
          </a:xfrm>
          <a:prstGeom prst="rect">
            <a:avLst/>
          </a:prstGeom>
          <a:ln w="0">
            <a:noFill/>
          </a:ln>
          <a:effectLst>
            <a:outerShdw dist="153009" dir="2906017" blurRad="0" rotWithShape="0">
              <a:srgbClr val="808080"/>
            </a:outerShdw>
          </a:effectLst>
        </p:spPr>
      </p:pic>
      <p:sp>
        <p:nvSpPr>
          <p:cNvPr id="73" name=""/>
          <p:cNvSpPr/>
          <p:nvPr/>
        </p:nvSpPr>
        <p:spPr>
          <a:xfrm>
            <a:off x="1476360" y="364500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From t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263700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Bu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436400">
            <a:off x="3978720" y="30222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History of events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PF task team formed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y 200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address issues related to the use of Binder Distribut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 passed at RFP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y 200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develop a frame work for accrediting B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D accreditation scheme proposed by Barry Dumas of PAWC and accepted @ RPF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vember 200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ita appointed VKE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vember 200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draft a manual on the requirements and testing of BD to replace outdated TMH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Implementation of BD accreditation scheme</a:t>
            </a:r>
            <a:endParaRPr b="0" lang="en-US" sz="40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d on the Australian sche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ustry should strive to be self regula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oint an independent service provider to conduct calibration of BD at client fixed pit fac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ice provider to comply with ISO/SANAS require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ional service provider to issue calibration certificates for each binder distribu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ita to post details on each binder distributor on their web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Binder Distributor issues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or correlation between fix pit transverse calibration and ‘bakkie’ t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esting oil does not emulate high viscosity modified binder properti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es not accommodate new generation spray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Forward speed is integrated with pump output to ensure correct application rat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 BD calibration system does not guarantee field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standard procedures for conducting BD calibration t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est methods to be compliant with acceptable standard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27144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Latest developments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bita to submitted a proposal to KZN DoT and GPTRW to outsource certification testing at their fixed pit facil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fting of BD test methods into SANS format for on-site and at operators premis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SANS test methods for BD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oper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ification of dipst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wer &amp; road speed indicator t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mp system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verse distribution of a BD (Bakkie tes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40000" y="160020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ANS meth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01-BT2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01-BT21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01-BT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01-BT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Proposed system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mplement depot &amp; on site testing to ensure ‘fit purpose’ with project binder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se proced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onduct all tests at operator premises prior to start of project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Bakkie’ test to be done on site as a control during project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ord of all tests to be kept in BD orange bo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Contractual issues for testing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ed to agree conditions when retesting is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nitial testing for contractors account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Additional testing for client’s account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f additional test results fail then for contractors account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act documents to reflect abov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Must include pay item for addition tests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0:42:34Z</dcterms:created>
  <dc:creator>trevor</dc:creator>
  <dc:description/>
  <dc:language>en-US</dc:language>
  <cp:lastModifiedBy>Trevor</cp:lastModifiedBy>
  <dcterms:modified xsi:type="dcterms:W3CDTF">2007-11-20T14:55:58Z</dcterms:modified>
  <cp:revision>14</cp:revision>
  <dc:subject/>
  <dc:title>Binder Distributor Accreditation</dc:title>
</cp:coreProperties>
</file>