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FAA-0271-489D-9203-D71583A6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B32-769C-46A4-956A-6E484D55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2D6-9BB1-455F-ACC4-05ED802D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EF4-BF27-4098-90AC-57F2AE1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18B-75C2-43C6-B984-E864F5AB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CBCB-3F2E-4FB3-ADEC-BBFB607E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CBD5-640C-4B10-8E59-E808FBC2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9D74-C9B5-4CAE-B011-070AD3E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438B-F892-4781-ACDD-242D915D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1E5-9C27-460C-BE4C-D678078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D25B-9D68-4A32-B012-6C4362F8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719-477A-4DD9-89F3-8349E03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A70C-5B8C-4339-8707-049BFD9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B7CA-75B1-48DE-BF3A-0E3DD76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15E-CCA7-44D5-AC42-8710295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2CE-C06A-4DE9-A420-C1F450B8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4EF-656C-4397-9E8E-E4DE18FA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8A5-4E49-499B-BF2B-0A816925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883-44B1-4E24-8107-2B44B86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30D-4F8D-440C-9EDA-BDED598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936-E8EE-47BF-BA27-D47B04C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6A1-3189-4AAE-B9A4-6A091EB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04A-0E7D-4871-A787-D40A851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94-3131-4BA2-A702-61AA69D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746-E04C-4838-A905-508DD25E90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" name=""/>
          <p:cNvGraphicFramePr/>
          <p:nvPr/>
        </p:nvGraphicFramePr>
        <p:xfrm>
          <a:off x="152280" y="6019920"/>
          <a:ext cx="6858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19920"/>
                    <a:ext cx="685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7AA-DDEE-47DF-A36C-927A97664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6019920"/>
          <a:ext cx="6858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19920"/>
                    <a:ext cx="685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op_r1_c1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top_r1_c2" descr=""/>
          <p:cNvPicPr/>
          <p:nvPr/>
        </p:nvPicPr>
        <p:blipFill>
          <a:blip r:embed="rId2"/>
          <a:stretch/>
        </p:blipFill>
        <p:spPr>
          <a:xfrm>
            <a:off x="914400" y="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top_r1_c3" descr=""/>
          <p:cNvPicPr/>
          <p:nvPr/>
        </p:nvPicPr>
        <p:blipFill>
          <a:blip r:embed="rId3"/>
          <a:stretch/>
        </p:blipFill>
        <p:spPr>
          <a:xfrm>
            <a:off x="2286000" y="0"/>
            <a:ext cx="144792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top_r1_c4" descr=""/>
          <p:cNvPicPr/>
          <p:nvPr/>
        </p:nvPicPr>
        <p:blipFill>
          <a:blip r:embed="rId4"/>
          <a:stretch/>
        </p:blipFill>
        <p:spPr>
          <a:xfrm>
            <a:off x="3733920" y="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1447920" cy="91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629400" y="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top_r2_c1" descr=""/>
          <p:cNvPicPr/>
          <p:nvPr/>
        </p:nvPicPr>
        <p:blipFill>
          <a:blip r:embed="rId8"/>
          <a:stretch/>
        </p:blipFill>
        <p:spPr>
          <a:xfrm>
            <a:off x="0" y="914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top_r2_c2" descr=""/>
          <p:cNvPicPr/>
          <p:nvPr/>
        </p:nvPicPr>
        <p:blipFill>
          <a:blip r:embed="rId9"/>
          <a:stretch/>
        </p:blipFill>
        <p:spPr>
          <a:xfrm>
            <a:off x="914400" y="914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top_r2_c3" descr=""/>
          <p:cNvPicPr/>
          <p:nvPr/>
        </p:nvPicPr>
        <p:blipFill>
          <a:blip r:embed="rId10"/>
          <a:stretch/>
        </p:blipFill>
        <p:spPr>
          <a:xfrm>
            <a:off x="2286000" y="914400"/>
            <a:ext cx="1447920" cy="830160"/>
          </a:xfrm>
          <a:prstGeom prst="rect">
            <a:avLst/>
          </a:prstGeom>
          <a:ln w="0">
            <a:noFill/>
          </a:ln>
        </p:spPr>
      </p:pic>
      <p:pic>
        <p:nvPicPr>
          <p:cNvPr id="164" name="top_r2_c6" descr=""/>
          <p:cNvPicPr/>
          <p:nvPr/>
        </p:nvPicPr>
        <p:blipFill>
          <a:blip r:embed="rId11"/>
          <a:stretch/>
        </p:blipFill>
        <p:spPr>
          <a:xfrm>
            <a:off x="6629400" y="9144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top_r2_c7" descr=""/>
          <p:cNvPicPr/>
          <p:nvPr/>
        </p:nvPicPr>
        <p:blipFill>
          <a:blip r:embed="rId12"/>
          <a:stretch/>
        </p:blipFill>
        <p:spPr>
          <a:xfrm>
            <a:off x="8153280" y="9144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5181480" y="914400"/>
            <a:ext cx="1447920" cy="838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6792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007a"/>
                </a:solidFill>
                <a:latin typeface="Arial"/>
              </a:rPr>
              <a:t>COTO Road Materials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d007a"/>
                </a:solidFill>
                <a:latin typeface="Arial"/>
              </a:rPr>
              <a:t>Committee (R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TRHs and TMHs, Nationa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Road Pavement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21 Nov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Elzbieta Sadzik</a:t>
            </a:r>
            <a:r>
              <a:rPr b="1" lang="en-US" sz="2400" spc="-1" strike="noStrike">
                <a:solidFill>
                  <a:srgbClr val="5c8b8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op_r2_c4" descr=""/>
          <p:cNvPicPr/>
          <p:nvPr/>
        </p:nvPicPr>
        <p:blipFill>
          <a:blip r:embed="rId14"/>
          <a:stretch/>
        </p:blipFill>
        <p:spPr>
          <a:xfrm>
            <a:off x="3733920" y="914400"/>
            <a:ext cx="1447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848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CB committee sug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Secretariate to be funded by 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Experts from road authorities (provincial, local, retired 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Committees chairpersons to RCB meeting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47e7d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</a:rPr>
              <a:t>Program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</a:rPr>
              <a:t>Motivation for identifi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RMC PRIORITIES FOR REVISION </a:t>
            </a:r>
            <a:br>
              <a:rPr sz="3000"/>
            </a:b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OF PUBLICATION - STATU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MH1  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in proc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MH on surveillance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cc00"/>
                </a:solidFill>
                <a:latin typeface="Arial"/>
              </a:rPr>
              <a:t>phase 1 ( Road roughness) completed - part of TRH6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cc00"/>
                </a:solidFill>
                <a:latin typeface="Arial"/>
              </a:rPr>
              <a:t>seminar in July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cc00"/>
                </a:solidFill>
                <a:latin typeface="Arial"/>
              </a:rPr>
              <a:t>phase 2 to be completed in 2008 by 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RH12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in draf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RH14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waiting for fu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RH4  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work proposals prepared PRAC, SANRAL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3200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d007a"/>
                </a:solidFill>
                <a:latin typeface="Arial"/>
              </a:rPr>
              <a:t>RMC PRIORITIES FOR REVISION </a:t>
            </a:r>
            <a:br>
              <a:rPr sz="3400"/>
            </a:br>
            <a:r>
              <a:rPr b="1" lang="en-US" sz="3400" spc="-1" strike="noStrike">
                <a:solidFill>
                  <a:srgbClr val="3d007a"/>
                </a:solidFill>
                <a:latin typeface="Arial"/>
              </a:rPr>
              <a:t>OF PUBLICATION - STATU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8487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RH20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final stage of appointment by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  D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MH8 &amp; TMH16  –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part of revision of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design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47e7d"/>
                </a:solidFill>
                <a:latin typeface="Arial"/>
              </a:rPr>
              <a:t>TMH 12 –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 published on SANRAL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    websi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7e7d"/>
                </a:solidFill>
                <a:latin typeface="Arial"/>
              </a:rPr>
              <a:t>TMH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 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o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7e7d"/>
                </a:solidFill>
                <a:latin typeface="Arial"/>
              </a:rPr>
              <a:t>TRH 22</a:t>
            </a:r>
            <a:r>
              <a:rPr b="0" lang="en-US" sz="3000" spc="-1" strike="noStrike">
                <a:solidFill>
                  <a:srgbClr val="547e7d"/>
                </a:solidFill>
                <a:latin typeface="Arial"/>
              </a:rPr>
              <a:t>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o fu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d007a"/>
                </a:solidFill>
                <a:latin typeface="Arial"/>
              </a:rPr>
              <a:t>COTO Road Materials</a:t>
            </a:r>
            <a:br>
              <a:rPr sz="3500"/>
            </a:br>
            <a:r>
              <a:rPr b="1" lang="en-US" sz="3500" spc="-1" strike="noStrike">
                <a:solidFill>
                  <a:srgbClr val="3d007a"/>
                </a:solidFill>
                <a:latin typeface="Arial"/>
              </a:rPr>
              <a:t>Committee (RMC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2003400"/>
            <a:ext cx="782316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d007a"/>
                </a:solidFill>
                <a:latin typeface="Arial"/>
              </a:rPr>
              <a:t>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To coordinate and guide SA development in terms 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road building material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pavement desig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road network managemen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pavement construction, maintenance and rehabil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007a"/>
                </a:solidFill>
                <a:latin typeface="Arial"/>
              </a:rPr>
              <a:t>COTO RMC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Goa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Facilitate technology transfer amongst roa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7e7d"/>
                </a:solidFill>
                <a:latin typeface="Arial"/>
              </a:rPr>
              <a:t>Collate state of the art technology and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7e7d"/>
                </a:solidFill>
                <a:latin typeface="Arial"/>
              </a:rPr>
              <a:t>Develop national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7e7d"/>
                </a:solidFill>
                <a:latin typeface="Arial"/>
              </a:rPr>
              <a:t>Produce / revise relevant TRH and TM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007a"/>
                </a:solidFill>
                <a:latin typeface="Arial"/>
              </a:rPr>
              <a:t>COTO RM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2119320"/>
            <a:ext cx="79768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RMC chair person: </a:t>
            </a:r>
            <a:r>
              <a:rPr b="1" lang="en-US" sz="3000" spc="-1" strike="noStrike">
                <a:solidFill>
                  <a:srgbClr val="547e7d"/>
                </a:solidFill>
                <a:latin typeface="Arial"/>
              </a:rPr>
              <a:t>Elzbieta Sadz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d007a"/>
                </a:solidFill>
                <a:latin typeface="Arial"/>
              </a:rPr>
              <a:t>Two sub-committ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Materials testing – M. Henderson (Cha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Roads Network Management Systems (RNMS) – M. Henderson (Chai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007a"/>
                </a:solidFill>
                <a:latin typeface="Arial"/>
              </a:rPr>
              <a:t>COTO RM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Last RMC meeting – 24 October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Shortage of experience staff within roa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Shortage of f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RMC cannot  fulfill its functions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New structu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Closer cooperation with Metros and private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7e7d"/>
                </a:solidFill>
                <a:latin typeface="Arial"/>
              </a:rPr>
              <a:t>Suggest RPF task group to discuss the ab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007a"/>
                </a:solidFill>
                <a:latin typeface="Arial"/>
              </a:rPr>
              <a:t>COTO RM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New chair person for RMC: R Lindsay KZ- Na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New chair person for RNMS: L. Kanneme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ld COTO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33360" y="3885840"/>
            <a:ext cx="65530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10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2:11:29Z</dcterms:created>
  <dc:creator>Colleen McCaul</dc:creator>
  <dc:description/>
  <dc:language>en-US</dc:language>
  <cp:lastModifiedBy>ElzbietaS</cp:lastModifiedBy>
  <dcterms:modified xsi:type="dcterms:W3CDTF">2007-11-20T07:40:30Z</dcterms:modified>
  <cp:revision>77</cp:revision>
  <dc:subject/>
  <dc:title>Strategic Agenda for Transport in Gauteng</dc:title>
</cp:coreProperties>
</file>