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34.jpeg" ContentType="image/jpeg"/>
  <Override PartName="/ppt/media/image40.wmf" ContentType="image/x-wmf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3.wmf" ContentType="image/x-wmf"/>
  <Override PartName="/ppt/media/image13.jpeg" ContentType="image/jpeg"/>
  <Override PartName="/ppt/media/image44.wmf" ContentType="image/x-wmf"/>
  <Override PartName="/ppt/media/image10.jpeg" ContentType="image/jpeg"/>
  <Override PartName="/ppt/media/image29.jpeg" ContentType="image/jpeg"/>
  <Override PartName="/ppt/media/image8.jpeg" ContentType="image/jpeg"/>
  <Override PartName="/ppt/media/image41.wmf" ContentType="image/x-wmf"/>
  <Override PartName="/ppt/media/image39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054-8DFF-4671-8CBB-65E5778F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770-79AE-4F7B-9A97-ED25EA3B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F64-D3CA-46A1-B04A-380704F6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AA4-B567-49CD-A650-1F9E52D1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657-C720-4F1C-B5B6-4E7B335E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E19-041B-4A91-9531-D4007EA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337-12F1-4BE3-BCA1-845E60C1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8D2-15EC-4AE0-AB69-511640A4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BBF-8FCD-4619-BA1A-86026F64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09A-6ACE-49B9-9B77-38B428DF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857-209A-44DC-8618-524D968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959-E880-47EE-AA31-DED83F24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B164-40C2-435A-AAA7-EBD52D90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6276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RPF 9 MAY 2007</a:t>
            </a:r>
            <a:br>
              <a:rPr sz="4000"/>
            </a:b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ECHNOLOGY IN PRACTICE</a:t>
            </a:r>
            <a:br>
              <a:rPr sz="4000"/>
            </a:br>
            <a:br>
              <a:rPr sz="4000"/>
            </a:b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FEEDBACK ON CUTBACK</a:t>
            </a:r>
            <a:br>
              <a:rPr sz="4400"/>
            </a:b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924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esentation by Johan Mull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cknowledgement: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revor Distin, Mike Zacharias, Daniel Mashat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Hannes Lambert, Pieter Goos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Desmond O’Brien, Kobus Lou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Dennis Rossmann, Jacques van He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Denzil Sadl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7620120" cy="507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080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34920" y="5805360"/>
            <a:ext cx="1944720" cy="990720"/>
            <a:chOff x="34920" y="5805360"/>
            <a:chExt cx="1944720" cy="990720"/>
          </a:xfrm>
        </p:grpSpPr>
        <p:grpSp>
          <p:nvGrpSpPr>
            <p:cNvPr id="63" name=""/>
            <p:cNvGrpSpPr/>
            <p:nvPr/>
          </p:nvGrpSpPr>
          <p:grpSpPr>
            <a:xfrm>
              <a:off x="34920" y="5805360"/>
              <a:ext cx="981360" cy="990720"/>
              <a:chOff x="34920" y="5805360"/>
              <a:chExt cx="981360" cy="990720"/>
            </a:xfrm>
          </p:grpSpPr>
          <p:sp>
            <p:nvSpPr>
              <p:cNvPr id="64" name=""/>
              <p:cNvSpPr/>
              <p:nvPr/>
            </p:nvSpPr>
            <p:spPr>
              <a:xfrm>
                <a:off x="34920" y="5805360"/>
                <a:ext cx="9813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66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4920" y="5805360"/>
                <a:ext cx="981360" cy="990720"/>
                <a:chOff x="34920" y="5805360"/>
                <a:chExt cx="981360" cy="99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4920" y="5805360"/>
                  <a:ext cx="981360" cy="9907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4920" y="6284880"/>
                  <a:ext cx="9813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040" y="6188760"/>
                  <a:ext cx="950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0640" y="6108840"/>
                  <a:ext cx="889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11240" y="6028920"/>
                  <a:ext cx="828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57320" y="5964840"/>
                  <a:ext cx="736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880" y="591696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49480" y="5884920"/>
                  <a:ext cx="551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80080" y="5869080"/>
                  <a:ext cx="4906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56760" y="583704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02840" y="5821200"/>
                  <a:ext cx="260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70560" y="5999400"/>
              <a:ext cx="1909080" cy="70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 rot="2062800">
            <a:off x="4140360" y="2708280"/>
            <a:ext cx="2808000" cy="2160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1787400"/>
            <a:ext cx="807084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00"/>
                </a:solidFill>
                <a:latin typeface="Arial"/>
              </a:rPr>
              <a:t>Invert Bitumen Emulsions</a:t>
            </a:r>
            <a:br>
              <a:rPr sz="4000"/>
            </a:br>
            <a:br>
              <a:rPr sz="4000"/>
            </a:br>
            <a:r>
              <a:rPr b="1" lang="en-ZA" sz="4000" spc="-1" strike="noStrike">
                <a:solidFill>
                  <a:srgbClr val="ffff00"/>
                </a:solidFill>
                <a:latin typeface="Arial"/>
              </a:rPr>
              <a:t>VS</a:t>
            </a:r>
            <a:br>
              <a:rPr sz="4000"/>
            </a:br>
            <a:br>
              <a:rPr sz="4000"/>
            </a:br>
            <a:r>
              <a:rPr b="1" lang="en-ZA" sz="4000" spc="-1" strike="noStrike">
                <a:solidFill>
                  <a:srgbClr val="ffff00"/>
                </a:solidFill>
                <a:latin typeface="Arial"/>
              </a:rPr>
              <a:t>LOW VISCOSITY CUTBACK PR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475160" cy="298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DENSE BASES PRE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932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PRIMES AP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4920" y="5805360"/>
            <a:ext cx="1944720" cy="990720"/>
            <a:chOff x="34920" y="5805360"/>
            <a:chExt cx="1944720" cy="990720"/>
          </a:xfrm>
        </p:grpSpPr>
        <p:grpSp>
          <p:nvGrpSpPr>
            <p:cNvPr id="86" name=""/>
            <p:cNvGrpSpPr/>
            <p:nvPr/>
          </p:nvGrpSpPr>
          <p:grpSpPr>
            <a:xfrm>
              <a:off x="34920" y="5805360"/>
              <a:ext cx="981360" cy="990720"/>
              <a:chOff x="34920" y="5805360"/>
              <a:chExt cx="981360" cy="990720"/>
            </a:xfrm>
          </p:grpSpPr>
          <p:sp>
            <p:nvSpPr>
              <p:cNvPr id="87" name=""/>
              <p:cNvSpPr/>
              <p:nvPr/>
            </p:nvSpPr>
            <p:spPr>
              <a:xfrm>
                <a:off x="34920" y="5805360"/>
                <a:ext cx="9813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66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34920" y="5805360"/>
                <a:ext cx="981360" cy="990720"/>
                <a:chOff x="34920" y="5805360"/>
                <a:chExt cx="981360" cy="990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4920" y="5805360"/>
                  <a:ext cx="981360" cy="9907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920" y="6284880"/>
                  <a:ext cx="9813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0040" y="6188760"/>
                  <a:ext cx="950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0640" y="6108840"/>
                  <a:ext cx="889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11240" y="6028920"/>
                  <a:ext cx="828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57320" y="5964840"/>
                  <a:ext cx="736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18880" y="591696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49480" y="5884920"/>
                  <a:ext cx="551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80080" y="5869080"/>
                  <a:ext cx="4906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6760" y="583704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02840" y="5821200"/>
                  <a:ext cx="260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70560" y="5999400"/>
              <a:ext cx="1909080" cy="70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495680" cy="2995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48320" y="1143000"/>
            <a:ext cx="4495680" cy="2995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648320" y="3862440"/>
            <a:ext cx="44956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357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5661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ff"/>
                </a:solidFill>
                <a:latin typeface="Arial"/>
              </a:rPr>
              <a:t>MC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5661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ff"/>
                </a:solidFill>
                <a:latin typeface="Arial"/>
              </a:rPr>
              <a:t>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51280" y="3332160"/>
            <a:ext cx="5292720" cy="3525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335592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195640" y="4851360"/>
            <a:ext cx="3011400" cy="2006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804000" y="5299200"/>
            <a:ext cx="2340000" cy="1558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Emulsion P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3280" y="3859200"/>
            <a:ext cx="4500720" cy="299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56240" y="1268280"/>
            <a:ext cx="4487760" cy="2989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1268280"/>
            <a:ext cx="4643280" cy="309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772080"/>
            <a:ext cx="4632480" cy="30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2341440"/>
            <a:ext cx="2268360" cy="151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236000" y="5587920"/>
            <a:ext cx="1908000" cy="1270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7093080" y="2878200"/>
            <a:ext cx="2050920" cy="1366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1547640" y="4794120"/>
            <a:ext cx="3095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4267080" cy="28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Researc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5867280"/>
            <a:ext cx="1944720" cy="990720"/>
            <a:chOff x="0" y="5867280"/>
            <a:chExt cx="1944720" cy="990720"/>
          </a:xfrm>
        </p:grpSpPr>
        <p:grpSp>
          <p:nvGrpSpPr>
            <p:cNvPr id="128" name=""/>
            <p:cNvGrpSpPr/>
            <p:nvPr/>
          </p:nvGrpSpPr>
          <p:grpSpPr>
            <a:xfrm>
              <a:off x="0" y="5867280"/>
              <a:ext cx="981360" cy="990720"/>
              <a:chOff x="0" y="5867280"/>
              <a:chExt cx="981360" cy="99072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5867280"/>
                <a:ext cx="9813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66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0" y="5867280"/>
                <a:ext cx="981360" cy="990720"/>
                <a:chOff x="0" y="5867280"/>
                <a:chExt cx="981360" cy="990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0" y="5867280"/>
                  <a:ext cx="981360" cy="9907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6346800"/>
                  <a:ext cx="9813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120" y="6250680"/>
                  <a:ext cx="950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5720" y="6170760"/>
                  <a:ext cx="889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6320" y="6090840"/>
                  <a:ext cx="828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22400" y="6026760"/>
                  <a:ext cx="736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3960" y="597888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14560" y="5946840"/>
                  <a:ext cx="551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5160" y="5931000"/>
                  <a:ext cx="4906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21840" y="589896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7920" y="5883120"/>
                  <a:ext cx="260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35640" y="6061320"/>
              <a:ext cx="1909080" cy="70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87692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3520" y="1600200"/>
            <a:ext cx="4724280" cy="426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676520"/>
            <a:ext cx="4724280" cy="426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676520"/>
            <a:ext cx="4724640" cy="4343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248520" y="5746680"/>
            <a:ext cx="289548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MC 30 PERFORMANCE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Poor penetration / takes long to 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Non polar components – no surface charge to assist with capillary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Bases too wet – PI to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Base too 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Viscosity of prime too vis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How to over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MC30 (possibly by reducing viscos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00"/>
                </a:solidFill>
                <a:latin typeface="Arial"/>
              </a:rPr>
              <a:t>Researc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5867280"/>
            <a:ext cx="1944720" cy="990720"/>
            <a:chOff x="0" y="5867280"/>
            <a:chExt cx="1944720" cy="990720"/>
          </a:xfrm>
        </p:grpSpPr>
        <p:grpSp>
          <p:nvGrpSpPr>
            <p:cNvPr id="154" name=""/>
            <p:cNvGrpSpPr/>
            <p:nvPr/>
          </p:nvGrpSpPr>
          <p:grpSpPr>
            <a:xfrm>
              <a:off x="0" y="5867280"/>
              <a:ext cx="981360" cy="990720"/>
              <a:chOff x="0" y="5867280"/>
              <a:chExt cx="981360" cy="99072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5867280"/>
                <a:ext cx="9813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66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0" y="5867280"/>
                <a:ext cx="981360" cy="990720"/>
                <a:chOff x="0" y="5867280"/>
                <a:chExt cx="981360" cy="990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0" y="5867280"/>
                  <a:ext cx="981360" cy="9907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6346800"/>
                  <a:ext cx="9813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5120" y="6250680"/>
                  <a:ext cx="950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5720" y="6170760"/>
                  <a:ext cx="889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6320" y="6090840"/>
                  <a:ext cx="828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22400" y="6026760"/>
                  <a:ext cx="736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83960" y="597888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4560" y="5946840"/>
                  <a:ext cx="551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45160" y="5931000"/>
                  <a:ext cx="4906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21840" y="589896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67920" y="5883120"/>
                  <a:ext cx="260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35640" y="6061320"/>
              <a:ext cx="1909080" cy="70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248520" y="5746680"/>
            <a:ext cx="289548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Researc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351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3402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733920" y="3252960"/>
            <a:ext cx="5410080" cy="3605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3251160"/>
            <a:ext cx="5181480" cy="360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248520" y="5746680"/>
            <a:ext cx="2895480" cy="111132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0" y="5867280"/>
            <a:ext cx="1944720" cy="990720"/>
            <a:chOff x="0" y="5867280"/>
            <a:chExt cx="1944720" cy="990720"/>
          </a:xfrm>
        </p:grpSpPr>
        <p:grpSp>
          <p:nvGrpSpPr>
            <p:cNvPr id="178" name=""/>
            <p:cNvGrpSpPr/>
            <p:nvPr/>
          </p:nvGrpSpPr>
          <p:grpSpPr>
            <a:xfrm>
              <a:off x="0" y="5867280"/>
              <a:ext cx="981360" cy="990720"/>
              <a:chOff x="0" y="5867280"/>
              <a:chExt cx="981360" cy="9907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5867280"/>
                <a:ext cx="9813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66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0" y="5867280"/>
                <a:ext cx="981360" cy="990720"/>
                <a:chOff x="0" y="5867280"/>
                <a:chExt cx="981360" cy="9907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0" y="5867280"/>
                  <a:ext cx="981360" cy="9907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0" y="6346800"/>
                  <a:ext cx="9813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120" y="6250680"/>
                  <a:ext cx="950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20" y="6170760"/>
                  <a:ext cx="889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6320" y="6090840"/>
                  <a:ext cx="828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22400" y="6026760"/>
                  <a:ext cx="736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83960" y="597888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4560" y="5946840"/>
                  <a:ext cx="551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45160" y="5931000"/>
                  <a:ext cx="4906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21840" y="589896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67920" y="5883120"/>
                  <a:ext cx="260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92" name="" descr=""/>
            <p:cNvPicPr/>
            <p:nvPr/>
          </p:nvPicPr>
          <p:blipFill>
            <a:blip r:embed="rId6"/>
            <a:stretch/>
          </p:blipFill>
          <p:spPr>
            <a:xfrm>
              <a:off x="35640" y="6061320"/>
              <a:ext cx="1909080" cy="7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Researc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079960" y="12193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079960" y="38098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248520" y="5746680"/>
            <a:ext cx="2895480" cy="11113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0" y="5867280"/>
            <a:ext cx="1944720" cy="990720"/>
            <a:chOff x="0" y="5867280"/>
            <a:chExt cx="1944720" cy="990720"/>
          </a:xfrm>
        </p:grpSpPr>
        <p:grpSp>
          <p:nvGrpSpPr>
            <p:cNvPr id="201" name=""/>
            <p:cNvGrpSpPr/>
            <p:nvPr/>
          </p:nvGrpSpPr>
          <p:grpSpPr>
            <a:xfrm>
              <a:off x="0" y="5867280"/>
              <a:ext cx="981360" cy="990720"/>
              <a:chOff x="0" y="5867280"/>
              <a:chExt cx="981360" cy="99072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5867280"/>
                <a:ext cx="9813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66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0" y="5867280"/>
                <a:ext cx="981360" cy="990720"/>
                <a:chOff x="0" y="5867280"/>
                <a:chExt cx="981360" cy="990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0" y="5867280"/>
                  <a:ext cx="981360" cy="9907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0" y="6346800"/>
                  <a:ext cx="9813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120" y="6250680"/>
                  <a:ext cx="950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5720" y="6170760"/>
                  <a:ext cx="889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6320" y="6090840"/>
                  <a:ext cx="828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2400" y="6026760"/>
                  <a:ext cx="736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83960" y="597888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14560" y="5946840"/>
                  <a:ext cx="551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45160" y="5931000"/>
                  <a:ext cx="4906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1840" y="589896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67920" y="5883120"/>
                  <a:ext cx="260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5" name="" descr=""/>
            <p:cNvPicPr/>
            <p:nvPr/>
          </p:nvPicPr>
          <p:blipFill>
            <a:blip r:embed="rId6"/>
            <a:stretch/>
          </p:blipFill>
          <p:spPr>
            <a:xfrm>
              <a:off x="35640" y="6061320"/>
              <a:ext cx="1909080" cy="7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PRIM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620120" cy="5076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Emulsion P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284720" y="3645000"/>
            <a:ext cx="4859280" cy="3236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3666960"/>
            <a:ext cx="4788000" cy="3191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4292280"/>
            <a:ext cx="403848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Emulsion pri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292640"/>
            <a:ext cx="4038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Emulsion prim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What influences penetration perform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Viscosity is temperature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Lower temperature = higher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Viscosity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High viscosity = poor 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Temperature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Low temperature = poor 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Dense surface = poorer penetration</a:t>
            </a: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Moisture content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Water fill voids and prime lies on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What influences drying performance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Amount of pene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Type of cutter (fluxing flu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Higher temperature = higher rate of evaporation of c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Moi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Excessive water fills air v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Water polar and cutter non polar organic components does not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387360"/>
          <a:ext cx="914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7360"/>
                    <a:ext cx="914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35120" y="563040"/>
            <a:ext cx="82296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emperature-Viscosity relationship for MC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52600">
            <a:off x="682560" y="3428640"/>
            <a:ext cx="8282160" cy="2075040"/>
          </a:xfrm>
          <a:custGeom>
            <a:avLst/>
            <a:gdLst/>
            <a:ahLst/>
            <a:rect l="l" t="t" r="r" b="b"/>
            <a:pathLst>
              <a:path w="5126" h="1769">
                <a:moveTo>
                  <a:pt x="5126" y="1633"/>
                </a:moveTo>
                <a:cubicBezTo>
                  <a:pt x="4078" y="1701"/>
                  <a:pt x="3031" y="1769"/>
                  <a:pt x="2177" y="1497"/>
                </a:cubicBezTo>
                <a:cubicBezTo>
                  <a:pt x="1323" y="1225"/>
                  <a:pt x="363" y="250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5280" y="1484280"/>
            <a:ext cx="2305080" cy="1008000"/>
          </a:xfrm>
          <a:prstGeom prst="wedgeEllipseCallout">
            <a:avLst>
              <a:gd name="adj1" fmla="val -43731"/>
              <a:gd name="adj2" fmla="val 1473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MC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2637000"/>
            <a:ext cx="2305080" cy="1008000"/>
          </a:xfrm>
          <a:prstGeom prst="wedgeEllipseCallout">
            <a:avLst>
              <a:gd name="adj1" fmla="val -43731"/>
              <a:gd name="adj2" fmla="val 147324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MC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Researc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5867280"/>
            <a:ext cx="1944720" cy="990720"/>
            <a:chOff x="0" y="5867280"/>
            <a:chExt cx="1944720" cy="990720"/>
          </a:xfrm>
        </p:grpSpPr>
        <p:grpSp>
          <p:nvGrpSpPr>
            <p:cNvPr id="234" name=""/>
            <p:cNvGrpSpPr/>
            <p:nvPr/>
          </p:nvGrpSpPr>
          <p:grpSpPr>
            <a:xfrm>
              <a:off x="0" y="5867280"/>
              <a:ext cx="981360" cy="990720"/>
              <a:chOff x="0" y="5867280"/>
              <a:chExt cx="981360" cy="99072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5867280"/>
                <a:ext cx="9813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66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0" y="5867280"/>
                <a:ext cx="981360" cy="990720"/>
                <a:chOff x="0" y="5867280"/>
                <a:chExt cx="981360" cy="9907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0" y="5867280"/>
                  <a:ext cx="981360" cy="9907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0" y="6346800"/>
                  <a:ext cx="9813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5120" y="6250680"/>
                  <a:ext cx="950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5720" y="6170760"/>
                  <a:ext cx="889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6320" y="6090840"/>
                  <a:ext cx="828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2400" y="6026760"/>
                  <a:ext cx="736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83960" y="597888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14560" y="5946840"/>
                  <a:ext cx="551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45160" y="5931000"/>
                  <a:ext cx="4906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1840" y="589896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67920" y="5883120"/>
                  <a:ext cx="260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5640" y="6061320"/>
              <a:ext cx="1909080" cy="70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48520" y="5746680"/>
            <a:ext cx="2895480" cy="111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0" y="1057320"/>
          <a:ext cx="9144000" cy="4772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57320"/>
                    <a:ext cx="914400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Difference between road &amp; air temperatures</a:t>
            </a:r>
            <a:br>
              <a:rPr sz="2800"/>
            </a:b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(sun &amp; shade condi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9640" y="1295280"/>
            <a:ext cx="82090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00"/>
                </a:solidFill>
                <a:latin typeface="Arial"/>
              </a:rPr>
              <a:t>What effect does rain &amp; clouds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1062000"/>
            <a:ext cx="75675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thly Averag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36360" y="1020600"/>
            <a:ext cx="90723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CUTBACK ALTERN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TWO CUTBACK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MC30 + 10-15%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n site blending – discourage practice (H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MC10 ~ MC30 + more cu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ex REFIN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Quality assurance excel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afer / controlled produc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ONE OPTION STANDS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C 10 REPLACING MC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00"/>
                </a:solidFill>
                <a:latin typeface="Arial"/>
              </a:rPr>
              <a:t>Australians ID same requirement (AMC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NUFACTURED BY REFIN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AMEND SANS 308 (SLOW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USTOMER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POSSIBLE AMEND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OVERCOME PROBLEMS WITH MC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LACK OF PENE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LOW CURING (UP TO 7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PARTICULARLY 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PARTICULARLY WINTER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PARTICULARLY DENSE G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PARTICULARLY CEMENT STABILI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IMPLICATIONS OF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NO COMPROMISES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ENVIRONMENT – AP-R1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No effect on OZONE de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Heating cutbacks does not contribute to GREENHOUSE G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SMOG in urban are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ntribution to AIR POLLUTION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orker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fin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ndling &amp;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WAY FORW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Does RPF agree that TASK TEAM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W SPEC LOW VISCOSITY P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Viscosity at ambient (25°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Remove penetration test requirement on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VISE SANS 308 (19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NCLUDE BITUMEN PRECOATING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HISTORY &amp;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SABS 308: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Never amended since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equirements and product range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C 250 no longer available ex refin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Invert Bitumen Emulsion (no SANS spec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ar primes discontinued i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Emulsion primes recent add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WHAT IS HAPP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USE OF TAR PRIMES DIS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abita seminars held in Septem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Use of Tar to be dis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Sabita Manual 26 launched Nov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asol CarboTar closed shop 30 Jun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ittal limited tar products still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CUT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C grades available from Refin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BE manufactured by Secondary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Emulsion primes promoted based on quick drying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CUTBACK BITUMEN P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MC 30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orks OK in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oor penetration in wi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oor penetration on dense / stabilised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C 30 + 10% IP penetrates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Invert bitumen emulsion penetrates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Expensive cutter – kerosene = Jet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MC7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dly 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CUTBACK BITUM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MC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cessary for use in sand s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Used in Otta Seals in winter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MC 800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Limited use in specialised cold mix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COMPARISON OF AVAILABLE PRIME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MC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0000"/>
                </a:solidFill>
                <a:latin typeface="Arial"/>
              </a:rPr>
              <a:t>55% residual bit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45% keros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IBE Invert bitumen emul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85% MC30 / IP  (</a:t>
            </a:r>
            <a:r>
              <a:rPr b="0" lang="en-ZA" sz="2800" spc="-1" strike="noStrike">
                <a:solidFill>
                  <a:srgbClr val="ff0000"/>
                </a:solidFill>
                <a:latin typeface="Arial"/>
              </a:rPr>
              <a:t>41,25% residual bitumen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15% water - emulsifier assists pene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Emulsion prime = MC30 + IP +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4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60% MC30 + IP = </a:t>
            </a:r>
            <a:r>
              <a:rPr b="0" lang="en-ZA" sz="2800" spc="-1" strike="noStrike">
                <a:solidFill>
                  <a:srgbClr val="ff0000"/>
                </a:solidFill>
                <a:latin typeface="Arial"/>
              </a:rPr>
              <a:t>&lt;30% residual bit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WHAT DID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&amp;D indicates a new type 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prim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erformance verified on laboratory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eld trials wer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pecification is now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16:50:15Z</dcterms:created>
  <dc:creator>Johan Muller</dc:creator>
  <dc:description/>
  <dc:language>en-US</dc:language>
  <cp:lastModifiedBy>Johan Muller</cp:lastModifiedBy>
  <dcterms:modified xsi:type="dcterms:W3CDTF">2007-05-09T05:03:51Z</dcterms:modified>
  <cp:revision>22</cp:revision>
  <dc:subject/>
  <dc:title>TOSAS PRIMES</dc:title>
</cp:coreProperties>
</file>