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903-4FB6-4C42-8D16-4C7617D0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30B-0BD5-4C1F-BAC4-7848D03F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890-6CC4-4ED7-BEDF-8FF7CA40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EE5-A76B-4C3B-9584-EB6BC441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B1A0-75A8-4D14-93DF-D71EA2D2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0189-6F90-499A-9E6B-CA2C0345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5D35-3AC2-426D-A8CC-FE49479C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7EB2-7843-4A12-89CB-39B17C16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678D-05E0-4105-96AA-18346D87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25E1-3B05-4121-86AF-9FB742B4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E76A-A7F5-4EE5-8DF1-931CF9AA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68C-B47A-4336-9022-9A0114F0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C39C-E38E-4E74-8F79-AFDA557C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A515-7518-48E7-BDEF-E1BB2ED3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FE13-A89A-4651-82D4-C9828DEB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DA13-DDC5-4230-8814-AFABBEC1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BBA7-00EC-44D4-AF34-3A5C9DC6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3B2-C927-473A-8E40-5D8AABEB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96A-67FA-4DEF-B5F0-C3D7CC1D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18C-3EAD-4C3C-9B88-1C74ABD3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DEB-17F2-4410-AB9A-60F33A38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BDD-99F8-4781-A09C-46141A4F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700-B65A-4D78-820A-94D2E760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A4C-7E97-4E03-A319-7415A9FA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1F37-65C4-444B-93C3-CDACCF9A25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ED6F-63C6-4C67-912C-E6C3B78C12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79167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Verdana"/>
              </a:rPr>
              <a:t>COTO Road Materials Committee (RMC)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Management of Industry Documentatio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dbbd71"/>
                </a:solidFill>
                <a:latin typeface="Verdana"/>
              </a:rPr>
              <a:t>Road Pavement Forum</a:t>
            </a:r>
            <a:br>
              <a:rPr sz="2400"/>
            </a:br>
            <a:r>
              <a:rPr b="0" lang="en-US" sz="2400" spc="-1" strike="noStrike">
                <a:solidFill>
                  <a:srgbClr val="dbbd71"/>
                </a:solidFill>
                <a:latin typeface="Verdana"/>
              </a:rPr>
              <a:t>6 &amp; 7 May 2008</a:t>
            </a:r>
            <a:br>
              <a:rPr sz="2400"/>
            </a:br>
            <a:r>
              <a:rPr b="0" lang="en-US" sz="2400" spc="-1" strike="noStrike">
                <a:solidFill>
                  <a:srgbClr val="dbbd71"/>
                </a:solidFill>
                <a:latin typeface="Verdana"/>
              </a:rPr>
              <a:t>Rob Lindsay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3760" y="336240"/>
            <a:ext cx="7907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4 th RPF Resolution #6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an RPF task group be established under the leadership of Elzbieta Sadzik and Rob Lindsay to discuss a new structure and a way forward for the COTO Road Materials Committe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OTO Technical Subcommitte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ic Man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ilitate technology transfer amongst road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llate state of the art technology and pract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velop national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duce / revise relevant TRH and TM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E Sadzi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PF Task Group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on 18 February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 Sadz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 Hender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 Verhaeg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McDona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 Samp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 Dist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 Kanneme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 Linds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PF Task Group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 Stat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MC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ship of RM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CB Task Group proposed COTO stru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Engineering Acade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stroads and AASHTO 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MC – the fu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PF Task Group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 (Industry Document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MC mandate implicitly withdra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vertical integration (RCC and CO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y with national fu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ence of approval mecha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gravating fac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minishing expertise in the State Road Author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MTC and RNM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PF Task Group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osal (Industry Document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Formation of REC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fer RMC document mandate to REC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ical integration (RCB and/or CO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B compete for funding from D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ad repres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vate and public se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cial Interest Groups (RM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, Metro, and Local Author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roval mechanis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PF Task Group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osal (Industry Document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CC technical disciplines accommod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ad Prism, Pavement Layers, Minor Structures, Geometric Desig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CC technical disciplines not accommod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ad Network Management, Major Structures, Survey, Constru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1:32:58Z</dcterms:created>
  <dc:creator>admin</dc:creator>
  <dc:description/>
  <dc:language>en-US</dc:language>
  <cp:lastModifiedBy>admin</cp:lastModifiedBy>
  <dcterms:modified xsi:type="dcterms:W3CDTF">2008-04-24T07:56:57Z</dcterms:modified>
  <cp:revision>8</cp:revision>
  <dc:subject/>
  <dc:title>Resolution #6</dc:title>
</cp:coreProperties>
</file>