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2B0-A69F-4819-A853-D0029BC2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F6C-A856-4292-8A24-AC3A89EF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4CA3-077C-4BF6-BAC0-3C61B7F1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25E8-71B1-4D6F-B96B-6A0AFAED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979-2F85-4E87-97C3-FC794318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8AC-8003-4918-84D5-B098AC27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584-14F1-48D7-B785-9CFED349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8EE-F32D-46B9-9B00-9943E4B9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C3F-996C-44C8-8E7F-D2F5CA2F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50FE-B1E6-451B-9797-FC2A537B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E1BB-FB5F-416A-AA21-0228175C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2E61-9CB4-4DEC-AB64-A4981C03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B506-87AC-4B00-8190-881F258C1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5029200" y="5286240"/>
            <a:ext cx="4114800" cy="15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REPORT to RP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ay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MH1 Re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Dave W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943600" y="380880"/>
            <a:ext cx="2819520" cy="2629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NUCLEAR DENSITY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ssues requiring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perator certification including handl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erification – standard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esting procedure – initialization, bedd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rientation, count time, block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blem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any opinions of perform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eviewing data and running some basic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20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MH1  PROJECT 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ny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m W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e Nothna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W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mail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fhw@telkomsa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 082 790 61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ne 021 790 16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Arial"/>
              </a:rPr>
              <a:t>Thanks for your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000" autoRev="1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95" dur="1000" autoRev="1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96" dur="1000" autoRev="1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MH1 Revision -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der auspices of M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nd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ANRAL, PAWC, Freetrans and SAB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orities set by fu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ublish as SANS managed by S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gal standing, credibility in Africa and long-term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uring rewriting into SANS format, improve and amend whe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nd-alone methods – reviewed after first year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MH1 Revision -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rst Draft circulated as widely as possible throughout industry (also SAD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entious issues reviewed by small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nal Draft approved by MTC and submitted to S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ABS: Tech review, Edit review, TC 61, Public Comment &amp; Objections, Final Approval and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PILOT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1 Methods – In Final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et grading, Atterberg Limits and Linear Shrinkage (3 LL procedures), moisture content, dry grading, ALD (Meas &amp; Comp), Calcs of GM, FM etc, Mod and 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ll except Mod &amp; CBR submitted to SABS in September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ajor delay  &gt; 6 months in starting SABS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ABS have appointed extra staff to ass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SECOND 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1 First Drafts sent out in April for industry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ggregates: grading, FI, ACV, 10% FACT, ARD / B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crete: Lab mix specimens, Slump, Dimensions of specimens &amp; compr.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d MDD of lab mix stab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hecking, handling and maintenance of sie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Very poor industr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SECOND 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ABITA have put in R 300 000 for work on Asphalt and Bitume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 Asphalt Methods - First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nt to SABITA – Feb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y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bmit to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 Myburgh to deal with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bmit to MTC for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SECOND 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 Binder Distributor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rom SABITA DRAFT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ing ‘SANSified’ by Projec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ill go to SABITA for 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 Stabilization methods in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ab field sampling, UCS &amp; 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ummary - TMH1  Re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ajor delays in S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opefully sorted with extra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ormative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 month delay for Projec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ublish first set – whole of Pilot Stage (?) by the end of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ABS norm = 2 years from inceptio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nce going keep momentum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4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1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1000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172200" y="304920"/>
            <a:ext cx="2666880" cy="2485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NUCLEAR DENSITY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PF Resolution May 2006 “to be handled as it arises in TMH1 Revie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However, recent Problems with Nuclear Gauge Density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ssues raised in meeting at SANRAL WC in March 2007 – Dave Wright asked to work on as priority in conjunction with Barry D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Work attached to TMH1 brief and funded through PAWC con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ajor misconception – not a density me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2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11:17:26Z</dcterms:created>
  <dc:creator>home pc</dc:creator>
  <dc:description/>
  <dc:language>en-US</dc:language>
  <cp:lastModifiedBy>home pc</cp:lastModifiedBy>
  <dcterms:modified xsi:type="dcterms:W3CDTF">2007-05-08T08:04:35Z</dcterms:modified>
  <cp:revision>16</cp:revision>
  <dc:subject/>
  <dc:title>REPORT BACK to MTC</dc:title>
</cp:coreProperties>
</file>