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082-8E8F-4043-85B4-1A1558B7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643-55BA-46D4-A486-1B45BEA2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1D0-A059-4633-A141-4DEBCD89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E54-B7E2-4126-BD45-49A996BA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C8E1-F277-4E68-9B27-03593AA3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2F53-885D-4A7E-8A11-5C8D1E4B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3D31-DD40-4C5A-8E89-85C63F3F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0C11-B286-4E71-9568-07EDFF0B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93C7-EEBC-4F89-8953-D74F9CE5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7E64-7085-418F-AFD6-1886BAF2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11B8-9319-469E-802A-D82AC419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ED1-18E4-4C51-9C58-8AA1F4D2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0107-C934-4203-BB9D-639B235B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85FD-9E0A-434E-8843-AE936764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4A57-7595-4388-BE85-0B497E8C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47A8-B47C-4218-80F2-AC74305F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72D6-3542-41E8-AB38-4E947BBA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1D9-7946-4120-80FB-2EF9AD8F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0F1-7292-4E37-84F3-6A6C7CB7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D87-A736-4CC2-B8AA-49C578B0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7B9-B5FF-4ED2-A609-B93A1AA1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313-775D-46D8-94FC-C9E79A17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C79-D21F-413D-A4FC-824CCAD7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032-E820-4C12-9C36-72D029E7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4DB4-1B7D-4523-BD6F-AB200458AA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25B1-8903-4D4F-A8FA-F214A634B2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sphaltacademy.co.za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333399"/>
                </a:solidFill>
                <a:latin typeface="Tahoma"/>
              </a:rPr>
              <a:t>Revision of TG1</a:t>
            </a:r>
            <a:br>
              <a:rPr sz="4000"/>
            </a:br>
            <a:r>
              <a:rPr b="1" lang="en-ZA" sz="4000" spc="-1" strike="noStrike">
                <a:solidFill>
                  <a:srgbClr val="333399"/>
                </a:solidFill>
                <a:latin typeface="Tahoma"/>
              </a:rPr>
              <a:t>The use of Modified Binders in Road Construction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Dennis Rossman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November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33399"/>
                </a:solidFill>
                <a:latin typeface="Tahoma"/>
              </a:rPr>
              <a:t>TG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2001</a:t>
            </a: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ZA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 Edition (66 pag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2005-</a:t>
            </a: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RPF Task Group for rev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2007-</a:t>
            </a: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ZA" sz="32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 Edition (99 pag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1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33399"/>
                </a:solidFill>
                <a:latin typeface="Tahoma"/>
              </a:rPr>
              <a:t>TG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Available from Asphalt Academ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asphaltacademy.co.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33399"/>
                </a:solidFill>
                <a:latin typeface="Tahoma"/>
              </a:rPr>
              <a:t>TG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Seminars held under auspices of As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13 Nov Cape T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14 Nov Pietermaritzbu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Tahoma"/>
              </a:rPr>
              <a:t>15 Nov Mid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33399"/>
                </a:solidFill>
                <a:latin typeface="Tahoma"/>
              </a:rPr>
              <a:t>TG1: SECOND EDITION 200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Tahoma"/>
              </a:rPr>
              <a:t>Mission Accomplish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4:41:55Z</dcterms:created>
  <dc:creator>marxj</dc:creator>
  <dc:description/>
  <dc:language>en-US</dc:language>
  <cp:lastModifiedBy>Trevor</cp:lastModifiedBy>
  <dcterms:modified xsi:type="dcterms:W3CDTF">2007-11-20T15:14:57Z</dcterms:modified>
  <cp:revision>3</cp:revision>
  <dc:subject/>
  <dc:title>Revision of TG1 The use of Modified Binders in Road Construction </dc:title>
</cp:coreProperties>
</file>