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FFC-DA1D-4303-9D1C-C2972E56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111-07BF-45CA-92A1-DF0CF60D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C77-E7D0-444B-8B89-7B8854F5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8D3-FD66-477F-A23B-4E801557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5F10-2359-49FC-8ACF-9138BCB1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BFC-2EB1-499F-9C1F-7D7137FF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531-F641-44B3-95C1-712371D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4C4-94C7-4554-BA72-611F882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B2D8-0812-48F8-BE55-6A3CF824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C0A5-D9A7-4B79-B705-876AF91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D1E-228D-4D5F-81ED-535B0390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454-4774-4045-A86B-8CA3A34B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714-E512-43D1-9319-7ED8ACF4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7306-17F8-4433-9323-C4040F4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731E-B117-4ED9-AFFE-646F6CB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440-6D9B-4250-8F7F-A601E590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F44-30B5-4773-843F-FCFFC535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883-87EA-444B-8C26-5C8FE034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49A-715E-4AA4-A3F0-24B7DEAF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1FA-AE51-4AB1-B2B6-84C52C4D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4DE-9EE4-4AE0-B585-EF49A449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DBE-B468-4F3A-BA16-ACA6D959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F47-C048-4ECE-838A-986BB16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2DE-BB8C-4EE1-A8F1-0B649A0B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B12-0CAD-4707-8C36-F89335507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4C5-0B37-4D68-BC90-822750640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d6009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20920" y="1351080"/>
            <a:ext cx="7723080" cy="38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00"/>
                </a:solidFill>
                <a:latin typeface="Arial"/>
              </a:rPr>
              <a:t>PROGRESS OVERVIEW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COLTO STANDARD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OTHER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12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57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258840" y="1911240"/>
            <a:ext cx="869472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First drafts have been submitted by SABITA to their members for comm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TC had a meeting in January 2008 with SABITA regarding these test method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S1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king of briquettes for Marshall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S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Marshall flow and st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S1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bulk relative density and void content of compacted asph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S1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maximum theoretical relative density of asphalt mixes and the quantity of binder absorbed by the aggreg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S2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binder content of a bituminous mixture (indirect metho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62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244440" y="1415880"/>
            <a:ext cx="8694720" cy="51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Second drafts have been prepared based on industry feedb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31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determination of the maximum dry density and optimum moisture content of laboratory mixed stabilized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5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preparation, compaction, and curing of specimens of laboratory mixed stabilized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5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Sampling, preparation, compaction and curing of field mixed freshly stabilized graded materials including the determination of the maximum dry density and optimum moisture cont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5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Sampling and preparation of cored specimens of field compacted matured stabilized graded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5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Unconfined Compressive Strength of stabilized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53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determination of the Indirect Tensile Strength of stabilized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67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244440" y="2011320"/>
            <a:ext cx="869472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BT20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alibration of dipsticks for bitumen distribu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BT2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Power and road speed indicator tests for bitumen distribu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BT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Pump system performance for bitumen distribu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BT2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est for measuring the transverse distribution of a bitumen distributor (“Bucket” te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200" y="4592520"/>
            <a:ext cx="869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73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534960" y="1943280"/>
            <a:ext cx="82756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Busy with second drafts on stabi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Investigation into calibration, validation and standard blocks for nuclear gauges was completed in December 20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Will not submit further material to SABS until they have made progress with pilot phase. (Sets A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78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34960" y="2308320"/>
            <a:ext cx="7461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 u="sng">
                <a:solidFill>
                  <a:srgbClr val="ffff00"/>
                </a:solidFill>
                <a:uFillTx/>
                <a:latin typeface="Arial"/>
              </a:rPr>
              <a:t>TRH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RH 12: Road Rehabilitation Guidelines – Feedback by Dr Jord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RH 20: The structural design construction and maintenance of unpaved r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83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501920" y="577800"/>
            <a:ext cx="764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000" spc="-1" strike="noStrike">
                <a:solidFill>
                  <a:srgbClr val="ffff00"/>
                </a:solidFill>
                <a:latin typeface="Arial"/>
              </a:rPr>
              <a:t>OTHER DOCU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2092320"/>
            <a:ext cx="882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 u="sng">
                <a:solidFill>
                  <a:srgbClr val="ffff00"/>
                </a:solidFill>
                <a:uFillTx/>
                <a:latin typeface="Arial"/>
              </a:rPr>
              <a:t>Routine Road Maintenance Guidelin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Busy with revision of final dra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Plan to have workshops in June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88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1501920" y="577800"/>
            <a:ext cx="764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000" spc="-1" strike="noStrike">
                <a:solidFill>
                  <a:srgbClr val="ffff00"/>
                </a:solidFill>
                <a:latin typeface="Arial"/>
              </a:rPr>
              <a:t>OTHER DOCU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7520" y="1887480"/>
            <a:ext cx="88264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 u="sng">
                <a:solidFill>
                  <a:srgbClr val="ffff00"/>
                </a:solidFill>
                <a:uFillTx/>
                <a:latin typeface="Arial"/>
              </a:rPr>
              <a:t>South African Materials Man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Finalised frame work / scope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ask team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Made PDF’s of Road Authority Man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Need to set up meeting with Task Team to discus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rebuchet MS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Scope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rebuchet MS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Hourly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rebuchet MS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im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rebuchet MS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ask lea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39480" y="2465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60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166240" y="6229440"/>
            <a:ext cx="761760" cy="628560"/>
            <a:chOff x="8166240" y="6229440"/>
            <a:chExt cx="761760" cy="628560"/>
          </a:xfrm>
        </p:grpSpPr>
        <p:sp>
          <p:nvSpPr>
            <p:cNvPr id="194" name=""/>
            <p:cNvSpPr/>
            <p:nvPr/>
          </p:nvSpPr>
          <p:spPr>
            <a:xfrm>
              <a:off x="8166240" y="6229440"/>
              <a:ext cx="76176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8227080" y="6278760"/>
              <a:ext cx="636480" cy="53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15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1343160" y="74916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LTO STANDARD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4960" y="1770120"/>
            <a:ext cx="82152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Prepared Business Plan for RC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Formation of RCB Subcommit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RCB Subcommittee Memb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National D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9 Provincial Road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Municipal Authorities (Metro’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SANRAL (SA National Roads Agency Lt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RAL (Road Agency Limpo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JRA (Johannesburg Road A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20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506520" y="17985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Stakeholders identified for consult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43160" y="74916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LTO STANDARD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09840" y="2771640"/>
          <a:ext cx="6095880" cy="2421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SI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FC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BTA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BI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 &amp; 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Z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PA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26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534960" y="2075040"/>
            <a:ext cx="860904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Procurement of Secretariat for the Revision of th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RCB Subcommittee to nominate list of service providers (April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SANRAL to prepare tender documents (May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SANRAL to invite nominated service providers (June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SANRAL to appoint service providers (July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43160" y="74916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LTO STANDARD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31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549360" y="2117880"/>
            <a:ext cx="821520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Subcommittee will set up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Estimated completion time – 18 to 24 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All RCB subcommittee members to contribu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Estimated cost of project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 R4m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43160" y="74916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COLTO STANDARD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36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231840" y="1292400"/>
            <a:ext cx="891216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2 500 People have visited the SANRAL website to download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800" spc="-1" strike="noStrike" u="sng">
                <a:solidFill>
                  <a:srgbClr val="ffff00"/>
                </a:solidFill>
                <a:uFillTx/>
                <a:latin typeface="Arial"/>
              </a:rPr>
              <a:t>TMH1 R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he final revised drafts were submitted to SABS in January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A – Covers roughly A1 to A5 of TM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Wet Preparation and Particle Size Analysis of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1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One-Point Liquid Limit, Plastic Limit, Plasticity Index and Linear Shrink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1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Liquid Limit, Two-Point Metho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Liquid Limit, Flow Curve Metho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2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Moisture Content by Oven-Dry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41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231840" y="1596960"/>
            <a:ext cx="8680320" cy="50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B – Covers roughly A6 and B18 of TMH1 and two new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Dry Preparation and Dry Particle Size Analysis of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Determination of the Average Least Dimension of Aggregates by Direct Measure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PR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Average Least Dimension of a Surfacing Aggregate by Comput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PR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Computation of soil-mortar percentages, coarse sand ratio, grading modulus and fineness modul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C – Covers A7 and A8 of TM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30:0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maximum dry density and optimum moisture content of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31:0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California Bearing Ratio of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46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214200" y="2629080"/>
            <a:ext cx="869472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1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particle size analysis of aggregates by sieving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3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determination of the flakiness index of coarse aggreg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1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Aggregate crushing value of coarse aggreg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1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FACT value (10% fines aggregate crushing value) of coarse aggreg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2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dry bulk density, apparent relative density and water absorption of material retained on the 5mm siev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AG2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determination of the dry bulk density, apparent relative density and water absorption of material passing the 5mm siev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** Needs to be given priority as it is required as a normative reference for methods in                     Pilot St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0" y="43020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7960" y="1131840"/>
            <a:ext cx="7502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The production of essential normative reference methods which are being done in the next phase were needed before SABS can publish Sets A to 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ZA" sz="2000" spc="-1" strike="noStrike">
                <a:solidFill>
                  <a:srgbClr val="ffff00"/>
                </a:solidFill>
                <a:latin typeface="Arial"/>
              </a:rPr>
              <a:t>Work on next phase (Sets 1 to 5) is progressing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8140680" y="6229440"/>
            <a:ext cx="762120" cy="628560"/>
            <a:chOff x="8140680" y="6229440"/>
            <a:chExt cx="762120" cy="628560"/>
          </a:xfrm>
        </p:grpSpPr>
        <p:sp>
          <p:nvSpPr>
            <p:cNvPr id="152" name=""/>
            <p:cNvSpPr/>
            <p:nvPr/>
          </p:nvSpPr>
          <p:spPr>
            <a:xfrm>
              <a:off x="8140680" y="6229440"/>
              <a:ext cx="762120" cy="62856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8201520" y="6278760"/>
              <a:ext cx="63684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272880" y="1927080"/>
            <a:ext cx="86950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ET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GR31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determination of the maximum dry density and optimum moisture content of laboratory mixed stabilized graded materi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CO1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ixing in the laboratory, sampling of freshly mixed concrete, casting and curing of test specime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CO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Consistency of freshly mixed concrete – the determination of the slu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C1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Dimensions, tolerances and uses of cast test specime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C1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Compressive strength of matured concre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01-PR1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The handling, maintenance and sieving techniques for test sieves. 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** Needs to be given priority as it is required as a normative reference for methods in Pilot St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86000" y="54612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TMH AND TRH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4T12:05:30Z</dcterms:created>
  <dc:creator>Louw Kannemeyer</dc:creator>
  <dc:description/>
  <dc:language>en-US</dc:language>
  <cp:lastModifiedBy>msoffice</cp:lastModifiedBy>
  <cp:lastPrinted>1999-03-02T09:01:15Z</cp:lastPrinted>
  <dcterms:modified xsi:type="dcterms:W3CDTF">2008-05-05T20:05:35Z</dcterms:modified>
  <cp:revision>199</cp:revision>
  <dc:subject/>
  <dc:title>Proposed Funding of National Roads</dc:title>
</cp:coreProperties>
</file>