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B9C-E418-4396-9149-9CF0C7CC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3AC-BB71-423F-AC73-4B86E4B9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BA8-131C-44A3-B249-91B99C02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013-6F19-40C3-87B1-AA0A11B5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D76-4233-49A4-B281-BAF16A96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AD9-998B-4039-86ED-03B763DA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AC0-ADFC-4499-B14E-FB58063D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383-05DE-4EFC-A60A-37023CE7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168-F78D-4B28-9DE2-EEDF9EAE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D1A-1223-46DF-BED7-5E2611F3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CBA-47ED-47D2-98AD-FB2F8E97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A2B-E399-42C2-BC0A-334D4F37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EA87-E233-4F71-90EA-76E9E42CA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 PAVEMENT FORU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Y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SPHALT RE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ycl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consumption of recycled asphalt layers can be as little as 25% of that needed for new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06864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increasing cost of fuel, bitumen and aggregates should result in the cost of recycled pavements rising at a much slower rate than that for virgi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 owners utilising materials they already own makes a lot of sen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halt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ituation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7647" t="3597" r="0" b="24454"/>
          <a:stretch/>
        </p:blipFill>
        <p:spPr>
          <a:xfrm>
            <a:off x="1763640" y="160200"/>
            <a:ext cx="6078600" cy="669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halt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jor recycling on road projects for 10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yc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ssible reasons for limited recyc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55736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quantities of RAP avail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ility of R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use of HMA b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stock pile areas at batching pl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rushing facilities at batching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s of keeping RAP stockpiles d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suitable mixing pl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 or real” poorer performance of recycled aspha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legal requir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halt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ituation of RAP in South Afr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ly utilised in cement stabilised subbase layers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 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quently utilised as shoulder make-up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d or hot recycled as subbase layers under concrete pa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tilised by manufacturers for “grocery trad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halt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ing 10% RAP = re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lack aggregat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6:53:07Z</dcterms:created>
  <dc:creator>marxj</dc:creator>
  <dc:description/>
  <dc:language>en-US</dc:language>
  <cp:lastModifiedBy>rossmannd</cp:lastModifiedBy>
  <dcterms:modified xsi:type="dcterms:W3CDTF">2007-05-04T05:48:11Z</dcterms:modified>
  <cp:revision>9</cp:revision>
  <dc:subject/>
  <dc:title>Slide 1</dc:title>
</cp:coreProperties>
</file>