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05C-9BDE-4F97-9A2B-4CC50F47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69F-F29C-4CC3-A92F-E1228B7D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878-1889-4AE5-A65D-AD4B2A42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D23-7AFA-4B02-BC4F-59CE3A04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A8CF-4F8D-441F-804B-617A50BE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31FD-78D1-4B14-9D6D-46BA060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CD1E-AEE4-4822-90C9-78CB5576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25BF-3D1D-4355-B091-C9DB294E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72E8-B513-45B2-849F-A882DA8D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8BC0-D41F-40F0-BD49-F20DC47F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B8CF-774D-452F-9210-ABB6116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BDC-7774-4ABC-8EF0-F7AAF1D8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ABDB-ED11-49F2-8D57-1FF03F20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6EDD-A30F-43E6-B031-91DAC2D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FCCF-2323-40D0-91B6-49B18CA6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7880-C8E4-4359-92F9-A3DF7C4C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10C0-6387-4574-A599-A87BC095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CC7-A91A-4B47-A522-553C74FA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317-7734-4FE3-B834-7382BFB3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24F-A290-46B3-8A0E-F84E02DB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34A-5BCC-41F8-9A7F-8AA71C9F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C88-B590-497D-88C4-BB4CD973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632-873A-4F34-8DF6-4135A33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241-6B28-47CD-87F8-36AB75D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5BCD-37B0-4C29-B63F-08C18869442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6920" cy="161280"/>
            <a:chOff x="71280" y="176040"/>
            <a:chExt cx="874692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840" y="-3956400"/>
              <a:ext cx="58680" cy="8528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4320" y="-4167000"/>
              <a:ext cx="60480" cy="874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27BC-5CDF-46A0-B165-81AD314B2C0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ZA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 ROAD PAVEMENT FORUM</a:t>
            </a:r>
            <a:br>
              <a:rPr sz="2400"/>
            </a:b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21 November 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NATIONAL GUIDELINE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SPHALT REINFORCEMENT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66680" y="3733920"/>
            <a:ext cx="7053120" cy="2666880"/>
            <a:chOff x="1066680" y="3733920"/>
            <a:chExt cx="7053120" cy="2666880"/>
          </a:xfrm>
        </p:grpSpPr>
        <p:sp>
          <p:nvSpPr>
            <p:cNvPr id="111" name=""/>
            <p:cNvSpPr/>
            <p:nvPr/>
          </p:nvSpPr>
          <p:spPr>
            <a:xfrm>
              <a:off x="3878280" y="3733920"/>
              <a:ext cx="1198440" cy="118440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8120" y="4842000"/>
              <a:ext cx="7040880" cy="442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79280" y="5761080"/>
              <a:ext cx="704052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71360" y="5197680"/>
              <a:ext cx="704052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44760" y="4110120"/>
              <a:ext cx="449280" cy="442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5270760"/>
              <a:ext cx="7042320" cy="48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8120" y="5245200"/>
              <a:ext cx="71280" cy="484200"/>
            </a:xfrm>
            <a:custGeom>
              <a:avLst/>
              <a:gdLst/>
              <a:ahLst/>
              <a:rect l="l" t="t" r="r" b="b"/>
              <a:pathLst>
                <a:path w="50" h="408">
                  <a:moveTo>
                    <a:pt x="8" y="408"/>
                  </a:moveTo>
                  <a:cubicBezTo>
                    <a:pt x="29" y="383"/>
                    <a:pt x="50" y="359"/>
                    <a:pt x="50" y="336"/>
                  </a:cubicBezTo>
                  <a:cubicBezTo>
                    <a:pt x="50" y="313"/>
                    <a:pt x="10" y="292"/>
                    <a:pt x="8" y="270"/>
                  </a:cubicBezTo>
                  <a:cubicBezTo>
                    <a:pt x="6" y="248"/>
                    <a:pt x="39" y="226"/>
                    <a:pt x="38" y="204"/>
                  </a:cubicBezTo>
                  <a:cubicBezTo>
                    <a:pt x="37" y="182"/>
                    <a:pt x="4" y="165"/>
                    <a:pt x="2" y="138"/>
                  </a:cubicBezTo>
                  <a:cubicBezTo>
                    <a:pt x="0" y="111"/>
                    <a:pt x="22" y="65"/>
                    <a:pt x="26" y="42"/>
                  </a:cubicBezTo>
                  <a:cubicBezTo>
                    <a:pt x="30" y="19"/>
                    <a:pt x="28" y="9"/>
                    <a:pt x="2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41560" y="5272200"/>
              <a:ext cx="63360" cy="457200"/>
            </a:xfrm>
            <a:custGeom>
              <a:avLst/>
              <a:gdLst/>
              <a:ahLst/>
              <a:rect l="l" t="t" r="r" b="b"/>
              <a:pathLst>
                <a:path w="50" h="408">
                  <a:moveTo>
                    <a:pt x="8" y="408"/>
                  </a:moveTo>
                  <a:cubicBezTo>
                    <a:pt x="29" y="383"/>
                    <a:pt x="50" y="359"/>
                    <a:pt x="50" y="336"/>
                  </a:cubicBezTo>
                  <a:cubicBezTo>
                    <a:pt x="50" y="313"/>
                    <a:pt x="10" y="292"/>
                    <a:pt x="8" y="270"/>
                  </a:cubicBezTo>
                  <a:cubicBezTo>
                    <a:pt x="6" y="248"/>
                    <a:pt x="39" y="226"/>
                    <a:pt x="38" y="204"/>
                  </a:cubicBezTo>
                  <a:cubicBezTo>
                    <a:pt x="37" y="182"/>
                    <a:pt x="4" y="165"/>
                    <a:pt x="2" y="138"/>
                  </a:cubicBezTo>
                  <a:cubicBezTo>
                    <a:pt x="0" y="111"/>
                    <a:pt x="22" y="65"/>
                    <a:pt x="26" y="42"/>
                  </a:cubicBezTo>
                  <a:cubicBezTo>
                    <a:pt x="30" y="19"/>
                    <a:pt x="28" y="9"/>
                    <a:pt x="2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94120" y="5272200"/>
              <a:ext cx="63360" cy="457200"/>
            </a:xfrm>
            <a:custGeom>
              <a:avLst/>
              <a:gdLst/>
              <a:ahLst/>
              <a:rect l="l" t="t" r="r" b="b"/>
              <a:pathLst>
                <a:path w="50" h="408">
                  <a:moveTo>
                    <a:pt x="8" y="408"/>
                  </a:moveTo>
                  <a:cubicBezTo>
                    <a:pt x="29" y="383"/>
                    <a:pt x="50" y="359"/>
                    <a:pt x="50" y="336"/>
                  </a:cubicBezTo>
                  <a:cubicBezTo>
                    <a:pt x="50" y="313"/>
                    <a:pt x="10" y="292"/>
                    <a:pt x="8" y="270"/>
                  </a:cubicBezTo>
                  <a:cubicBezTo>
                    <a:pt x="6" y="248"/>
                    <a:pt x="39" y="226"/>
                    <a:pt x="38" y="204"/>
                  </a:cubicBezTo>
                  <a:cubicBezTo>
                    <a:pt x="37" y="182"/>
                    <a:pt x="4" y="165"/>
                    <a:pt x="2" y="138"/>
                  </a:cubicBezTo>
                  <a:cubicBezTo>
                    <a:pt x="0" y="111"/>
                    <a:pt x="22" y="65"/>
                    <a:pt x="26" y="42"/>
                  </a:cubicBezTo>
                  <a:cubicBezTo>
                    <a:pt x="30" y="19"/>
                    <a:pt x="28" y="9"/>
                    <a:pt x="2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3000" y="5265720"/>
              <a:ext cx="63720" cy="457200"/>
            </a:xfrm>
            <a:custGeom>
              <a:avLst/>
              <a:gdLst/>
              <a:ahLst/>
              <a:rect l="l" t="t" r="r" b="b"/>
              <a:pathLst>
                <a:path w="50" h="408">
                  <a:moveTo>
                    <a:pt x="8" y="408"/>
                  </a:moveTo>
                  <a:cubicBezTo>
                    <a:pt x="29" y="383"/>
                    <a:pt x="50" y="359"/>
                    <a:pt x="50" y="336"/>
                  </a:cubicBezTo>
                  <a:cubicBezTo>
                    <a:pt x="50" y="313"/>
                    <a:pt x="10" y="292"/>
                    <a:pt x="8" y="270"/>
                  </a:cubicBezTo>
                  <a:cubicBezTo>
                    <a:pt x="6" y="248"/>
                    <a:pt x="39" y="226"/>
                    <a:pt x="38" y="204"/>
                  </a:cubicBezTo>
                  <a:cubicBezTo>
                    <a:pt x="37" y="182"/>
                    <a:pt x="4" y="165"/>
                    <a:pt x="2" y="138"/>
                  </a:cubicBezTo>
                  <a:cubicBezTo>
                    <a:pt x="0" y="111"/>
                    <a:pt x="22" y="65"/>
                    <a:pt x="26" y="42"/>
                  </a:cubicBezTo>
                  <a:cubicBezTo>
                    <a:pt x="30" y="19"/>
                    <a:pt x="28" y="9"/>
                    <a:pt x="2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21160" y="388800"/>
            <a:ext cx="41832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9080" y="412920"/>
            <a:ext cx="417528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1814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24400" y="406440"/>
            <a:ext cx="417996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21160" y="404640"/>
            <a:ext cx="41832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424400" y="407880"/>
            <a:ext cx="417996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2908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24400" y="406440"/>
            <a:ext cx="417996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22600" y="404640"/>
            <a:ext cx="41817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429080" y="412920"/>
            <a:ext cx="417528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15000" y="2306520"/>
            <a:ext cx="2819520" cy="1731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4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220000"/>
              </a:lnSpc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Draft Guidelin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84040" indent="-284040">
              <a:lnSpc>
                <a:spcPct val="220000"/>
              </a:lnSpc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Released – CAPSA 2007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84040" indent="-284040">
              <a:lnSpc>
                <a:spcPct val="220000"/>
              </a:lnSpc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DF format (CD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84040" indent="-284040">
              <a:lnSpc>
                <a:spcPct val="220000"/>
              </a:lnSpc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vailable from SABITA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84040" indent="-284040">
              <a:lnSpc>
                <a:spcPct val="220000"/>
              </a:lnSpc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Brief overview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84040" indent="0">
              <a:lnSpc>
                <a:spcPct val="2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19440" y="404640"/>
            <a:ext cx="42260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590400"/>
            <a:ext cx="7993080" cy="5653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17672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421160" y="404640"/>
            <a:ext cx="41832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21160" y="404640"/>
            <a:ext cx="41832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ANNEXUR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42908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ANNEXUR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2908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ANNEXUR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2908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ZA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74320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809880"/>
            <a:ext cx="8381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181480"/>
            <a:ext cx="8381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6400800"/>
            <a:ext cx="8381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676520"/>
            <a:ext cx="83059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0520"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908760" y="1295280"/>
            <a:ext cx="18399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79600" y="3808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907920"/>
            <a:ext cx="8305560" cy="44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indent="290520">
              <a:lnSpc>
                <a:spcPct val="180000"/>
              </a:lnSpc>
              <a:buClr>
                <a:srgbClr val="f8f8f8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Awareness workshops in regio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indent="290520">
              <a:lnSpc>
                <a:spcPct val="180000"/>
              </a:lnSpc>
              <a:buClr>
                <a:srgbClr val="f8f8f8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First: KZN – Tuesday 27 Nov 2007 (PMB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indent="290520">
              <a:lnSpc>
                <a:spcPct val="180000"/>
              </a:lnSpc>
              <a:buClr>
                <a:srgbClr val="f8f8f8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Second: Gauteng – End January 200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indent="290520">
              <a:lnSpc>
                <a:spcPct val="180000"/>
              </a:lnSpc>
              <a:buClr>
                <a:srgbClr val="f8f8f8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Need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480960">
              <a:lnSpc>
                <a:spcPct val="180000"/>
              </a:lnSpc>
              <a:buClr>
                <a:srgbClr val="f8f8f8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Feedback on draft guideli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480960">
              <a:lnSpc>
                <a:spcPct val="180000"/>
              </a:lnSpc>
              <a:buClr>
                <a:srgbClr val="f8f8f8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More projects in CSIR database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WSteyn@csir.co.za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ZA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74320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809880"/>
            <a:ext cx="8381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181480"/>
            <a:ext cx="8381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6400800"/>
            <a:ext cx="8381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676520"/>
            <a:ext cx="83059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0520"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1839960" cy="2514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2895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2971800" cy="209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5800" y="685800"/>
            <a:ext cx="1928880" cy="2747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rcRect l="5971" t="30690" r="61088" b="43928"/>
          <a:stretch/>
        </p:blipFill>
        <p:spPr>
          <a:xfrm>
            <a:off x="5181480" y="685800"/>
            <a:ext cx="3429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18284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1749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24400" y="396720"/>
            <a:ext cx="417996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176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21160" y="404640"/>
            <a:ext cx="41832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527040"/>
            <a:ext cx="81360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397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176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9:12:36Z</dcterms:created>
  <dc:creator>Philipj</dc:creator>
  <dc:description/>
  <dc:language>en-US</dc:language>
  <cp:lastModifiedBy>philipj</cp:lastModifiedBy>
  <dcterms:modified xsi:type="dcterms:W3CDTF">2007-11-21T06:05:13Z</dcterms:modified>
  <cp:revision>81</cp:revision>
  <dc:subject/>
  <dc:title>SEVENTH ROAD PAVEMENT FORUM 26 November 2003</dc:title>
</cp:coreProperties>
</file>