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B9B-6B7A-462A-B209-F4480A39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06D-FAAA-48E0-B99F-012604A1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3C3-AA14-4B75-9C01-C92349DF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C36-1B68-4492-9FD3-B1FE806E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43F-17C3-4C5D-BAB8-96D91D43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3E5-DA5C-474E-AF18-164CBB4A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80E-493D-4124-9FE0-14AE85B9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D1A-9483-410A-8AEC-FF900465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4F2-4346-41C6-8AF0-6ACAC5B4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9F7-32D8-415B-9771-1EC42AB6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97D-254F-4E32-A068-92C6B428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FF4-4C53-45FF-913C-47A26675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C9E2-2FAD-44FA-AD08-2D0219CE2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bita.co.za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11280" y="3124080"/>
            <a:ext cx="6913440" cy="14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ituminous Products Guidelines &amp; Documents</a:t>
            </a:r>
            <a:endParaRPr b="0" lang="en-US" sz="40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522936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evor Di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PF May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96240" y="-27000"/>
            <a:ext cx="2184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Videos to DVDs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formating videos onto DVD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VD 1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Bitumen test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Bitumen emulsion test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HMA test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Bitumen rubber test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VD 2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pairs &amp; maintenance of black top road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VD 3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Manufacture, paving &amp; compaction of HMA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93080" y="2852640"/>
            <a:ext cx="10429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ic copies of all manuals  available free of charge o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sabita.co.z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or students C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m is to partner with Road Authorities to assist with transfer of knowledge to new entr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seminate info through SAT &amp; AsA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ita committed to ensure documents reflect best practice so that we have a well informed indus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1033560" cy="1225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77920" y="260280"/>
            <a:ext cx="148572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st practice documents for design, construction &amp; maintenance of roads are in a state of obsolesc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cribed to loss/migration of skills from Public sec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 the basis of sound engineering practice aimed to optimise provision &amp; maintenance of our road net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ringboard for new entrants into the roads industry to benefit from decades of exper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Incisive action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response Sabita increased its investment in technology development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ensure the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ustainability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of the road building industry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stem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erosion of skills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from road authorities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ensure a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ell informed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bituminous products materials industry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Targeted outputs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pdating and production of new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bita manu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Ac manu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ndard test metho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ining videos to DVD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rd copy to electronic forma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Updating Sabita Manuals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ual 2 (2007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Bituminous binders for road construction &amp; maintenance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ual 5 (2008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Manufacture &amp; construction of HMA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ual 7 (2005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Warrants for surfacing gravel roads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ual 19 (2008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Design &amp; construction of BRA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ual 22 (2007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HMA paving in adverse weather</a:t>
            </a:r>
            <a:endParaRPr b="0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40600" y="4076640"/>
            <a:ext cx="1301760" cy="1944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28720" y="1981080"/>
            <a:ext cx="56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27640" y="2205000"/>
            <a:ext cx="12542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New Sabita Manuals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uals 25 (200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ality in the transportation of bituminous binder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ual 26 (2007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Guidelines for the priming &amp; stone precoating fluid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ual 27 (200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Construction and design of TLA for low volume road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17020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Proposed projects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ing REACT (economic analysis of short term rehabilitation) program from DOS to Windows for TRH 12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uidelines for the performance of binder distribu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uidelines for the use of RAP in H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&amp; use of slurry se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aling in win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AsAc publications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ing TG 1 (2007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Use of modified binders in road constructio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ing TG 2 (200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Bitumen stablised material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TG 3 (200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Asphalt reinforcement membranes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19840" y="1981080"/>
            <a:ext cx="3065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Standard test methods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ormating of asphalt test methods from TMH 1 to SANS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ment of test methods for certifying binder distribu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ormating TG 1 test methods for modified binders into SANS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4:48:05Z</dcterms:created>
  <dc:creator>linda lurie</dc:creator>
  <dc:description/>
  <dc:language>en-US</dc:language>
  <cp:lastModifiedBy>Trevor</cp:lastModifiedBy>
  <dcterms:modified xsi:type="dcterms:W3CDTF">2008-05-07T05:19:57Z</dcterms:modified>
  <cp:revision>17</cp:revision>
  <dc:subject/>
  <dc:title>PowerPoint Presentation</dc:title>
</cp:coreProperties>
</file>