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113-4616-470C-A4EE-5CA6279C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61E-33B5-4F78-89FE-D5F578EA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471-710D-4437-9BE3-E24CD153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211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43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211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43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D07-3E25-424C-B0AE-7AB06679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3DA-26FA-4724-AEB1-897AEE36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AD5D-7328-4107-A638-6FBAF22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423F-CB2D-467A-98DC-18BF700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C52-55D1-4C98-AEDB-6D85821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2A92-3110-4BF5-B9C8-8AF74BA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315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B9B3-B9E3-4ACA-82EA-7259823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E6EC-D881-4408-9C8A-F17F03B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EBF-F346-4A3B-A548-E8B8511C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8455-E798-4644-8C67-9807C4F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53E-E38C-4B19-A930-0582E42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CED9-1DDE-4BCE-A448-E24471FC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687-7EC6-4856-9085-53E8C0B8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11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43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11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43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76D7-B68A-478E-83DD-9018B11A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228-48D1-4A24-83AC-55A34FE8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357-F991-4CB9-8CB1-247A6F7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76B-7B49-47EB-A87B-2A095C1E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315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AB8-6781-44DF-939B-0B3F0A1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B75-ADDF-47B3-8064-9D810A1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64F-20CE-4F14-AD8F-31D154A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464-AAAA-4F74-B33F-9FD0DC4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160" y="64008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1BD-1346-499F-8289-1B171B80E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12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066680"/>
            <a:ext cx="1371600" cy="5791320"/>
          </a:xfrm>
          <a:prstGeom prst="rect">
            <a:avLst/>
          </a:prstGeom>
          <a:gradFill rotWithShape="0">
            <a:gsLst>
              <a:gs pos="0">
                <a:srgbClr val="614d3a"/>
              </a:gs>
              <a:gs pos="50000">
                <a:srgbClr val="d4a97e"/>
              </a:gs>
              <a:gs pos="100000">
                <a:srgbClr val="614d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5229360"/>
            <a:ext cx="83808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830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629-0F2C-41F5-9C1C-133AFB426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1916280"/>
            <a:ext cx="7451640" cy="1917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MATERIALS MANU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5445000"/>
            <a:ext cx="36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: JC van der W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BE9-2A6E-4D51-B32E-9D94E5BC9CF8}" type="slidenum">
              <a:t>1</a:t>
            </a:fld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br>
              <a:rPr sz="20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6676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e or rewrite the latest versions of the provisional and SANRAL manuals into a National Manual and to take cognisance of changes to material specification requirements and industry needs for the entire range of pavement materials, i.e. granular, cemented and asph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12536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F23-FE79-4E64-ADD6-44D0E489DB02}" type="slidenum">
              <a:t>2</a:t>
            </a:fld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TO DATE</a:t>
            </a:r>
            <a:br>
              <a:rPr sz="20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196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 a Task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tain the latest versions of the provincial materials man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roached various road authorities to obtain support for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pare a proposed framework for the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anual will be packaged in stand alone chap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sy identifying material specialists which can assist with the different chap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NRAL to fund the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12536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D14-B0F2-4703-B85E-E5DE94448908}" type="slidenum">
              <a:t>3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2924280"/>
            <a:ext cx="39960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nra.co.z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7C4-39C0-4F55-8871-523B9022973F}" type="slidenum">
              <a:t>4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0T19:27:00Z</dcterms:created>
  <dc:creator>Louw Kannemeyer</dc:creator>
  <dc:description/>
  <cp:keywords/>
  <dc:language>en-US</dc:language>
  <cp:lastModifiedBy>Lippertm</cp:lastModifiedBy>
  <dcterms:modified xsi:type="dcterms:W3CDTF">2007-11-19T08:49:26Z</dcterms:modified>
  <cp:revision>359</cp:revision>
  <dc:subject/>
  <dc:title>HDM-4</dc:title>
</cp:coreProperties>
</file>