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107-6AAD-4CE4-8C37-04200EFD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560-2592-4D1B-A109-021FA08B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83A-A188-4ACC-BA32-13DA4E75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5FF-C9DE-4AB0-AA7A-D46549E0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7A83-A9D0-4AF9-B042-58C46420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C099-4F9B-4425-8A22-C82A0147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784E-E428-4605-883F-B5F93AEB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4FD8-DCAC-4B86-A49E-861C2740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75A5-FEE3-465E-9292-4A221844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F6F5-0CA7-4EEF-8A3C-D5D3BA68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4348-2905-4091-B7F6-0778A3E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890-460F-44B0-93EF-0AB03E2F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069B-2EFD-43A8-A521-E1FCEEE3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DACD-EB68-4DC2-8800-F55A7B12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097D-3F02-4DF1-B064-F404A972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3295-A1AD-4502-BBD7-06402AB5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4219-4A11-40E3-B5DC-14AE5ECD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8879-4D97-4030-8A1D-E1BB4C1B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7132-B301-47B9-BE20-EFCCF135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5A33-5AEB-4662-8E98-7B89882D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86D2-DFE8-4FDE-9B67-A4069BE2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E6633-B873-4EFC-AA09-4C149FA9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811-8355-4E73-85C6-7AE139E3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AC48B-420C-4147-8C0D-0A9F794F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9188-A20A-48C7-95E3-2A553DED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B56D-D5F7-4945-B467-61683C94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334EC-5518-4FA5-B6DE-D8E15A99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149A5-21BC-4928-8494-B9020808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52E8A-5BAE-4483-8834-CC550E21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430B-2811-4B70-9990-1FF5077B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9908F-C56F-4459-8E6E-5114CCB4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86831-3709-43C5-A81F-4D7EB5C9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41395-18A9-4A31-B2E5-083F4656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B0E-E989-4C94-A891-C1988B5A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B09B7-9C92-49A6-AC43-FFA549E0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430AD-E3E6-460D-A38C-292FBBD3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39D9E-5B2D-4A26-9E90-13E83060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E9F93-5E31-45FA-835A-6DED77D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BFC30-F920-4F66-B1F0-129546A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38D90-D56C-43E6-B17E-35B5B26C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AB934-1D3C-41F6-9D28-8F7D0A70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A4158-ECE0-4594-B2FB-BEB4579A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930D4-93BD-4468-88BD-3321E86B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15B-3FD8-469C-AE88-5FEE9972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C4E-C5A3-46C3-9C29-9069B44B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686-C44C-48DA-AD9D-CAE88B36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779-0572-418B-9A06-57F37833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92B-0396-4625-9F78-D110FC72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53B1-F3DE-477B-9B47-6D59C027F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71A2-D5D7-4E85-B51B-33D9716C9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0201-0AB9-4882-8385-7C6049D005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EBA3-E808-411C-B75F-E5A0EA94F4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Technical Recommendations for Highways No 12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TRH 12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497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878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2006 – draft TRH12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1.3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avement “lif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1.4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 art of pavement rehabilitation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aging pavement rehabilitation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ommend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avement “end of life”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d of “optimal functionality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rvice will continue -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isk to road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fety consid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ad user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isk to road authority/ow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sts (maintenance &amp; reha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“art” of pavement rehabilitation desig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erception: relatively si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w risk of disastrous 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fessional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ck of 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“art” of pavement rehabilitation desig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act : complex structu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vement engineer – optimal (cost effective) desig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terials (various types, large variabil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struction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isture control &amp; drain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aluation tests/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gn methods (applicabil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vironmental conditions &amp; infl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fe cycle cost comparison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“ 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forensic investigatio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-3777480" y="199080"/>
            <a:ext cx="12921120" cy="5966640"/>
            <a:chOff x="-3777480" y="199080"/>
            <a:chExt cx="12921120" cy="5966640"/>
          </a:xfrm>
        </p:grpSpPr>
        <p:sp>
          <p:nvSpPr>
            <p:cNvPr id="265" name=""/>
            <p:cNvSpPr/>
            <p:nvPr/>
          </p:nvSpPr>
          <p:spPr>
            <a:xfrm>
              <a:off x="1987200" y="199080"/>
              <a:ext cx="5765040" cy="357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7200" y="398160"/>
              <a:ext cx="5765040" cy="357948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3600" y="4175640"/>
              <a:ext cx="1391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ptimal desig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56440" y="4175640"/>
              <a:ext cx="19872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nservative desig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52600" y="3976560"/>
              <a:ext cx="0" cy="19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52600" y="397656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87200" y="3976560"/>
              <a:ext cx="0" cy="19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7200" y="397656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76200" y="4175640"/>
              <a:ext cx="1787760" cy="398160"/>
            </a:xfrm>
            <a:prstGeom prst="rightArrow">
              <a:avLst>
                <a:gd name="adj1" fmla="val 50000"/>
                <a:gd name="adj2" fmla="val 1122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988280"/>
              <a:ext cx="1589760" cy="11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crease in r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3040" y="1392120"/>
              <a:ext cx="447480" cy="1698120"/>
            </a:xfrm>
            <a:prstGeom prst="upArrow">
              <a:avLst>
                <a:gd name="adj1" fmla="val 50000"/>
                <a:gd name="adj2" fmla="val 9487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87200" y="2187360"/>
              <a:ext cx="57650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9200" y="1789200"/>
              <a:ext cx="2186640" cy="395640"/>
            </a:xfrm>
            <a:prstGeom prst="rect">
              <a:avLst/>
            </a:prstGeom>
            <a:solidFill>
              <a:srgbClr val="0101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cceptable r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3777480" y="2187360"/>
              <a:ext cx="11529360" cy="397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3776760" y="2187360"/>
              <a:ext cx="11527920" cy="358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61" y="1"/>
                  </a:moveTo>
                  <a:arcTo wR="10800" hR="10800" stAng="-5348784" swAng="4951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61" y="1"/>
                  </a:moveTo>
                  <a:arcTo wR="10800" hR="10800" stAng="-5348784" swAng="4951358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3774960" y="1591200"/>
              <a:ext cx="11524320" cy="358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-3774960" y="398160"/>
              <a:ext cx="11524320" cy="358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9405200">
              <a:off x="2782800" y="2188080"/>
              <a:ext cx="2982240" cy="397800"/>
            </a:xfrm>
            <a:prstGeom prst="leftArrow">
              <a:avLst>
                <a:gd name="adj1" fmla="val 50000"/>
                <a:gd name="adj2" fmla="val 18742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0" y="993960"/>
              <a:ext cx="2782800" cy="39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crease in experti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89200" y="4971960"/>
              <a:ext cx="6360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crease in rehabilitatio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nstruction cos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7800" y="597240"/>
              <a:ext cx="13910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igh r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5800" y="3379320"/>
              <a:ext cx="13910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ow r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1519560" y="97560"/>
            <a:ext cx="7624440" cy="6368760"/>
            <a:chOff x="1519560" y="97560"/>
            <a:chExt cx="7624440" cy="6368760"/>
          </a:xfrm>
        </p:grpSpPr>
        <p:sp>
          <p:nvSpPr>
            <p:cNvPr id="288" name=""/>
            <p:cNvSpPr/>
            <p:nvPr/>
          </p:nvSpPr>
          <p:spPr>
            <a:xfrm>
              <a:off x="1995840" y="2449080"/>
              <a:ext cx="2859120" cy="6854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SIDER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CTION 2.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08240" y="489600"/>
              <a:ext cx="2700360" cy="78480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imes New Roman"/>
                </a:rPr>
                <a:t>Commission project level rehabilitation investigation and design 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5840" y="3723120"/>
              <a:ext cx="2859120" cy="68544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CIAL/ENVIRONMENT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SIDER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CTION 2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95840" y="4996800"/>
              <a:ext cx="2859120" cy="6858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ACTICAL &amp; FUNCTIO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SIDER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CTION 2.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67000" y="2840760"/>
              <a:ext cx="25416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SSESS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CTION 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67000" y="4311000"/>
              <a:ext cx="2541600" cy="686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HABILITATION DESIG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CTION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67000" y="5780520"/>
              <a:ext cx="2541600" cy="685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FE CYCLE CO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ARIS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CTION 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19560" y="97560"/>
              <a:ext cx="2859120" cy="6858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NETWORK LEVEL INVESTIGATIONS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OAD MANAGEMENT SYSTEM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19560" y="1567800"/>
              <a:ext cx="2859120" cy="48888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99"/>
                  </a:solidFill>
                  <a:latin typeface="Times New Roman"/>
                </a:rPr>
                <a:t>PROJECT LEVEL INVESTIG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43640" y="1567800"/>
              <a:ext cx="1429560" cy="48960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TRH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78680" y="1763280"/>
              <a:ext cx="206496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73200" y="1763280"/>
              <a:ext cx="127080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79040" y="127368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79040" y="2057400"/>
              <a:ext cx="0" cy="78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79040" y="3526920"/>
              <a:ext cx="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79040" y="4996800"/>
              <a:ext cx="0" cy="78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54960" y="2743200"/>
              <a:ext cx="1111680" cy="48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54960" y="4016880"/>
              <a:ext cx="1111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854960" y="4702680"/>
              <a:ext cx="1111680" cy="58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854960" y="3232800"/>
              <a:ext cx="1111680" cy="205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854960" y="3232800"/>
              <a:ext cx="111168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54960" y="2743200"/>
              <a:ext cx="1111680" cy="19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45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Section 2: Non pavement related aspects influencing rehabilitation desig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70000" y="256536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 consid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2.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ocial and environmental consid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abour int; OH&amp;S; E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al &amp; function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2.5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heck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rcRect l="0" t="8496" r="0" b="27749"/>
          <a:stretch/>
        </p:blipFill>
        <p:spPr>
          <a:xfrm>
            <a:off x="1042920" y="0"/>
            <a:ext cx="785016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cal Recommendations for Highways No 12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H 12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18960" y="2361960"/>
            <a:ext cx="7600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8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83 –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raf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RH 12: Bituminous    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pavement rehabilitation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83              1989           19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90 –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raft TRH12: Flexible pavement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rehabilitation investigation and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design -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19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4114800"/>
            <a:ext cx="762120" cy="304920"/>
          </a:xfrm>
          <a:custGeom>
            <a:avLst/>
            <a:gdLst>
              <a:gd name="textAreaLeft" fmla="*/ 118800 w 762120"/>
              <a:gd name="textAreaRight" fmla="*/ 66708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51460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4191120"/>
            <a:ext cx="762120" cy="304560"/>
          </a:xfrm>
          <a:custGeom>
            <a:avLst/>
            <a:gdLst>
              <a:gd name="textAreaLeft" fmla="*/ 118800 w 762120"/>
              <a:gd name="textAreaRight" fmla="*/ 667080 w 7621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4191120"/>
            <a:ext cx="761760" cy="304560"/>
          </a:xfrm>
          <a:custGeom>
            <a:avLst/>
            <a:gdLst>
              <a:gd name="textAreaLeft" fmla="*/ 118800 w 761760"/>
              <a:gd name="textAreaRight" fmla="*/ 666720 w 761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rcRect l="0" t="7411" r="0" b="28177"/>
          <a:stretch/>
        </p:blipFill>
        <p:spPr>
          <a:xfrm>
            <a:off x="1116000" y="0"/>
            <a:ext cx="77770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rcRect l="0" t="8749" r="0" b="14439"/>
          <a:stretch/>
        </p:blipFill>
        <p:spPr>
          <a:xfrm>
            <a:off x="1042920" y="0"/>
            <a:ext cx="64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rcRect l="0" t="8496" r="0" b="14085"/>
          <a:stretch/>
        </p:blipFill>
        <p:spPr>
          <a:xfrm>
            <a:off x="1116000" y="0"/>
            <a:ext cx="644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rcRect l="0" t="9982" r="0" b="26833"/>
          <a:stretch/>
        </p:blipFill>
        <p:spPr>
          <a:xfrm>
            <a:off x="1116000" y="189000"/>
            <a:ext cx="777708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rcRect l="0" t="15493" r="13826" b="27496"/>
          <a:stretch/>
        </p:blipFill>
        <p:spPr>
          <a:xfrm>
            <a:off x="1042920" y="0"/>
            <a:ext cx="74898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rcRect l="0" t="23009" r="0" b="12818"/>
          <a:stretch/>
        </p:blipFill>
        <p:spPr>
          <a:xfrm>
            <a:off x="97164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0" t="8496" r="0" b="26027"/>
          <a:stretch/>
        </p:blipFill>
        <p:spPr>
          <a:xfrm>
            <a:off x="1116000" y="-139680"/>
            <a:ext cx="777240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vement surveillanc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Input data sensiti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ahoma"/>
              </a:rPr>
              <a:t>type of measur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frequency - accurac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3059" t="9876" r="9902" b="4858"/>
          <a:stretch/>
        </p:blipFill>
        <p:spPr>
          <a:xfrm>
            <a:off x="0" y="3789360"/>
            <a:ext cx="2843280" cy="2136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rcRect l="6084" t="5699" r="7997" b="9496"/>
          <a:stretch/>
        </p:blipFill>
        <p:spPr>
          <a:xfrm>
            <a:off x="6191280" y="3860640"/>
            <a:ext cx="2952720" cy="21974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rcRect l="10628" t="6002" r="16150" b="18701"/>
          <a:stretch/>
        </p:blipFill>
        <p:spPr>
          <a:xfrm>
            <a:off x="3348000" y="4869000"/>
            <a:ext cx="2592360" cy="17110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403280" y="5950080"/>
            <a:ext cx="2448000" cy="431640"/>
          </a:xfrm>
          <a:custGeom>
            <a:avLst/>
            <a:gdLst>
              <a:gd name="textAreaLeft" fmla="*/ 428400 w 2448000"/>
              <a:gd name="textAreaRight" fmla="*/ 1774800 w 2448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4076640"/>
            <a:ext cx="2376360" cy="792360"/>
          </a:xfrm>
          <a:custGeom>
            <a:avLst/>
            <a:gdLst>
              <a:gd name="textAreaLeft" fmla="*/ 415800 w 2376360"/>
              <a:gd name="textAreaRight" fmla="*/ 1722960 w 237636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83 </a:t>
            </a:r>
            <a:br>
              <a:rPr sz="4400"/>
            </a:br>
            <a:r>
              <a:rPr b="0" lang="en-US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raf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RH 12: bituminous         </a:t>
            </a:r>
            <a:r>
              <a:rPr b="0" lang="en-US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vement rehabilitation desig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3276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itial assess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tailed assess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habilitation 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rcRect l="0" t="16164" r="14766" b="27244"/>
          <a:stretch/>
        </p:blipFill>
        <p:spPr>
          <a:xfrm>
            <a:off x="1042920" y="0"/>
            <a:ext cx="74898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Traffic load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uide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tailed load surv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stimates – traffic volu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dated E80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80 growth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ample – sensitivity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16000" y="60120"/>
            <a:ext cx="1229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0080"/>
                <a:tab algn="l" pos="1114560"/>
                <a:tab algn="l" pos="1384200"/>
                <a:tab algn="l" pos="1654200"/>
                <a:tab algn="l" pos="1924200"/>
                <a:tab algn="l" pos="2193840"/>
                <a:tab algn="l" pos="2463840"/>
                <a:tab algn="l" pos="2733840"/>
                <a:tab algn="l" pos="3003480"/>
                <a:tab algn="l" pos="3273480"/>
                <a:tab algn="l" pos="3544920"/>
                <a:tab algn="l" pos="3813120"/>
                <a:tab algn="l" pos="4083120"/>
                <a:tab algn="l" pos="4352760"/>
                <a:tab algn="l" pos="4624560"/>
                <a:tab algn="l" pos="4894200"/>
                <a:tab algn="l" pos="5164200"/>
                <a:tab algn="l" pos="5433840"/>
                <a:tab algn="l" pos="5703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ABLE 3.9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Bold"/>
                <a:ea typeface="Times New Roman"/>
              </a:rPr>
              <a:t>63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 E80 factors for differ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0080"/>
                <a:tab algn="l" pos="1114560"/>
                <a:tab algn="l" pos="1384200"/>
                <a:tab algn="l" pos="1654200"/>
                <a:tab algn="l" pos="1924200"/>
                <a:tab algn="l" pos="2193840"/>
                <a:tab algn="l" pos="2463840"/>
                <a:tab algn="l" pos="2733840"/>
                <a:tab algn="l" pos="3003480"/>
                <a:tab algn="l" pos="3273480"/>
                <a:tab algn="l" pos="3544920"/>
                <a:tab algn="l" pos="3813120"/>
                <a:tab algn="l" pos="4083120"/>
                <a:tab algn="l" pos="4352760"/>
                <a:tab algn="l" pos="4624560"/>
                <a:tab algn="l" pos="4894200"/>
                <a:tab algn="l" pos="5164200"/>
                <a:tab algn="l" pos="5433840"/>
                <a:tab algn="l" pos="5703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avy vehicle grou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0080"/>
                <a:tab algn="l" pos="1114560"/>
                <a:tab algn="l" pos="1384200"/>
                <a:tab algn="l" pos="1654200"/>
                <a:tab algn="l" pos="1924200"/>
                <a:tab algn="l" pos="2193840"/>
                <a:tab algn="l" pos="2463840"/>
                <a:tab algn="l" pos="2733840"/>
                <a:tab algn="l" pos="3003480"/>
                <a:tab algn="l" pos="3273480"/>
                <a:tab algn="l" pos="3544920"/>
                <a:tab algn="l" pos="3813120"/>
                <a:tab algn="l" pos="4083120"/>
                <a:tab algn="l" pos="4352760"/>
                <a:tab algn="l" pos="4624560"/>
                <a:tab algn="l" pos="4894200"/>
                <a:tab algn="l" pos="5164200"/>
                <a:tab algn="l" pos="5433840"/>
                <a:tab algn="l" pos="5703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58920" y="1413000"/>
          <a:ext cx="7885080" cy="5292720"/>
        </p:xfrm>
        <a:graphic>
          <a:graphicData uri="http://schemas.openxmlformats.org/drawingml/2006/table">
            <a:tbl>
              <a:tblPr/>
              <a:tblGrid>
                <a:gridCol w="1643040"/>
                <a:gridCol w="657360"/>
                <a:gridCol w="657000"/>
                <a:gridCol w="738360"/>
                <a:gridCol w="657000"/>
                <a:gridCol w="739800"/>
                <a:gridCol w="657360"/>
                <a:gridCol w="738000"/>
                <a:gridCol w="657360"/>
                <a:gridCol w="739800"/>
              </a:tblGrid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HEAVY VEHICLE 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TRH 16 (199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SATCC (199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CTO ST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(1986-2002) HSWIM</a:t>
                      </a:r>
                      <a:r>
                        <a:rPr b="1" lang="en-GB" sz="2000" spc="-1" strike="noStrike" baseline="30000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#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M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M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M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2 + 3 Ax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&gt;3 Ax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3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5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3.7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7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(2 axle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1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(3+4 axle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3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(&gt;4 axle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4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6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4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0080"/>
                          <a:tab algn="l" pos="1114560"/>
                          <a:tab algn="l" pos="1384200"/>
                          <a:tab algn="l" pos="1654200"/>
                          <a:tab algn="l" pos="1924200"/>
                          <a:tab algn="l" pos="2193840"/>
                          <a:tab algn="l" pos="2463840"/>
                          <a:tab algn="l" pos="2733840"/>
                          <a:tab algn="l" pos="3003480"/>
                          <a:tab algn="l" pos="3273480"/>
                          <a:tab algn="l" pos="3544920"/>
                          <a:tab algn="l" pos="3813120"/>
                          <a:tab algn="l" pos="4083120"/>
                          <a:tab algn="l" pos="4352760"/>
                          <a:tab algn="l" pos="4624560"/>
                          <a:tab algn="l" pos="4894200"/>
                          <a:tab algn="l" pos="5164200"/>
                          <a:tab algn="l" pos="5433840"/>
                          <a:tab algn="l" pos="5703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1f1"/>
                          </a:solidFill>
                          <a:latin typeface="Arial"/>
                          <a:ea typeface="Times New Roman"/>
                        </a:rPr>
                        <a:t>5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830960" y="4882680"/>
            <a:ext cx="4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0080"/>
                <a:tab algn="l" pos="1114560"/>
                <a:tab algn="l" pos="1384200"/>
                <a:tab algn="l" pos="1654200"/>
                <a:tab algn="l" pos="1924200"/>
                <a:tab algn="l" pos="2193840"/>
                <a:tab algn="l" pos="2463840"/>
                <a:tab algn="l" pos="2733840"/>
                <a:tab algn="l" pos="3003480"/>
                <a:tab algn="l" pos="3273480"/>
                <a:tab algn="l" pos="3544920"/>
                <a:tab algn="l" pos="3813120"/>
                <a:tab algn="l" pos="4083120"/>
                <a:tab algn="l" pos="4352760"/>
                <a:tab algn="l" pos="4624560"/>
                <a:tab algn="l" pos="4894200"/>
                <a:tab algn="l" pos="5164200"/>
                <a:tab algn="l" pos="5433840"/>
                <a:tab algn="l" pos="5703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Low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Processing of dat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Facilitate objectives of the initial 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dentify uniform pavement s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fferences i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sual condition  (S – W –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rviceability  (S – W –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ructural integ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ilitate the identification of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ively “poor “ s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ively “average” s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ively “good” s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Relative to past traffic lo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0" y="414360"/>
            <a:ext cx="9143640" cy="3848400"/>
            <a:chOff x="0" y="414360"/>
            <a:chExt cx="9143640" cy="3848400"/>
          </a:xfrm>
        </p:grpSpPr>
        <p:sp>
          <p:nvSpPr>
            <p:cNvPr id="341" name=""/>
            <p:cNvSpPr/>
            <p:nvPr/>
          </p:nvSpPr>
          <p:spPr>
            <a:xfrm>
              <a:off x="0" y="875880"/>
              <a:ext cx="183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69560" y="3030840"/>
              <a:ext cx="0" cy="46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863240" y="3339000"/>
              <a:ext cx="389160" cy="154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25120" y="1029960"/>
              <a:ext cx="2918520" cy="29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µ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me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σ = standard  devi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, Y = percentile valu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α = percentage of dat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5" name=""/>
            <p:cNvGraphicFramePr/>
            <p:nvPr/>
          </p:nvGraphicFramePr>
          <p:xfrm>
            <a:off x="389160" y="568440"/>
            <a:ext cx="4863600" cy="256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9160" y="568440"/>
                      <a:ext cx="4863600" cy="256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"/>
            <p:cNvSpPr/>
            <p:nvPr/>
          </p:nvSpPr>
          <p:spPr>
            <a:xfrm>
              <a:off x="778320" y="1184040"/>
              <a:ext cx="4085280" cy="18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07680" y="1338120"/>
              <a:ext cx="0" cy="15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34240" y="1338120"/>
              <a:ext cx="0" cy="15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40200" y="2876760"/>
              <a:ext cx="389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12560" y="2876760"/>
              <a:ext cx="389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8320" y="875880"/>
              <a:ext cx="778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07680" y="414360"/>
              <a:ext cx="77616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80040" y="1645560"/>
              <a:ext cx="777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67480" y="1338120"/>
              <a:ext cx="777240" cy="10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695400" y="1953720"/>
              <a:ext cx="584280" cy="46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529000" y="721800"/>
              <a:ext cx="972360" cy="61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112200" y="721800"/>
              <a:ext cx="389160" cy="61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67480" y="3646440"/>
              <a:ext cx="777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α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40200" y="3646440"/>
              <a:ext cx="777240" cy="6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α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07680" y="3646440"/>
              <a:ext cx="77616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α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50680" y="3646440"/>
              <a:ext cx="5832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23400" y="3646440"/>
              <a:ext cx="5842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 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µ + 0.45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µ - 0.45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rcRect l="0" t="8082" r="0" b="35325"/>
          <a:stretch/>
        </p:blipFill>
        <p:spPr>
          <a:xfrm>
            <a:off x="324000" y="0"/>
            <a:ext cx="8820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dentification of uniform sec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built &amp; hi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sual cond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rveillance measu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rcRect l="0" t="8964" r="11088" b="45294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dentification of uniform sec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Surveillance measure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usu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ized Cus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bination of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0 &amp;1997</a:t>
            </a:r>
            <a:br>
              <a:rPr sz="4400"/>
            </a:br>
            <a:r>
              <a:rPr b="0" lang="en-US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raf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RH 12: flexible pavement rehabilitation investigation and desig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2997000"/>
            <a:ext cx="77724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anagerial inp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ndition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itial assessment (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valuation criter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tailed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habilitation design –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pplicability - refer to detailed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actical and functional asp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conomic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rmalized cusu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741708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Detailed assessment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70000" y="256536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use and mechanism of distr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vement situation of each uniform pavement s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rcRect l="0" t="7051" r="0" b="13512"/>
          <a:stretch/>
        </p:blipFill>
        <p:spPr>
          <a:xfrm>
            <a:off x="1116000" y="0"/>
            <a:ext cx="62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rcRect l="0" t="16271" r="0" b="22106"/>
          <a:stretch/>
        </p:blipFill>
        <p:spPr>
          <a:xfrm>
            <a:off x="1116000" y="0"/>
            <a:ext cx="8028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nd of detailed assessm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l details of each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now what is w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now cause and mechanism of di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dentified applicable rehab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ed with desig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27640" y="4437000"/>
            <a:ext cx="93636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rcRect l="0" t="9187" r="10125" b="12586"/>
          <a:stretch/>
        </p:blipFill>
        <p:spPr>
          <a:xfrm>
            <a:off x="104292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Rehabilitation options &amp; design approach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256536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plic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vantages/limitations/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ign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f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chan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042920" y="692280"/>
            <a:ext cx="7345440" cy="525600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7011360" y="4084920"/>
            <a:ext cx="33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s of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48360" y="6165720"/>
            <a:ext cx="1655640" cy="360360"/>
          </a:xfrm>
          <a:prstGeom prst="rightArrow">
            <a:avLst>
              <a:gd name="adj1" fmla="val 50000"/>
              <a:gd name="adj2" fmla="val 11486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2827800" y="-1635840"/>
            <a:ext cx="6069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fidence and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2576880" y="4487040"/>
            <a:ext cx="6069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vel of sophist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9640" y="476280"/>
            <a:ext cx="360360" cy="1440000"/>
          </a:xfrm>
          <a:prstGeom prst="upArrow">
            <a:avLst>
              <a:gd name="adj1" fmla="val 50000"/>
              <a:gd name="adj2" fmla="val 999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532720" y="620640"/>
            <a:ext cx="325440" cy="1368360"/>
          </a:xfrm>
          <a:prstGeom prst="upArrow">
            <a:avLst>
              <a:gd name="adj1" fmla="val 50000"/>
              <a:gd name="adj2" fmla="val 1051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-1355040" y="373932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vel of expertise requir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76720" y="18900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042920" y="691200"/>
            <a:ext cx="3097440" cy="287964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16000" y="765000"/>
            <a:ext cx="165564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prac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5112360" y="2672280"/>
            <a:ext cx="3241800" cy="331308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27640" y="4797360"/>
            <a:ext cx="194472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b/c rat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too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80000" y="836640"/>
            <a:ext cx="2448000" cy="1015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Non- simpl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Mech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2924280"/>
            <a:ext cx="158436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Design cu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58920" y="4797360"/>
            <a:ext cx="172872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Behaviour catalo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84360" y="3860640"/>
            <a:ext cx="178920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Empirical/ theore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00720" y="1989000"/>
            <a:ext cx="158400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Design ch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8724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raf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RH 12: flexible pavement rehabilitation investigation and desig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2276640"/>
            <a:ext cx="7772400" cy="37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Latest revisio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4 – Need identified – RMC of CO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2 July 2004 – Symposium in Cape t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feedback from industry/role p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 Nov 2004 – Workshop at Gautr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7 Jan 2005 – Needs list of all inputs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rcRect l="0" t="10531" r="0" b="22221"/>
          <a:stretch/>
        </p:blipFill>
        <p:spPr>
          <a:xfrm>
            <a:off x="971640" y="0"/>
            <a:ext cx="74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Life-cycle cost comparis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PW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cy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ad user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ability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REACT to be incorpo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2006 TRH12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 + pages - to be short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kground to recommendations to be removed – use 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ffic loading = TRH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orporate typical document contents pages in line with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g Scoping  Report, IA Report, DA Report, 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8724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raf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RH 12: flexible pavement rehabilitation investigation and desig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70000" y="2276640"/>
            <a:ext cx="7772400" cy="37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NRAL fu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NRAL coordinate for R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ir – Mr JC van der Walt (SANR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ager - Mr R Lorio (SANR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mbers – Industry/Universities/private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rst meeting – 14 July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firm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8724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raf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RH 12: flexible pavement rehabilitation investigation and desig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0000" y="2276640"/>
            <a:ext cx="7772400" cy="37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op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lude new/improved knowled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itions &amp; back ground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nge tone – step by step &amp; check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guidelin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ype &amp; accuracy of information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tails on the use of inform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 &amp; photograp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yout of 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8724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raf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RH 12: revi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70000" y="2276640"/>
            <a:ext cx="7772400" cy="37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y comprehensive re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rst draft – 31 May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ittee Meeting  - 3 August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tailed workshop 12 &amp;13 Oct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878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draft TRH 12: Flexible pavement</a:t>
            </a:r>
            <a:r>
              <a:rPr b="0" lang="en-US" sz="80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investigation,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alysis </a:t>
            </a: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and rehabilitation design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2590560"/>
            <a:ext cx="7772400" cy="34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Non pavement related aspects influencing pavement rehabilitation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vement Condition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itial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tailed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habilitation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ptions and design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ife cycle cost compari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19:41:53Z</dcterms:created>
  <dc:creator>Jordaan</dc:creator>
  <dc:description/>
  <dc:language>en-US</dc:language>
  <cp:lastModifiedBy>Jordaan</cp:lastModifiedBy>
  <dcterms:modified xsi:type="dcterms:W3CDTF">2008-05-07T05:08:34Z</dcterms:modified>
  <cp:revision>28</cp:revision>
  <dc:subject/>
  <dc:title>PowerPoint Presentation</dc:title>
</cp:coreProperties>
</file>