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6F8-2FB0-4459-ACAB-F3682590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DF3-8B62-405B-A963-7B35B506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8ABD-CA6A-45B7-A031-B63D7F8D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C735-6C2D-4036-B334-871A6002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CD4A-8319-44BA-8208-CA6F823F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936-9AC5-40B6-9985-44910A4E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CE6-7260-4448-AFD3-96247809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884-913B-4998-A4B7-E072645E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D6C-F9B2-42E2-8D56-FBD7B91E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4275-A1C4-44DB-8D79-93463885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87D-93D4-437A-B00A-E76EA1BB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490-6F18-4CF4-A065-557D9535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D4A7-00F5-4F97-90E3-61FAC5C25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1280" y="3123720"/>
            <a:ext cx="862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edback on use of RAP in HMA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522936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evor Dis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PF November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% of RAP by HMA plant type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lant typ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tch pl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inuous parallel f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ithout centre feed ring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ith centre feed ring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inuous counter fl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in dru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uble barr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92360" y="1981080"/>
            <a:ext cx="3165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 RA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 3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&lt; 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&lt; 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4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6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6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Handling of RAP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One stockp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RAP from different sources comm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Fractiona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ot required when using &lt; 15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screen into -13.2mm + 6.7mm &amp; -6.7 mm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nimise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moisture cont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otherwise steam release becomes problem for extraction system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recovered binder penetrat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en using &gt; 20%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might have to use softer virgin bitumen grad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Key points to consider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Recycling only occurs when it is economic to do 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Increases in the cost of bitumen make it an economically viable op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We need to think of RAP as a valuable resource and not as a waste produ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RAP is more valuable than when it was originally placed after 20 years &amp; must be seen as an appreciating asset of the sta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05588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2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Key points to consider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We need to change the perception that HMA containing RAP is inferior to virgin mater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Limited pavements with thick HMA lay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Many HMA surfaces overlaid with modified  se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Comic Sans MS"/>
              </a:rPr>
              <a:t>Limited space available to store RAP under co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055880" cy="15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Best practice guideline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99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ARC 2007 review of the growth &amp; development of recycling in pavement constru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333399"/>
                </a:solidFill>
                <a:latin typeface="Comic Sans MS"/>
              </a:rPr>
              <a:t>the higher the re-use in the pavement structure the higher the cost benefit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stroads AP – T0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framework specification for asphalt recycling</a:t>
            </a: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RH 21: 1996 – Hot mix recycl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92360" y="4005360"/>
            <a:ext cx="2090520" cy="27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5292720" y="4078440"/>
          <a:ext cx="2060640" cy="266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92720" y="4078440"/>
                    <a:ext cx="206064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The use of RAP in HMA makes both economic and environmental sen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As an engineered product its use should be better optimised to improve cost efficiency of HM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HMA containing RAP should be designed, manufactured and placed so that the quality will not be inferior to that using virgin materi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Adopt global trend and increase use of RAP in HMA by making it a standard practice in South Afr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HMA manufacturers need to invest in plant and training of personnel to handle RA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2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2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Way forward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Establish suitable protocols for handling, stock pilling and adding RAP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Specifications should be developed for varying % of RAP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Low (up to 15% treat as black aggregate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Medium (between 15 - 30% by using softer bitumen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High (&gt;30% monitoring incoming RAP and special plant)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Start with low % until confidence levels attained in achieving consistent qu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Policy will need to drive this initiative until plant has been amortised then market will dictate most cost efficient % to be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2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4" dur="2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2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Proposal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ennis Rossmann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Joe Grobler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ric Lathlief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ine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erick Pretoriu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ony Lewi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3280" y="2276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MA manufactur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Bennie Greyling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Herman Marais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Wynand Nortje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Gary Catin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62864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m task team to develop best practice guidelines ie 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Progress since last RPF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olution passed that the industry should explore the use of RAP in HMA through SAT and CAP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T seminars held during July 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Cape Town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Durban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Pretoria</a:t>
            </a:r>
            <a:endParaRPr b="0" lang="en-US" sz="28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alty session held at CAPS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Seminar program</a:t>
            </a:r>
            <a:endParaRPr b="0" lang="en-US" sz="40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stainable practic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revor Dist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’s view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SANRAL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  Dennis Rossman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Provincial DoT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Rob Lindsay, Joe Grobler,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                   Mervin Henderso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Metro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    Krishna Naidoo, Mark Erntzen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ing constraints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Chris Lan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ineering risks      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ony Lewis &amp; Derick Pretori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-540" t="-541" r="-540" b="-541"/>
          <a:stretch/>
        </p:blipFill>
        <p:spPr>
          <a:xfrm>
            <a:off x="684360" y="476280"/>
            <a:ext cx="153648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cc3300"/>
                </a:solidFill>
                <a:latin typeface="Comic Sans MS"/>
              </a:rPr>
              <a:t>Specialty session program</a:t>
            </a:r>
            <a:endParaRPr b="0" lang="en-US" sz="40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stainable practic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Trevor Dist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tus of the use of RAP in H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United States of America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            Mike Acot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Europe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        Jurgen Sturm 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Australia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   Paul DeBritt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ent’s perspectiv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Dennis Rossman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ustry’s respons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Bennie Grey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343080"/>
            <a:ext cx="1201680" cy="128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Using RAP in HMA benefits society by: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554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reducing manufacturing costs for new HMA through savings i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bitumen usag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bitumen transport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bitumen heating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aggregate usage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mic Sans MS"/>
              </a:rPr>
              <a:t>aggregate heating</a:t>
            </a:r>
            <a:endParaRPr b="0" lang="en-US" sz="2000" spc="-1" strike="noStrike">
              <a:solidFill>
                <a:srgbClr val="333399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preserving non-renewal resources e.g.   aggregates &amp; bitum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future availability of raw materi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Comic Sans MS"/>
              </a:rPr>
              <a:t>saving in landfill spa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516720" y="2060640"/>
            <a:ext cx="2076480" cy="198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588000" y="4149720"/>
            <a:ext cx="202248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" dur="2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Economics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907920"/>
            <a:ext cx="68407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gin materi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Unit costs (R/t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9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tumen binder 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000(2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tumen transpor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tumen hea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ycled materi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 mil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 trans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 crush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Arial"/>
                <a:ea typeface="Arial"/>
              </a:rPr>
              <a:t>(not always an additional cost for the manufactur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Difference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99 (4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724280"/>
            <a:ext cx="7632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10% RAP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9.88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(R988k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20% RAP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19.75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(R1,975k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50% RAP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49.38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(R4,938k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(* cost savings on 100,000 tons of H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564000" y="2060640"/>
            <a:ext cx="2243160" cy="182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Use of RAP worldwide 2005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uth Afri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stral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herla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p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92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% RAP use in H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 5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4" name="Picture 27" descr="RAP unp "/>
          <p:cNvPicPr/>
          <p:nvPr/>
        </p:nvPicPr>
        <p:blipFill>
          <a:blip r:embed="rId1"/>
          <a:stretch/>
        </p:blipFill>
        <p:spPr>
          <a:xfrm>
            <a:off x="2987640" y="2565360"/>
            <a:ext cx="3024360" cy="27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Factors influencing % of RAP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% RAP in HMA will depend mainly 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ype of HMA pla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Quality of RA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uniformity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recovered penetration</a:t>
            </a:r>
            <a:endParaRPr b="0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14567" t="14304" r="1961" b="13239"/>
          <a:stretch/>
        </p:blipFill>
        <p:spPr>
          <a:xfrm>
            <a:off x="4427640" y="2217600"/>
            <a:ext cx="44956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of RAP in USA</a:t>
            </a:r>
            <a:endParaRPr b="0" lang="en-US" sz="4400" spc="-1" strike="noStrike">
              <a:solidFill>
                <a:srgbClr val="cc33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aring cou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inder cou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lym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%RAP in H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16360" y="3933720"/>
            <a:ext cx="3097080" cy="232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4:48:05Z</dcterms:created>
  <dc:creator>linda lurie</dc:creator>
  <dc:description/>
  <dc:language>en-US</dc:language>
  <cp:lastModifiedBy>Trevor</cp:lastModifiedBy>
  <dcterms:modified xsi:type="dcterms:W3CDTF">2007-11-20T13:45:26Z</dcterms:modified>
  <cp:revision>7</cp:revision>
  <dc:subject/>
  <dc:title>PowerPoint Presentation</dc:title>
</cp:coreProperties>
</file>