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12F2-B70F-4944-87E6-C7627BEC9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FE32-6D0F-4751-9EC6-52C86FF6F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A3A0-BCB7-4137-83B6-0988EBB32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C43C-A04C-43B9-9867-9945C7738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1DEC-AC78-4328-90C1-5C58E41D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435A-077E-48C8-B7EB-866E0FEE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BD1A-D611-4AC1-921F-73C1B07E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1783-2921-4E8E-8836-C263D5D26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873F-C0A9-4908-BF81-6063686A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21AA-D33D-486A-87E2-44102DF0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F587-54E2-4A57-AFAA-9A63F531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982C-A868-41E4-9CAB-87A68495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626e"/>
            </a:gs>
            <a:gs pos="100000">
              <a:srgbClr val="aed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496C-31AA-4CDA-A14C-B040037CE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626e"/>
            </a:gs>
            <a:gs pos="100000">
              <a:srgbClr val="aed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15</a:t>
            </a:r>
            <a:r>
              <a:rPr b="0" lang="en-US" sz="4400" spc="-1" strike="noStrike" baseline="30000">
                <a:solidFill>
                  <a:srgbClr val="3333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 RPF </a:t>
            </a:r>
            <a:br>
              <a:rPr sz="4400"/>
            </a:b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6 – 7 May 2008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test methods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 mix asphal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626e"/>
            </a:gs>
            <a:gs pos="100000">
              <a:srgbClr val="aed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D of hotmix speci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SA 07 - Tau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dentified a number of problems associated with current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12697-06 explicit on measurement of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626e"/>
            </a:gs>
            <a:gs pos="100000">
              <a:srgbClr val="aed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EN 12697-06 </a:t>
            </a:r>
            <a:br>
              <a:rPr sz="4000"/>
            </a:b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Volume determination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ex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nforma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neral guidance on selection of a test procedure to determine the bu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sity of compacted bituminous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626e"/>
            </a:gs>
            <a:gs pos="100000">
              <a:srgbClr val="aed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A.3 Guidance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 A: Bulk density − D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 B: Bulk density − S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 C: Bulk density − sealed speci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 D: Bulk density b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626e"/>
            </a:gs>
            <a:gs pos="100000">
              <a:srgbClr val="aed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Procedure A: Bulk density − Dry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ck, easy meth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dense, practically non-absorptive specime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t rolled asphalt (smooth specimen, relatively very fine pore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stic asph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626e"/>
            </a:gs>
            <a:gs pos="100000">
              <a:srgbClr val="aed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cedure B: Bulk density − SSD</a:t>
            </a:r>
            <a:br>
              <a:rPr sz="4000"/>
            </a:b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se-graded specimens - low water absorption level or a slow drainage of absorbed water. (if not – Procedure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 care should be taken in achieving the saturated, surface dried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cabl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halt concrete - % voids up to approx 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ne mastic asphalt - % voids up to approx 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626e"/>
            </a:gs>
            <a:gs pos="100000">
              <a:srgbClr val="aed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dure C: Bulk density − sealed specimen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for measuring the bulk density of bituminous specimens with air voids levels up to 15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rough surface texture, certain sealing materials (e.g. foils) cause observation of texture voids as internal specimen v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sealing materials (e. g. paraffin wax) might penetrate into the internal voids of the speci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626e"/>
            </a:gs>
            <a:gs pos="100000">
              <a:srgbClr val="aed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cedure D: Bulk density by dimensions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mens should have a regular surface and a geometric shap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itable for void contents greater than 1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ularly applicable to porous aspha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626e"/>
            </a:gs>
            <a:gs pos="100000">
              <a:srgbClr val="aed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Volumes measured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819000" y="2077920"/>
            <a:ext cx="2635560" cy="2845440"/>
            <a:chOff x="819000" y="2077920"/>
            <a:chExt cx="2635560" cy="2845440"/>
          </a:xfrm>
        </p:grpSpPr>
        <p:sp>
          <p:nvSpPr>
            <p:cNvPr id="76" name=""/>
            <p:cNvSpPr/>
            <p:nvPr/>
          </p:nvSpPr>
          <p:spPr>
            <a:xfrm>
              <a:off x="823680" y="2395440"/>
              <a:ext cx="1241280" cy="1260360"/>
            </a:xfrm>
            <a:custGeom>
              <a:avLst/>
              <a:gdLst/>
              <a:ahLst/>
              <a:rect l="l" t="t" r="r" b="b"/>
              <a:pathLst>
                <a:path w="782" h="794">
                  <a:moveTo>
                    <a:pt x="133" y="236"/>
                  </a:moveTo>
                  <a:cubicBezTo>
                    <a:pt x="91" y="309"/>
                    <a:pt x="130" y="260"/>
                    <a:pt x="98" y="298"/>
                  </a:cubicBezTo>
                  <a:cubicBezTo>
                    <a:pt x="96" y="341"/>
                    <a:pt x="55" y="361"/>
                    <a:pt x="37" y="400"/>
                  </a:cubicBezTo>
                  <a:cubicBezTo>
                    <a:pt x="35" y="444"/>
                    <a:pt x="0" y="437"/>
                    <a:pt x="9" y="483"/>
                  </a:cubicBezTo>
                  <a:cubicBezTo>
                    <a:pt x="22" y="552"/>
                    <a:pt x="39" y="567"/>
                    <a:pt x="82" y="639"/>
                  </a:cubicBezTo>
                  <a:lnTo>
                    <a:pt x="324" y="624"/>
                  </a:lnTo>
                  <a:cubicBezTo>
                    <a:pt x="403" y="633"/>
                    <a:pt x="396" y="624"/>
                    <a:pt x="440" y="668"/>
                  </a:cubicBezTo>
                  <a:cubicBezTo>
                    <a:pt x="461" y="698"/>
                    <a:pt x="506" y="794"/>
                    <a:pt x="566" y="786"/>
                  </a:cubicBezTo>
                  <a:cubicBezTo>
                    <a:pt x="589" y="783"/>
                    <a:pt x="610" y="769"/>
                    <a:pt x="633" y="762"/>
                  </a:cubicBezTo>
                  <a:cubicBezTo>
                    <a:pt x="654" y="748"/>
                    <a:pt x="676" y="735"/>
                    <a:pt x="695" y="718"/>
                  </a:cubicBezTo>
                  <a:cubicBezTo>
                    <a:pt x="710" y="703"/>
                    <a:pt x="709" y="667"/>
                    <a:pt x="718" y="648"/>
                  </a:cubicBezTo>
                  <a:cubicBezTo>
                    <a:pt x="716" y="641"/>
                    <a:pt x="713" y="634"/>
                    <a:pt x="713" y="627"/>
                  </a:cubicBezTo>
                  <a:cubicBezTo>
                    <a:pt x="712" y="602"/>
                    <a:pt x="711" y="579"/>
                    <a:pt x="711" y="555"/>
                  </a:cubicBezTo>
                  <a:cubicBezTo>
                    <a:pt x="710" y="538"/>
                    <a:pt x="703" y="517"/>
                    <a:pt x="714" y="505"/>
                  </a:cubicBezTo>
                  <a:cubicBezTo>
                    <a:pt x="719" y="500"/>
                    <a:pt x="723" y="494"/>
                    <a:pt x="728" y="488"/>
                  </a:cubicBezTo>
                  <a:cubicBezTo>
                    <a:pt x="718" y="456"/>
                    <a:pt x="719" y="440"/>
                    <a:pt x="728" y="407"/>
                  </a:cubicBezTo>
                  <a:cubicBezTo>
                    <a:pt x="722" y="378"/>
                    <a:pt x="729" y="361"/>
                    <a:pt x="742" y="335"/>
                  </a:cubicBezTo>
                  <a:cubicBezTo>
                    <a:pt x="744" y="297"/>
                    <a:pt x="752" y="264"/>
                    <a:pt x="768" y="231"/>
                  </a:cubicBezTo>
                  <a:cubicBezTo>
                    <a:pt x="769" y="222"/>
                    <a:pt x="767" y="214"/>
                    <a:pt x="769" y="205"/>
                  </a:cubicBezTo>
                  <a:cubicBezTo>
                    <a:pt x="771" y="197"/>
                    <a:pt x="782" y="191"/>
                    <a:pt x="780" y="183"/>
                  </a:cubicBezTo>
                  <a:cubicBezTo>
                    <a:pt x="775" y="155"/>
                    <a:pt x="755" y="131"/>
                    <a:pt x="750" y="104"/>
                  </a:cubicBezTo>
                  <a:cubicBezTo>
                    <a:pt x="735" y="97"/>
                    <a:pt x="721" y="87"/>
                    <a:pt x="704" y="82"/>
                  </a:cubicBezTo>
                  <a:cubicBezTo>
                    <a:pt x="685" y="78"/>
                    <a:pt x="659" y="98"/>
                    <a:pt x="652" y="63"/>
                  </a:cubicBezTo>
                  <a:cubicBezTo>
                    <a:pt x="646" y="29"/>
                    <a:pt x="625" y="40"/>
                    <a:pt x="595" y="34"/>
                  </a:cubicBezTo>
                  <a:cubicBezTo>
                    <a:pt x="506" y="17"/>
                    <a:pt x="568" y="22"/>
                    <a:pt x="513" y="18"/>
                  </a:cubicBezTo>
                  <a:cubicBezTo>
                    <a:pt x="485" y="6"/>
                    <a:pt x="473" y="16"/>
                    <a:pt x="444" y="11"/>
                  </a:cubicBezTo>
                  <a:cubicBezTo>
                    <a:pt x="421" y="8"/>
                    <a:pt x="414" y="0"/>
                    <a:pt x="390" y="3"/>
                  </a:cubicBezTo>
                  <a:cubicBezTo>
                    <a:pt x="356" y="7"/>
                    <a:pt x="335" y="17"/>
                    <a:pt x="301" y="15"/>
                  </a:cubicBezTo>
                  <a:cubicBezTo>
                    <a:pt x="248" y="63"/>
                    <a:pt x="274" y="55"/>
                    <a:pt x="267" y="68"/>
                  </a:cubicBezTo>
                  <a:cubicBezTo>
                    <a:pt x="261" y="81"/>
                    <a:pt x="225" y="107"/>
                    <a:pt x="221" y="112"/>
                  </a:cubicBezTo>
                  <a:cubicBezTo>
                    <a:pt x="211" y="122"/>
                    <a:pt x="192" y="145"/>
                    <a:pt x="192" y="145"/>
                  </a:cubicBezTo>
                  <a:cubicBezTo>
                    <a:pt x="178" y="166"/>
                    <a:pt x="149" y="211"/>
                    <a:pt x="133" y="236"/>
                  </a:cubicBezTo>
                  <a:close/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57160" y="3449520"/>
              <a:ext cx="1171440" cy="1193760"/>
            </a:xfrm>
            <a:custGeom>
              <a:avLst/>
              <a:gdLst/>
              <a:ahLst/>
              <a:rect l="l" t="t" r="r" b="b"/>
              <a:pathLst>
                <a:path w="738" h="752">
                  <a:moveTo>
                    <a:pt x="4" y="439"/>
                  </a:moveTo>
                  <a:cubicBezTo>
                    <a:pt x="4" y="523"/>
                    <a:pt x="13" y="461"/>
                    <a:pt x="5" y="510"/>
                  </a:cubicBezTo>
                  <a:cubicBezTo>
                    <a:pt x="25" y="548"/>
                    <a:pt x="0" y="586"/>
                    <a:pt x="3" y="629"/>
                  </a:cubicBezTo>
                  <a:cubicBezTo>
                    <a:pt x="24" y="668"/>
                    <a:pt x="45" y="664"/>
                    <a:pt x="75" y="699"/>
                  </a:cubicBezTo>
                  <a:cubicBezTo>
                    <a:pt x="122" y="752"/>
                    <a:pt x="120" y="711"/>
                    <a:pt x="168" y="707"/>
                  </a:cubicBezTo>
                  <a:lnTo>
                    <a:pt x="365" y="677"/>
                  </a:lnTo>
                  <a:cubicBezTo>
                    <a:pt x="437" y="645"/>
                    <a:pt x="427" y="640"/>
                    <a:pt x="487" y="656"/>
                  </a:cubicBezTo>
                  <a:cubicBezTo>
                    <a:pt x="520" y="671"/>
                    <a:pt x="608" y="731"/>
                    <a:pt x="656" y="694"/>
                  </a:cubicBezTo>
                  <a:cubicBezTo>
                    <a:pt x="674" y="679"/>
                    <a:pt x="685" y="657"/>
                    <a:pt x="702" y="639"/>
                  </a:cubicBezTo>
                  <a:cubicBezTo>
                    <a:pt x="712" y="616"/>
                    <a:pt x="724" y="594"/>
                    <a:pt x="732" y="569"/>
                  </a:cubicBezTo>
                  <a:cubicBezTo>
                    <a:pt x="738" y="548"/>
                    <a:pt x="719" y="519"/>
                    <a:pt x="716" y="498"/>
                  </a:cubicBezTo>
                  <a:cubicBezTo>
                    <a:pt x="711" y="493"/>
                    <a:pt x="705" y="488"/>
                    <a:pt x="701" y="482"/>
                  </a:cubicBezTo>
                  <a:cubicBezTo>
                    <a:pt x="689" y="461"/>
                    <a:pt x="676" y="441"/>
                    <a:pt x="663" y="421"/>
                  </a:cubicBezTo>
                  <a:cubicBezTo>
                    <a:pt x="655" y="407"/>
                    <a:pt x="637" y="393"/>
                    <a:pt x="641" y="376"/>
                  </a:cubicBezTo>
                  <a:cubicBezTo>
                    <a:pt x="642" y="369"/>
                    <a:pt x="643" y="362"/>
                    <a:pt x="645" y="355"/>
                  </a:cubicBezTo>
                  <a:cubicBezTo>
                    <a:pt x="620" y="332"/>
                    <a:pt x="612" y="318"/>
                    <a:pt x="603" y="285"/>
                  </a:cubicBezTo>
                  <a:cubicBezTo>
                    <a:pt x="583" y="263"/>
                    <a:pt x="581" y="244"/>
                    <a:pt x="578" y="216"/>
                  </a:cubicBezTo>
                  <a:cubicBezTo>
                    <a:pt x="561" y="182"/>
                    <a:pt x="531" y="198"/>
                    <a:pt x="528" y="161"/>
                  </a:cubicBezTo>
                  <a:cubicBezTo>
                    <a:pt x="501" y="128"/>
                    <a:pt x="449" y="31"/>
                    <a:pt x="418" y="17"/>
                  </a:cubicBezTo>
                  <a:cubicBezTo>
                    <a:pt x="399" y="22"/>
                    <a:pt x="387" y="53"/>
                    <a:pt x="364" y="27"/>
                  </a:cubicBezTo>
                  <a:cubicBezTo>
                    <a:pt x="341" y="0"/>
                    <a:pt x="329" y="20"/>
                    <a:pt x="300" y="31"/>
                  </a:cubicBezTo>
                  <a:cubicBezTo>
                    <a:pt x="214" y="61"/>
                    <a:pt x="270" y="34"/>
                    <a:pt x="221" y="59"/>
                  </a:cubicBezTo>
                  <a:cubicBezTo>
                    <a:pt x="190" y="62"/>
                    <a:pt x="185" y="77"/>
                    <a:pt x="158" y="87"/>
                  </a:cubicBezTo>
                  <a:cubicBezTo>
                    <a:pt x="136" y="96"/>
                    <a:pt x="127" y="93"/>
                    <a:pt x="107" y="107"/>
                  </a:cubicBezTo>
                  <a:cubicBezTo>
                    <a:pt x="80" y="129"/>
                    <a:pt x="67" y="148"/>
                    <a:pt x="37" y="163"/>
                  </a:cubicBezTo>
                  <a:cubicBezTo>
                    <a:pt x="15" y="231"/>
                    <a:pt x="33" y="211"/>
                    <a:pt x="34" y="226"/>
                  </a:cubicBezTo>
                  <a:cubicBezTo>
                    <a:pt x="35" y="240"/>
                    <a:pt x="18" y="281"/>
                    <a:pt x="17" y="287"/>
                  </a:cubicBezTo>
                  <a:cubicBezTo>
                    <a:pt x="13" y="301"/>
                    <a:pt x="9" y="330"/>
                    <a:pt x="9" y="330"/>
                  </a:cubicBezTo>
                  <a:cubicBezTo>
                    <a:pt x="6" y="355"/>
                    <a:pt x="4" y="409"/>
                    <a:pt x="4" y="439"/>
                  </a:cubicBezTo>
                  <a:close/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2857800">
              <a:off x="1852920" y="2364120"/>
              <a:ext cx="1344600" cy="1289160"/>
            </a:xfrm>
            <a:custGeom>
              <a:avLst/>
              <a:gdLst/>
              <a:ahLst/>
              <a:rect l="l" t="t" r="r" b="b"/>
              <a:pathLst>
                <a:path w="847" h="812">
                  <a:moveTo>
                    <a:pt x="250" y="104"/>
                  </a:moveTo>
                  <a:cubicBezTo>
                    <a:pt x="176" y="145"/>
                    <a:pt x="235" y="123"/>
                    <a:pt x="188" y="139"/>
                  </a:cubicBezTo>
                  <a:cubicBezTo>
                    <a:pt x="164" y="175"/>
                    <a:pt x="119" y="171"/>
                    <a:pt x="83" y="195"/>
                  </a:cubicBezTo>
                  <a:cubicBezTo>
                    <a:pt x="59" y="232"/>
                    <a:pt x="72" y="248"/>
                    <a:pt x="56" y="292"/>
                  </a:cubicBezTo>
                  <a:cubicBezTo>
                    <a:pt x="32" y="358"/>
                    <a:pt x="0" y="340"/>
                    <a:pt x="0" y="424"/>
                  </a:cubicBezTo>
                  <a:lnTo>
                    <a:pt x="215" y="535"/>
                  </a:lnTo>
                  <a:cubicBezTo>
                    <a:pt x="278" y="583"/>
                    <a:pt x="277" y="572"/>
                    <a:pt x="292" y="632"/>
                  </a:cubicBezTo>
                  <a:cubicBezTo>
                    <a:pt x="295" y="668"/>
                    <a:pt x="285" y="774"/>
                    <a:pt x="340" y="798"/>
                  </a:cubicBezTo>
                  <a:cubicBezTo>
                    <a:pt x="362" y="807"/>
                    <a:pt x="387" y="806"/>
                    <a:pt x="410" y="812"/>
                  </a:cubicBezTo>
                  <a:cubicBezTo>
                    <a:pt x="435" y="810"/>
                    <a:pt x="461" y="810"/>
                    <a:pt x="486" y="805"/>
                  </a:cubicBezTo>
                  <a:cubicBezTo>
                    <a:pt x="507" y="800"/>
                    <a:pt x="524" y="769"/>
                    <a:pt x="541" y="757"/>
                  </a:cubicBezTo>
                  <a:cubicBezTo>
                    <a:pt x="543" y="750"/>
                    <a:pt x="544" y="742"/>
                    <a:pt x="548" y="736"/>
                  </a:cubicBezTo>
                  <a:cubicBezTo>
                    <a:pt x="560" y="715"/>
                    <a:pt x="571" y="694"/>
                    <a:pt x="583" y="673"/>
                  </a:cubicBezTo>
                  <a:cubicBezTo>
                    <a:pt x="591" y="659"/>
                    <a:pt x="595" y="637"/>
                    <a:pt x="611" y="632"/>
                  </a:cubicBezTo>
                  <a:cubicBezTo>
                    <a:pt x="618" y="630"/>
                    <a:pt x="625" y="627"/>
                    <a:pt x="632" y="625"/>
                  </a:cubicBezTo>
                  <a:cubicBezTo>
                    <a:pt x="640" y="592"/>
                    <a:pt x="649" y="579"/>
                    <a:pt x="673" y="555"/>
                  </a:cubicBezTo>
                  <a:cubicBezTo>
                    <a:pt x="683" y="527"/>
                    <a:pt x="698" y="516"/>
                    <a:pt x="722" y="500"/>
                  </a:cubicBezTo>
                  <a:cubicBezTo>
                    <a:pt x="743" y="469"/>
                    <a:pt x="767" y="444"/>
                    <a:pt x="798" y="424"/>
                  </a:cubicBezTo>
                  <a:cubicBezTo>
                    <a:pt x="803" y="417"/>
                    <a:pt x="806" y="409"/>
                    <a:pt x="812" y="403"/>
                  </a:cubicBezTo>
                  <a:cubicBezTo>
                    <a:pt x="818" y="397"/>
                    <a:pt x="830" y="397"/>
                    <a:pt x="833" y="389"/>
                  </a:cubicBezTo>
                  <a:cubicBezTo>
                    <a:pt x="843" y="363"/>
                    <a:pt x="838" y="332"/>
                    <a:pt x="847" y="306"/>
                  </a:cubicBezTo>
                  <a:cubicBezTo>
                    <a:pt x="838" y="292"/>
                    <a:pt x="831" y="276"/>
                    <a:pt x="819" y="264"/>
                  </a:cubicBezTo>
                  <a:cubicBezTo>
                    <a:pt x="805" y="250"/>
                    <a:pt x="772" y="254"/>
                    <a:pt x="784" y="221"/>
                  </a:cubicBezTo>
                  <a:cubicBezTo>
                    <a:pt x="796" y="188"/>
                    <a:pt x="773" y="187"/>
                    <a:pt x="750" y="167"/>
                  </a:cubicBezTo>
                  <a:cubicBezTo>
                    <a:pt x="682" y="106"/>
                    <a:pt x="733" y="142"/>
                    <a:pt x="687" y="111"/>
                  </a:cubicBezTo>
                  <a:cubicBezTo>
                    <a:pt x="670" y="86"/>
                    <a:pt x="654" y="89"/>
                    <a:pt x="632" y="70"/>
                  </a:cubicBezTo>
                  <a:cubicBezTo>
                    <a:pt x="614" y="55"/>
                    <a:pt x="612" y="45"/>
                    <a:pt x="590" y="35"/>
                  </a:cubicBezTo>
                  <a:cubicBezTo>
                    <a:pt x="558" y="21"/>
                    <a:pt x="535" y="19"/>
                    <a:pt x="507" y="0"/>
                  </a:cubicBezTo>
                  <a:cubicBezTo>
                    <a:pt x="437" y="14"/>
                    <a:pt x="463" y="20"/>
                    <a:pt x="451" y="28"/>
                  </a:cubicBezTo>
                  <a:cubicBezTo>
                    <a:pt x="439" y="36"/>
                    <a:pt x="395" y="40"/>
                    <a:pt x="389" y="42"/>
                  </a:cubicBezTo>
                  <a:cubicBezTo>
                    <a:pt x="375" y="46"/>
                    <a:pt x="347" y="56"/>
                    <a:pt x="347" y="56"/>
                  </a:cubicBezTo>
                  <a:cubicBezTo>
                    <a:pt x="324" y="66"/>
                    <a:pt x="276" y="90"/>
                    <a:pt x="250" y="104"/>
                  </a:cubicBezTo>
                  <a:close/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587000">
              <a:off x="1774080" y="3402000"/>
              <a:ext cx="1344600" cy="1289160"/>
            </a:xfrm>
            <a:custGeom>
              <a:avLst/>
              <a:gdLst/>
              <a:ahLst/>
              <a:rect l="l" t="t" r="r" b="b"/>
              <a:pathLst>
                <a:path w="847" h="812">
                  <a:moveTo>
                    <a:pt x="250" y="104"/>
                  </a:moveTo>
                  <a:cubicBezTo>
                    <a:pt x="176" y="145"/>
                    <a:pt x="235" y="123"/>
                    <a:pt x="188" y="139"/>
                  </a:cubicBezTo>
                  <a:cubicBezTo>
                    <a:pt x="164" y="175"/>
                    <a:pt x="119" y="171"/>
                    <a:pt x="83" y="195"/>
                  </a:cubicBezTo>
                  <a:cubicBezTo>
                    <a:pt x="59" y="232"/>
                    <a:pt x="72" y="248"/>
                    <a:pt x="56" y="292"/>
                  </a:cubicBezTo>
                  <a:cubicBezTo>
                    <a:pt x="32" y="358"/>
                    <a:pt x="0" y="340"/>
                    <a:pt x="0" y="424"/>
                  </a:cubicBezTo>
                  <a:lnTo>
                    <a:pt x="215" y="535"/>
                  </a:lnTo>
                  <a:cubicBezTo>
                    <a:pt x="278" y="583"/>
                    <a:pt x="277" y="572"/>
                    <a:pt x="292" y="632"/>
                  </a:cubicBezTo>
                  <a:cubicBezTo>
                    <a:pt x="295" y="668"/>
                    <a:pt x="285" y="774"/>
                    <a:pt x="340" y="798"/>
                  </a:cubicBezTo>
                  <a:cubicBezTo>
                    <a:pt x="362" y="807"/>
                    <a:pt x="387" y="806"/>
                    <a:pt x="410" y="812"/>
                  </a:cubicBezTo>
                  <a:cubicBezTo>
                    <a:pt x="435" y="810"/>
                    <a:pt x="461" y="810"/>
                    <a:pt x="486" y="805"/>
                  </a:cubicBezTo>
                  <a:cubicBezTo>
                    <a:pt x="507" y="800"/>
                    <a:pt x="524" y="769"/>
                    <a:pt x="541" y="757"/>
                  </a:cubicBezTo>
                  <a:cubicBezTo>
                    <a:pt x="543" y="750"/>
                    <a:pt x="544" y="742"/>
                    <a:pt x="548" y="736"/>
                  </a:cubicBezTo>
                  <a:cubicBezTo>
                    <a:pt x="560" y="715"/>
                    <a:pt x="571" y="694"/>
                    <a:pt x="583" y="673"/>
                  </a:cubicBezTo>
                  <a:cubicBezTo>
                    <a:pt x="591" y="659"/>
                    <a:pt x="595" y="637"/>
                    <a:pt x="611" y="632"/>
                  </a:cubicBezTo>
                  <a:cubicBezTo>
                    <a:pt x="618" y="630"/>
                    <a:pt x="625" y="627"/>
                    <a:pt x="632" y="625"/>
                  </a:cubicBezTo>
                  <a:cubicBezTo>
                    <a:pt x="640" y="592"/>
                    <a:pt x="649" y="579"/>
                    <a:pt x="673" y="555"/>
                  </a:cubicBezTo>
                  <a:cubicBezTo>
                    <a:pt x="683" y="527"/>
                    <a:pt x="698" y="516"/>
                    <a:pt x="722" y="500"/>
                  </a:cubicBezTo>
                  <a:cubicBezTo>
                    <a:pt x="743" y="469"/>
                    <a:pt x="767" y="444"/>
                    <a:pt x="798" y="424"/>
                  </a:cubicBezTo>
                  <a:cubicBezTo>
                    <a:pt x="803" y="417"/>
                    <a:pt x="806" y="409"/>
                    <a:pt x="812" y="403"/>
                  </a:cubicBezTo>
                  <a:cubicBezTo>
                    <a:pt x="818" y="397"/>
                    <a:pt x="830" y="397"/>
                    <a:pt x="833" y="389"/>
                  </a:cubicBezTo>
                  <a:cubicBezTo>
                    <a:pt x="843" y="363"/>
                    <a:pt x="838" y="332"/>
                    <a:pt x="847" y="306"/>
                  </a:cubicBezTo>
                  <a:cubicBezTo>
                    <a:pt x="838" y="292"/>
                    <a:pt x="831" y="276"/>
                    <a:pt x="819" y="264"/>
                  </a:cubicBezTo>
                  <a:cubicBezTo>
                    <a:pt x="805" y="250"/>
                    <a:pt x="772" y="254"/>
                    <a:pt x="784" y="221"/>
                  </a:cubicBezTo>
                  <a:cubicBezTo>
                    <a:pt x="796" y="188"/>
                    <a:pt x="773" y="187"/>
                    <a:pt x="750" y="167"/>
                  </a:cubicBezTo>
                  <a:cubicBezTo>
                    <a:pt x="682" y="106"/>
                    <a:pt x="733" y="142"/>
                    <a:pt x="687" y="111"/>
                  </a:cubicBezTo>
                  <a:cubicBezTo>
                    <a:pt x="670" y="86"/>
                    <a:pt x="654" y="89"/>
                    <a:pt x="632" y="70"/>
                  </a:cubicBezTo>
                  <a:cubicBezTo>
                    <a:pt x="614" y="55"/>
                    <a:pt x="612" y="45"/>
                    <a:pt x="590" y="35"/>
                  </a:cubicBezTo>
                  <a:cubicBezTo>
                    <a:pt x="558" y="21"/>
                    <a:pt x="535" y="19"/>
                    <a:pt x="507" y="0"/>
                  </a:cubicBezTo>
                  <a:cubicBezTo>
                    <a:pt x="437" y="14"/>
                    <a:pt x="463" y="20"/>
                    <a:pt x="451" y="28"/>
                  </a:cubicBezTo>
                  <a:cubicBezTo>
                    <a:pt x="439" y="36"/>
                    <a:pt x="395" y="40"/>
                    <a:pt x="389" y="42"/>
                  </a:cubicBezTo>
                  <a:cubicBezTo>
                    <a:pt x="375" y="46"/>
                    <a:pt x="347" y="56"/>
                    <a:pt x="347" y="56"/>
                  </a:cubicBezTo>
                  <a:cubicBezTo>
                    <a:pt x="324" y="66"/>
                    <a:pt x="276" y="90"/>
                    <a:pt x="250" y="104"/>
                  </a:cubicBezTo>
                  <a:close/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19000" y="2352600"/>
              <a:ext cx="233352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803160" y="2338560"/>
            <a:ext cx="2416320" cy="2330280"/>
          </a:xfrm>
          <a:custGeom>
            <a:avLst/>
            <a:gdLst/>
            <a:ahLst/>
            <a:rect l="l" t="t" r="r" b="b"/>
            <a:pathLst>
              <a:path w="1522" h="1468">
                <a:moveTo>
                  <a:pt x="310" y="39"/>
                </a:moveTo>
                <a:cubicBezTo>
                  <a:pt x="250" y="78"/>
                  <a:pt x="168" y="212"/>
                  <a:pt x="124" y="279"/>
                </a:cubicBezTo>
                <a:cubicBezTo>
                  <a:pt x="80" y="346"/>
                  <a:pt x="57" y="380"/>
                  <a:pt x="46" y="441"/>
                </a:cubicBezTo>
                <a:cubicBezTo>
                  <a:pt x="35" y="502"/>
                  <a:pt x="0" y="605"/>
                  <a:pt x="58" y="645"/>
                </a:cubicBezTo>
                <a:cubicBezTo>
                  <a:pt x="116" y="685"/>
                  <a:pt x="330" y="668"/>
                  <a:pt x="394" y="681"/>
                </a:cubicBezTo>
                <a:cubicBezTo>
                  <a:pt x="458" y="694"/>
                  <a:pt x="442" y="717"/>
                  <a:pt x="442" y="723"/>
                </a:cubicBezTo>
                <a:cubicBezTo>
                  <a:pt x="442" y="729"/>
                  <a:pt x="437" y="705"/>
                  <a:pt x="394" y="717"/>
                </a:cubicBezTo>
                <a:cubicBezTo>
                  <a:pt x="351" y="729"/>
                  <a:pt x="239" y="771"/>
                  <a:pt x="184" y="795"/>
                </a:cubicBezTo>
                <a:cubicBezTo>
                  <a:pt x="129" y="819"/>
                  <a:pt x="91" y="791"/>
                  <a:pt x="64" y="861"/>
                </a:cubicBezTo>
                <a:cubicBezTo>
                  <a:pt x="37" y="931"/>
                  <a:pt x="28" y="1141"/>
                  <a:pt x="22" y="1215"/>
                </a:cubicBezTo>
                <a:cubicBezTo>
                  <a:pt x="16" y="1289"/>
                  <a:pt x="12" y="1271"/>
                  <a:pt x="28" y="1305"/>
                </a:cubicBezTo>
                <a:cubicBezTo>
                  <a:pt x="44" y="1339"/>
                  <a:pt x="47" y="1410"/>
                  <a:pt x="118" y="1419"/>
                </a:cubicBezTo>
                <a:cubicBezTo>
                  <a:pt x="189" y="1428"/>
                  <a:pt x="374" y="1358"/>
                  <a:pt x="454" y="1359"/>
                </a:cubicBezTo>
                <a:cubicBezTo>
                  <a:pt x="534" y="1360"/>
                  <a:pt x="550" y="1431"/>
                  <a:pt x="598" y="1425"/>
                </a:cubicBezTo>
                <a:cubicBezTo>
                  <a:pt x="646" y="1419"/>
                  <a:pt x="715" y="1330"/>
                  <a:pt x="742" y="1323"/>
                </a:cubicBezTo>
                <a:cubicBezTo>
                  <a:pt x="769" y="1316"/>
                  <a:pt x="735" y="1360"/>
                  <a:pt x="760" y="1383"/>
                </a:cubicBezTo>
                <a:cubicBezTo>
                  <a:pt x="785" y="1406"/>
                  <a:pt x="828" y="1468"/>
                  <a:pt x="892" y="1461"/>
                </a:cubicBezTo>
                <a:cubicBezTo>
                  <a:pt x="956" y="1454"/>
                  <a:pt x="1062" y="1376"/>
                  <a:pt x="1144" y="1341"/>
                </a:cubicBezTo>
                <a:cubicBezTo>
                  <a:pt x="1226" y="1306"/>
                  <a:pt x="1331" y="1280"/>
                  <a:pt x="1384" y="1251"/>
                </a:cubicBezTo>
                <a:cubicBezTo>
                  <a:pt x="1437" y="1222"/>
                  <a:pt x="1453" y="1202"/>
                  <a:pt x="1462" y="1167"/>
                </a:cubicBezTo>
                <a:cubicBezTo>
                  <a:pt x="1471" y="1132"/>
                  <a:pt x="1454" y="1095"/>
                  <a:pt x="1438" y="1041"/>
                </a:cubicBezTo>
                <a:cubicBezTo>
                  <a:pt x="1422" y="987"/>
                  <a:pt x="1391" y="891"/>
                  <a:pt x="1366" y="843"/>
                </a:cubicBezTo>
                <a:cubicBezTo>
                  <a:pt x="1341" y="795"/>
                  <a:pt x="1310" y="774"/>
                  <a:pt x="1288" y="753"/>
                </a:cubicBezTo>
                <a:cubicBezTo>
                  <a:pt x="1266" y="732"/>
                  <a:pt x="1216" y="722"/>
                  <a:pt x="1234" y="717"/>
                </a:cubicBezTo>
                <a:cubicBezTo>
                  <a:pt x="1252" y="712"/>
                  <a:pt x="1361" y="748"/>
                  <a:pt x="1396" y="723"/>
                </a:cubicBezTo>
                <a:cubicBezTo>
                  <a:pt x="1431" y="698"/>
                  <a:pt x="1429" y="603"/>
                  <a:pt x="1444" y="567"/>
                </a:cubicBezTo>
                <a:cubicBezTo>
                  <a:pt x="1459" y="531"/>
                  <a:pt x="1486" y="566"/>
                  <a:pt x="1486" y="507"/>
                </a:cubicBezTo>
                <a:cubicBezTo>
                  <a:pt x="1486" y="448"/>
                  <a:pt x="1522" y="289"/>
                  <a:pt x="1444" y="213"/>
                </a:cubicBezTo>
                <a:cubicBezTo>
                  <a:pt x="1366" y="137"/>
                  <a:pt x="1101" y="76"/>
                  <a:pt x="1018" y="51"/>
                </a:cubicBezTo>
                <a:cubicBezTo>
                  <a:pt x="935" y="26"/>
                  <a:pt x="965" y="57"/>
                  <a:pt x="946" y="63"/>
                </a:cubicBezTo>
                <a:cubicBezTo>
                  <a:pt x="927" y="69"/>
                  <a:pt x="923" y="82"/>
                  <a:pt x="904" y="87"/>
                </a:cubicBezTo>
                <a:cubicBezTo>
                  <a:pt x="885" y="92"/>
                  <a:pt x="852" y="91"/>
                  <a:pt x="832" y="93"/>
                </a:cubicBezTo>
                <a:cubicBezTo>
                  <a:pt x="812" y="95"/>
                  <a:pt x="792" y="89"/>
                  <a:pt x="784" y="99"/>
                </a:cubicBezTo>
                <a:cubicBezTo>
                  <a:pt x="776" y="109"/>
                  <a:pt x="802" y="151"/>
                  <a:pt x="784" y="153"/>
                </a:cubicBezTo>
                <a:cubicBezTo>
                  <a:pt x="766" y="155"/>
                  <a:pt x="699" y="123"/>
                  <a:pt x="676" y="111"/>
                </a:cubicBezTo>
                <a:cubicBezTo>
                  <a:pt x="653" y="99"/>
                  <a:pt x="678" y="92"/>
                  <a:pt x="646" y="81"/>
                </a:cubicBezTo>
                <a:cubicBezTo>
                  <a:pt x="614" y="70"/>
                  <a:pt x="540" y="50"/>
                  <a:pt x="484" y="45"/>
                </a:cubicBezTo>
                <a:cubicBezTo>
                  <a:pt x="428" y="40"/>
                  <a:pt x="370" y="0"/>
                  <a:pt x="310" y="39"/>
                </a:cubicBezTo>
                <a:close/>
              </a:path>
            </a:pathLst>
          </a:custGeom>
          <a:solidFill>
            <a:srgbClr val="993300">
              <a:alpha val="30000"/>
            </a:srgbClr>
          </a:solidFill>
          <a:ln w="763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95320" y="5067360"/>
            <a:ext cx="25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y and S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865840" y="2076480"/>
            <a:ext cx="2635200" cy="2844720"/>
            <a:chOff x="5865840" y="2076480"/>
            <a:chExt cx="2635200" cy="2844720"/>
          </a:xfrm>
        </p:grpSpPr>
        <p:sp>
          <p:nvSpPr>
            <p:cNvPr id="84" name=""/>
            <p:cNvSpPr/>
            <p:nvPr/>
          </p:nvSpPr>
          <p:spPr>
            <a:xfrm>
              <a:off x="5870520" y="2393640"/>
              <a:ext cx="1241280" cy="1260000"/>
            </a:xfrm>
            <a:custGeom>
              <a:avLst/>
              <a:gdLst/>
              <a:ahLst/>
              <a:rect l="l" t="t" r="r" b="b"/>
              <a:pathLst>
                <a:path w="782" h="794">
                  <a:moveTo>
                    <a:pt x="133" y="236"/>
                  </a:moveTo>
                  <a:cubicBezTo>
                    <a:pt x="91" y="309"/>
                    <a:pt x="130" y="260"/>
                    <a:pt x="98" y="298"/>
                  </a:cubicBezTo>
                  <a:cubicBezTo>
                    <a:pt x="96" y="341"/>
                    <a:pt x="55" y="361"/>
                    <a:pt x="37" y="400"/>
                  </a:cubicBezTo>
                  <a:cubicBezTo>
                    <a:pt x="35" y="444"/>
                    <a:pt x="0" y="437"/>
                    <a:pt x="9" y="483"/>
                  </a:cubicBezTo>
                  <a:cubicBezTo>
                    <a:pt x="22" y="552"/>
                    <a:pt x="39" y="567"/>
                    <a:pt x="82" y="639"/>
                  </a:cubicBezTo>
                  <a:lnTo>
                    <a:pt x="324" y="624"/>
                  </a:lnTo>
                  <a:cubicBezTo>
                    <a:pt x="403" y="633"/>
                    <a:pt x="396" y="624"/>
                    <a:pt x="440" y="668"/>
                  </a:cubicBezTo>
                  <a:cubicBezTo>
                    <a:pt x="461" y="698"/>
                    <a:pt x="506" y="794"/>
                    <a:pt x="566" y="786"/>
                  </a:cubicBezTo>
                  <a:cubicBezTo>
                    <a:pt x="589" y="783"/>
                    <a:pt x="610" y="769"/>
                    <a:pt x="633" y="762"/>
                  </a:cubicBezTo>
                  <a:cubicBezTo>
                    <a:pt x="654" y="748"/>
                    <a:pt x="676" y="735"/>
                    <a:pt x="695" y="718"/>
                  </a:cubicBezTo>
                  <a:cubicBezTo>
                    <a:pt x="710" y="703"/>
                    <a:pt x="709" y="667"/>
                    <a:pt x="718" y="648"/>
                  </a:cubicBezTo>
                  <a:cubicBezTo>
                    <a:pt x="716" y="641"/>
                    <a:pt x="713" y="634"/>
                    <a:pt x="713" y="627"/>
                  </a:cubicBezTo>
                  <a:cubicBezTo>
                    <a:pt x="712" y="602"/>
                    <a:pt x="711" y="579"/>
                    <a:pt x="711" y="555"/>
                  </a:cubicBezTo>
                  <a:cubicBezTo>
                    <a:pt x="710" y="538"/>
                    <a:pt x="703" y="517"/>
                    <a:pt x="714" y="505"/>
                  </a:cubicBezTo>
                  <a:cubicBezTo>
                    <a:pt x="719" y="500"/>
                    <a:pt x="723" y="494"/>
                    <a:pt x="728" y="488"/>
                  </a:cubicBezTo>
                  <a:cubicBezTo>
                    <a:pt x="718" y="456"/>
                    <a:pt x="719" y="440"/>
                    <a:pt x="728" y="407"/>
                  </a:cubicBezTo>
                  <a:cubicBezTo>
                    <a:pt x="722" y="378"/>
                    <a:pt x="729" y="361"/>
                    <a:pt x="742" y="335"/>
                  </a:cubicBezTo>
                  <a:cubicBezTo>
                    <a:pt x="744" y="297"/>
                    <a:pt x="752" y="264"/>
                    <a:pt x="768" y="231"/>
                  </a:cubicBezTo>
                  <a:cubicBezTo>
                    <a:pt x="769" y="222"/>
                    <a:pt x="767" y="214"/>
                    <a:pt x="769" y="205"/>
                  </a:cubicBezTo>
                  <a:cubicBezTo>
                    <a:pt x="771" y="197"/>
                    <a:pt x="782" y="191"/>
                    <a:pt x="780" y="183"/>
                  </a:cubicBezTo>
                  <a:cubicBezTo>
                    <a:pt x="775" y="155"/>
                    <a:pt x="755" y="131"/>
                    <a:pt x="750" y="104"/>
                  </a:cubicBezTo>
                  <a:cubicBezTo>
                    <a:pt x="735" y="97"/>
                    <a:pt x="721" y="87"/>
                    <a:pt x="704" y="82"/>
                  </a:cubicBezTo>
                  <a:cubicBezTo>
                    <a:pt x="685" y="78"/>
                    <a:pt x="659" y="98"/>
                    <a:pt x="652" y="63"/>
                  </a:cubicBezTo>
                  <a:cubicBezTo>
                    <a:pt x="646" y="29"/>
                    <a:pt x="625" y="40"/>
                    <a:pt x="595" y="34"/>
                  </a:cubicBezTo>
                  <a:cubicBezTo>
                    <a:pt x="506" y="17"/>
                    <a:pt x="568" y="22"/>
                    <a:pt x="513" y="18"/>
                  </a:cubicBezTo>
                  <a:cubicBezTo>
                    <a:pt x="485" y="6"/>
                    <a:pt x="473" y="16"/>
                    <a:pt x="444" y="11"/>
                  </a:cubicBezTo>
                  <a:cubicBezTo>
                    <a:pt x="421" y="8"/>
                    <a:pt x="414" y="0"/>
                    <a:pt x="390" y="3"/>
                  </a:cubicBezTo>
                  <a:cubicBezTo>
                    <a:pt x="356" y="7"/>
                    <a:pt x="335" y="17"/>
                    <a:pt x="301" y="15"/>
                  </a:cubicBezTo>
                  <a:cubicBezTo>
                    <a:pt x="248" y="63"/>
                    <a:pt x="274" y="55"/>
                    <a:pt x="267" y="68"/>
                  </a:cubicBezTo>
                  <a:cubicBezTo>
                    <a:pt x="261" y="81"/>
                    <a:pt x="225" y="107"/>
                    <a:pt x="221" y="112"/>
                  </a:cubicBezTo>
                  <a:cubicBezTo>
                    <a:pt x="211" y="122"/>
                    <a:pt x="192" y="145"/>
                    <a:pt x="192" y="145"/>
                  </a:cubicBezTo>
                  <a:cubicBezTo>
                    <a:pt x="178" y="166"/>
                    <a:pt x="149" y="211"/>
                    <a:pt x="133" y="236"/>
                  </a:cubicBezTo>
                  <a:close/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04000" y="3447720"/>
              <a:ext cx="1171440" cy="1193400"/>
            </a:xfrm>
            <a:custGeom>
              <a:avLst/>
              <a:gdLst/>
              <a:ahLst/>
              <a:rect l="l" t="t" r="r" b="b"/>
              <a:pathLst>
                <a:path w="738" h="752">
                  <a:moveTo>
                    <a:pt x="4" y="439"/>
                  </a:moveTo>
                  <a:cubicBezTo>
                    <a:pt x="4" y="523"/>
                    <a:pt x="13" y="461"/>
                    <a:pt x="5" y="510"/>
                  </a:cubicBezTo>
                  <a:cubicBezTo>
                    <a:pt x="25" y="548"/>
                    <a:pt x="0" y="586"/>
                    <a:pt x="3" y="629"/>
                  </a:cubicBezTo>
                  <a:cubicBezTo>
                    <a:pt x="24" y="668"/>
                    <a:pt x="45" y="664"/>
                    <a:pt x="75" y="699"/>
                  </a:cubicBezTo>
                  <a:cubicBezTo>
                    <a:pt x="122" y="752"/>
                    <a:pt x="120" y="711"/>
                    <a:pt x="168" y="707"/>
                  </a:cubicBezTo>
                  <a:lnTo>
                    <a:pt x="365" y="677"/>
                  </a:lnTo>
                  <a:cubicBezTo>
                    <a:pt x="437" y="645"/>
                    <a:pt x="427" y="640"/>
                    <a:pt x="487" y="656"/>
                  </a:cubicBezTo>
                  <a:cubicBezTo>
                    <a:pt x="520" y="671"/>
                    <a:pt x="608" y="731"/>
                    <a:pt x="656" y="694"/>
                  </a:cubicBezTo>
                  <a:cubicBezTo>
                    <a:pt x="674" y="679"/>
                    <a:pt x="685" y="657"/>
                    <a:pt x="702" y="639"/>
                  </a:cubicBezTo>
                  <a:cubicBezTo>
                    <a:pt x="712" y="616"/>
                    <a:pt x="724" y="594"/>
                    <a:pt x="732" y="569"/>
                  </a:cubicBezTo>
                  <a:cubicBezTo>
                    <a:pt x="738" y="548"/>
                    <a:pt x="719" y="519"/>
                    <a:pt x="716" y="498"/>
                  </a:cubicBezTo>
                  <a:cubicBezTo>
                    <a:pt x="711" y="493"/>
                    <a:pt x="705" y="488"/>
                    <a:pt x="701" y="482"/>
                  </a:cubicBezTo>
                  <a:cubicBezTo>
                    <a:pt x="689" y="461"/>
                    <a:pt x="676" y="441"/>
                    <a:pt x="663" y="421"/>
                  </a:cubicBezTo>
                  <a:cubicBezTo>
                    <a:pt x="655" y="407"/>
                    <a:pt x="637" y="393"/>
                    <a:pt x="641" y="376"/>
                  </a:cubicBezTo>
                  <a:cubicBezTo>
                    <a:pt x="642" y="369"/>
                    <a:pt x="643" y="362"/>
                    <a:pt x="645" y="355"/>
                  </a:cubicBezTo>
                  <a:cubicBezTo>
                    <a:pt x="620" y="332"/>
                    <a:pt x="612" y="318"/>
                    <a:pt x="603" y="285"/>
                  </a:cubicBezTo>
                  <a:cubicBezTo>
                    <a:pt x="583" y="263"/>
                    <a:pt x="581" y="244"/>
                    <a:pt x="578" y="216"/>
                  </a:cubicBezTo>
                  <a:cubicBezTo>
                    <a:pt x="561" y="182"/>
                    <a:pt x="531" y="198"/>
                    <a:pt x="528" y="161"/>
                  </a:cubicBezTo>
                  <a:cubicBezTo>
                    <a:pt x="501" y="128"/>
                    <a:pt x="449" y="31"/>
                    <a:pt x="418" y="17"/>
                  </a:cubicBezTo>
                  <a:cubicBezTo>
                    <a:pt x="399" y="22"/>
                    <a:pt x="387" y="53"/>
                    <a:pt x="364" y="27"/>
                  </a:cubicBezTo>
                  <a:cubicBezTo>
                    <a:pt x="341" y="0"/>
                    <a:pt x="329" y="20"/>
                    <a:pt x="300" y="31"/>
                  </a:cubicBezTo>
                  <a:cubicBezTo>
                    <a:pt x="214" y="61"/>
                    <a:pt x="270" y="34"/>
                    <a:pt x="221" y="59"/>
                  </a:cubicBezTo>
                  <a:cubicBezTo>
                    <a:pt x="190" y="62"/>
                    <a:pt x="185" y="77"/>
                    <a:pt x="158" y="87"/>
                  </a:cubicBezTo>
                  <a:cubicBezTo>
                    <a:pt x="136" y="96"/>
                    <a:pt x="127" y="93"/>
                    <a:pt x="107" y="107"/>
                  </a:cubicBezTo>
                  <a:cubicBezTo>
                    <a:pt x="80" y="129"/>
                    <a:pt x="67" y="148"/>
                    <a:pt x="37" y="163"/>
                  </a:cubicBezTo>
                  <a:cubicBezTo>
                    <a:pt x="15" y="231"/>
                    <a:pt x="33" y="211"/>
                    <a:pt x="34" y="226"/>
                  </a:cubicBezTo>
                  <a:cubicBezTo>
                    <a:pt x="35" y="240"/>
                    <a:pt x="18" y="281"/>
                    <a:pt x="17" y="287"/>
                  </a:cubicBezTo>
                  <a:cubicBezTo>
                    <a:pt x="13" y="301"/>
                    <a:pt x="9" y="330"/>
                    <a:pt x="9" y="330"/>
                  </a:cubicBezTo>
                  <a:cubicBezTo>
                    <a:pt x="6" y="355"/>
                    <a:pt x="4" y="409"/>
                    <a:pt x="4" y="439"/>
                  </a:cubicBezTo>
                  <a:close/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rot="2857800">
              <a:off x="6899760" y="2362680"/>
              <a:ext cx="1344240" cy="1289160"/>
            </a:xfrm>
            <a:custGeom>
              <a:avLst/>
              <a:gdLst/>
              <a:ahLst/>
              <a:rect l="l" t="t" r="r" b="b"/>
              <a:pathLst>
                <a:path w="847" h="812">
                  <a:moveTo>
                    <a:pt x="250" y="104"/>
                  </a:moveTo>
                  <a:cubicBezTo>
                    <a:pt x="176" y="145"/>
                    <a:pt x="235" y="123"/>
                    <a:pt x="188" y="139"/>
                  </a:cubicBezTo>
                  <a:cubicBezTo>
                    <a:pt x="164" y="175"/>
                    <a:pt x="119" y="171"/>
                    <a:pt x="83" y="195"/>
                  </a:cubicBezTo>
                  <a:cubicBezTo>
                    <a:pt x="59" y="232"/>
                    <a:pt x="72" y="248"/>
                    <a:pt x="56" y="292"/>
                  </a:cubicBezTo>
                  <a:cubicBezTo>
                    <a:pt x="32" y="358"/>
                    <a:pt x="0" y="340"/>
                    <a:pt x="0" y="424"/>
                  </a:cubicBezTo>
                  <a:lnTo>
                    <a:pt x="215" y="535"/>
                  </a:lnTo>
                  <a:cubicBezTo>
                    <a:pt x="278" y="583"/>
                    <a:pt x="277" y="572"/>
                    <a:pt x="292" y="632"/>
                  </a:cubicBezTo>
                  <a:cubicBezTo>
                    <a:pt x="295" y="668"/>
                    <a:pt x="285" y="774"/>
                    <a:pt x="340" y="798"/>
                  </a:cubicBezTo>
                  <a:cubicBezTo>
                    <a:pt x="362" y="807"/>
                    <a:pt x="387" y="806"/>
                    <a:pt x="410" y="812"/>
                  </a:cubicBezTo>
                  <a:cubicBezTo>
                    <a:pt x="435" y="810"/>
                    <a:pt x="461" y="810"/>
                    <a:pt x="486" y="805"/>
                  </a:cubicBezTo>
                  <a:cubicBezTo>
                    <a:pt x="507" y="800"/>
                    <a:pt x="524" y="769"/>
                    <a:pt x="541" y="757"/>
                  </a:cubicBezTo>
                  <a:cubicBezTo>
                    <a:pt x="543" y="750"/>
                    <a:pt x="544" y="742"/>
                    <a:pt x="548" y="736"/>
                  </a:cubicBezTo>
                  <a:cubicBezTo>
                    <a:pt x="560" y="715"/>
                    <a:pt x="571" y="694"/>
                    <a:pt x="583" y="673"/>
                  </a:cubicBezTo>
                  <a:cubicBezTo>
                    <a:pt x="591" y="659"/>
                    <a:pt x="595" y="637"/>
                    <a:pt x="611" y="632"/>
                  </a:cubicBezTo>
                  <a:cubicBezTo>
                    <a:pt x="618" y="630"/>
                    <a:pt x="625" y="627"/>
                    <a:pt x="632" y="625"/>
                  </a:cubicBezTo>
                  <a:cubicBezTo>
                    <a:pt x="640" y="592"/>
                    <a:pt x="649" y="579"/>
                    <a:pt x="673" y="555"/>
                  </a:cubicBezTo>
                  <a:cubicBezTo>
                    <a:pt x="683" y="527"/>
                    <a:pt x="698" y="516"/>
                    <a:pt x="722" y="500"/>
                  </a:cubicBezTo>
                  <a:cubicBezTo>
                    <a:pt x="743" y="469"/>
                    <a:pt x="767" y="444"/>
                    <a:pt x="798" y="424"/>
                  </a:cubicBezTo>
                  <a:cubicBezTo>
                    <a:pt x="803" y="417"/>
                    <a:pt x="806" y="409"/>
                    <a:pt x="812" y="403"/>
                  </a:cubicBezTo>
                  <a:cubicBezTo>
                    <a:pt x="818" y="397"/>
                    <a:pt x="830" y="397"/>
                    <a:pt x="833" y="389"/>
                  </a:cubicBezTo>
                  <a:cubicBezTo>
                    <a:pt x="843" y="363"/>
                    <a:pt x="838" y="332"/>
                    <a:pt x="847" y="306"/>
                  </a:cubicBezTo>
                  <a:cubicBezTo>
                    <a:pt x="838" y="292"/>
                    <a:pt x="831" y="276"/>
                    <a:pt x="819" y="264"/>
                  </a:cubicBezTo>
                  <a:cubicBezTo>
                    <a:pt x="805" y="250"/>
                    <a:pt x="772" y="254"/>
                    <a:pt x="784" y="221"/>
                  </a:cubicBezTo>
                  <a:cubicBezTo>
                    <a:pt x="796" y="188"/>
                    <a:pt x="773" y="187"/>
                    <a:pt x="750" y="167"/>
                  </a:cubicBezTo>
                  <a:cubicBezTo>
                    <a:pt x="682" y="106"/>
                    <a:pt x="733" y="142"/>
                    <a:pt x="687" y="111"/>
                  </a:cubicBezTo>
                  <a:cubicBezTo>
                    <a:pt x="670" y="86"/>
                    <a:pt x="654" y="89"/>
                    <a:pt x="632" y="70"/>
                  </a:cubicBezTo>
                  <a:cubicBezTo>
                    <a:pt x="614" y="55"/>
                    <a:pt x="612" y="45"/>
                    <a:pt x="590" y="35"/>
                  </a:cubicBezTo>
                  <a:cubicBezTo>
                    <a:pt x="558" y="21"/>
                    <a:pt x="535" y="19"/>
                    <a:pt x="507" y="0"/>
                  </a:cubicBezTo>
                  <a:cubicBezTo>
                    <a:pt x="437" y="14"/>
                    <a:pt x="463" y="20"/>
                    <a:pt x="451" y="28"/>
                  </a:cubicBezTo>
                  <a:cubicBezTo>
                    <a:pt x="439" y="36"/>
                    <a:pt x="395" y="40"/>
                    <a:pt x="389" y="42"/>
                  </a:cubicBezTo>
                  <a:cubicBezTo>
                    <a:pt x="375" y="46"/>
                    <a:pt x="347" y="56"/>
                    <a:pt x="347" y="56"/>
                  </a:cubicBezTo>
                  <a:cubicBezTo>
                    <a:pt x="324" y="66"/>
                    <a:pt x="276" y="90"/>
                    <a:pt x="250" y="104"/>
                  </a:cubicBezTo>
                  <a:close/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587000">
              <a:off x="6821280" y="3400200"/>
              <a:ext cx="1344600" cy="1288800"/>
            </a:xfrm>
            <a:custGeom>
              <a:avLst/>
              <a:gdLst/>
              <a:ahLst/>
              <a:rect l="l" t="t" r="r" b="b"/>
              <a:pathLst>
                <a:path w="847" h="812">
                  <a:moveTo>
                    <a:pt x="250" y="104"/>
                  </a:moveTo>
                  <a:cubicBezTo>
                    <a:pt x="176" y="145"/>
                    <a:pt x="235" y="123"/>
                    <a:pt x="188" y="139"/>
                  </a:cubicBezTo>
                  <a:cubicBezTo>
                    <a:pt x="164" y="175"/>
                    <a:pt x="119" y="171"/>
                    <a:pt x="83" y="195"/>
                  </a:cubicBezTo>
                  <a:cubicBezTo>
                    <a:pt x="59" y="232"/>
                    <a:pt x="72" y="248"/>
                    <a:pt x="56" y="292"/>
                  </a:cubicBezTo>
                  <a:cubicBezTo>
                    <a:pt x="32" y="358"/>
                    <a:pt x="0" y="340"/>
                    <a:pt x="0" y="424"/>
                  </a:cubicBezTo>
                  <a:lnTo>
                    <a:pt x="215" y="535"/>
                  </a:lnTo>
                  <a:cubicBezTo>
                    <a:pt x="278" y="583"/>
                    <a:pt x="277" y="572"/>
                    <a:pt x="292" y="632"/>
                  </a:cubicBezTo>
                  <a:cubicBezTo>
                    <a:pt x="295" y="668"/>
                    <a:pt x="285" y="774"/>
                    <a:pt x="340" y="798"/>
                  </a:cubicBezTo>
                  <a:cubicBezTo>
                    <a:pt x="362" y="807"/>
                    <a:pt x="387" y="806"/>
                    <a:pt x="410" y="812"/>
                  </a:cubicBezTo>
                  <a:cubicBezTo>
                    <a:pt x="435" y="810"/>
                    <a:pt x="461" y="810"/>
                    <a:pt x="486" y="805"/>
                  </a:cubicBezTo>
                  <a:cubicBezTo>
                    <a:pt x="507" y="800"/>
                    <a:pt x="524" y="769"/>
                    <a:pt x="541" y="757"/>
                  </a:cubicBezTo>
                  <a:cubicBezTo>
                    <a:pt x="543" y="750"/>
                    <a:pt x="544" y="742"/>
                    <a:pt x="548" y="736"/>
                  </a:cubicBezTo>
                  <a:cubicBezTo>
                    <a:pt x="560" y="715"/>
                    <a:pt x="571" y="694"/>
                    <a:pt x="583" y="673"/>
                  </a:cubicBezTo>
                  <a:cubicBezTo>
                    <a:pt x="591" y="659"/>
                    <a:pt x="595" y="637"/>
                    <a:pt x="611" y="632"/>
                  </a:cubicBezTo>
                  <a:cubicBezTo>
                    <a:pt x="618" y="630"/>
                    <a:pt x="625" y="627"/>
                    <a:pt x="632" y="625"/>
                  </a:cubicBezTo>
                  <a:cubicBezTo>
                    <a:pt x="640" y="592"/>
                    <a:pt x="649" y="579"/>
                    <a:pt x="673" y="555"/>
                  </a:cubicBezTo>
                  <a:cubicBezTo>
                    <a:pt x="683" y="527"/>
                    <a:pt x="698" y="516"/>
                    <a:pt x="722" y="500"/>
                  </a:cubicBezTo>
                  <a:cubicBezTo>
                    <a:pt x="743" y="469"/>
                    <a:pt x="767" y="444"/>
                    <a:pt x="798" y="424"/>
                  </a:cubicBezTo>
                  <a:cubicBezTo>
                    <a:pt x="803" y="417"/>
                    <a:pt x="806" y="409"/>
                    <a:pt x="812" y="403"/>
                  </a:cubicBezTo>
                  <a:cubicBezTo>
                    <a:pt x="818" y="397"/>
                    <a:pt x="830" y="397"/>
                    <a:pt x="833" y="389"/>
                  </a:cubicBezTo>
                  <a:cubicBezTo>
                    <a:pt x="843" y="363"/>
                    <a:pt x="838" y="332"/>
                    <a:pt x="847" y="306"/>
                  </a:cubicBezTo>
                  <a:cubicBezTo>
                    <a:pt x="838" y="292"/>
                    <a:pt x="831" y="276"/>
                    <a:pt x="819" y="264"/>
                  </a:cubicBezTo>
                  <a:cubicBezTo>
                    <a:pt x="805" y="250"/>
                    <a:pt x="772" y="254"/>
                    <a:pt x="784" y="221"/>
                  </a:cubicBezTo>
                  <a:cubicBezTo>
                    <a:pt x="796" y="188"/>
                    <a:pt x="773" y="187"/>
                    <a:pt x="750" y="167"/>
                  </a:cubicBezTo>
                  <a:cubicBezTo>
                    <a:pt x="682" y="106"/>
                    <a:pt x="733" y="142"/>
                    <a:pt x="687" y="111"/>
                  </a:cubicBezTo>
                  <a:cubicBezTo>
                    <a:pt x="670" y="86"/>
                    <a:pt x="654" y="89"/>
                    <a:pt x="632" y="70"/>
                  </a:cubicBezTo>
                  <a:cubicBezTo>
                    <a:pt x="614" y="55"/>
                    <a:pt x="612" y="45"/>
                    <a:pt x="590" y="35"/>
                  </a:cubicBezTo>
                  <a:cubicBezTo>
                    <a:pt x="558" y="21"/>
                    <a:pt x="535" y="19"/>
                    <a:pt x="507" y="0"/>
                  </a:cubicBezTo>
                  <a:cubicBezTo>
                    <a:pt x="437" y="14"/>
                    <a:pt x="463" y="20"/>
                    <a:pt x="451" y="28"/>
                  </a:cubicBezTo>
                  <a:cubicBezTo>
                    <a:pt x="439" y="36"/>
                    <a:pt x="395" y="40"/>
                    <a:pt x="389" y="42"/>
                  </a:cubicBezTo>
                  <a:cubicBezTo>
                    <a:pt x="375" y="46"/>
                    <a:pt x="347" y="56"/>
                    <a:pt x="347" y="56"/>
                  </a:cubicBezTo>
                  <a:cubicBezTo>
                    <a:pt x="324" y="66"/>
                    <a:pt x="276" y="90"/>
                    <a:pt x="250" y="104"/>
                  </a:cubicBezTo>
                  <a:close/>
                </a:path>
              </a:pathLst>
            </a:custGeom>
            <a:noFill/>
            <a:ln w="34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65840" y="2350800"/>
              <a:ext cx="233352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96080" y="2352600"/>
            <a:ext cx="2324160" cy="2286000"/>
          </a:xfrm>
          <a:prstGeom prst="rect">
            <a:avLst/>
          </a:prstGeom>
          <a:solidFill>
            <a:srgbClr val="993300">
              <a:alpha val="19000"/>
            </a:srgbClr>
          </a:solidFill>
          <a:ln w="604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943600" y="505764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714840" y="507672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626e"/>
            </a:gs>
            <a:gs pos="100000">
              <a:srgbClr val="aed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Other aspects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sample thickness dealt with - differs from those of AS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: greater of 20 mm or 2 x N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TM: at least 1.5 x NMAS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 of coating with wax is covered in more detail compared to SANS (as is the case with AST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and ASTM differentiate between the treatment of lab prepared specimens and field samples that may (of probably will) contain mois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626e"/>
            </a:gs>
            <a:gs pos="100000">
              <a:srgbClr val="aed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Programme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process has commen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lot project – Determination of B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made with participant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ed completion – Octo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626e"/>
            </a:gs>
            <a:gs pos="100000">
              <a:srgbClr val="aed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14</a:t>
            </a:r>
            <a:r>
              <a:rPr b="1" lang="en-US" sz="4000" spc="-1" strike="noStrike" baseline="30000">
                <a:solidFill>
                  <a:srgbClr val="3333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 RPF 20 – 21 Nov 2007</a:t>
            </a:r>
            <a:br>
              <a:rPr sz="4000"/>
            </a:b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Resolution #5</a:t>
            </a:r>
            <a:endParaRPr b="0" lang="en-US" sz="4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54120" y="1397160"/>
            <a:ext cx="79898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That the working group … further investigate the implications for  adopting the ASTM/EN standards for bituminous materials as standard test methods for South Africa, and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table a firm proposal in this regard at the next RP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If adopted, it needs to be supported by </a:t>
            </a: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user-friendly bench methods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(training manuals) fully aligned with the ASTM/EN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626e"/>
            </a:gs>
            <a:gs pos="100000">
              <a:srgbClr val="aed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Proposal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77440" y="158904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</a:t>
            </a:r>
            <a:r>
              <a:rPr b="0" i="1" lang="en-US" sz="2800" spc="-1" strike="noStrike">
                <a:solidFill>
                  <a:srgbClr val="990033"/>
                </a:solidFill>
                <a:latin typeface="Arial"/>
              </a:rPr>
              <a:t>ess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visions to the current draft 3001 AS methods for asphalt throug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and evaluation of the current methods proposed in SANS vis-à-vis ASTM &amp; EN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amendments to current draft SANS methods in consultation with the panel of experts li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t agreed proposals to D Wright for further action as per the established protocol (RMC – SA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8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626e"/>
            </a:gs>
            <a:gs pos="100000">
              <a:srgbClr val="aed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User-friendly bench methods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ed to be a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AS require the standard test method to be “on the bench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to be carried out in accordance with this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une to adopt international standards and produce manuals based o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626e"/>
            </a:gs>
            <a:gs pos="100000">
              <a:srgbClr val="aed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Revised” Brief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ative study of draft SANS 3001 AS tests and ASTM and 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the significance of differences/dev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 proposed SANS 3001 AS method accordingly (with due regard to capac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mit it to Dave Wright for further consideration by MTC SA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626e"/>
            </a:gs>
            <a:gs pos="100000">
              <a:srgbClr val="aed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Test matrix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547640"/>
          <a:ext cx="8229600" cy="43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47640"/>
                    <a:ext cx="8229600" cy="43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626e"/>
            </a:gs>
            <a:gs pos="100000">
              <a:srgbClr val="aed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Process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alysis of inconsistencies (ASTM, EN &amp; SA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orporate essential provisions into 3001 AS xxx current format – Barry Pearce appoi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 P to </a:t>
            </a: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discuss proposed amendments with the identified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Comments received from these discussions are to be evaluated and, where appropriate, incorporated into the revise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Revisions submitted to Sab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626e"/>
            </a:gs>
            <a:gs pos="100000">
              <a:srgbClr val="aed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Laboratories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SANRAL, Provincial and Municipal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Sabita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Regionally dispersed to ensure national in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626e"/>
            </a:gs>
            <a:gs pos="100000">
              <a:srgbClr val="aed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00"/>
                </a:solidFill>
                <a:latin typeface="Arial"/>
              </a:rPr>
              <a:t>Laboratories to be consulted</a:t>
            </a:r>
            <a:br>
              <a:rPr sz="4000"/>
            </a:br>
            <a:r>
              <a:rPr b="0" lang="en-US" sz="2400" spc="-1" strike="noStrike">
                <a:solidFill>
                  <a:srgbClr val="333300"/>
                </a:solidFill>
                <a:latin typeface="Arial"/>
              </a:rPr>
              <a:t>Facilitator: B Pearce</a:t>
            </a:r>
            <a:endParaRPr b="0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57200" y="1600200"/>
          <a:ext cx="8229600" cy="4562640"/>
        </p:xfrm>
        <a:graphic>
          <a:graphicData uri="http://schemas.openxmlformats.org/drawingml/2006/table">
            <a:tbl>
              <a:tblPr/>
              <a:tblGrid>
                <a:gridCol w="2541600"/>
                <a:gridCol w="1935000"/>
                <a:gridCol w="3753000"/>
              </a:tblGrid>
              <a:tr h="322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rganisat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Pers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Thekwin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Z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ric Latlie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GW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arry Dumas/Sid Crock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DPTR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ute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to Uckerman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AN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tio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obus vd Walt/Wesley Web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lis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Z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ny Lew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ZN Do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Z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it Ducass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ore Asphal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rancois Ruit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uch Asphal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tion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erman Marais/Henry Appoll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ational Asphal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Z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ynand Nort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oilla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C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illem Ven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Z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ennie Loo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ute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ieter Molen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D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ute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im Hofsin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K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ute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rthur Tau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D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ute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im Hofsin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0626e"/>
            </a:gs>
            <a:gs pos="100000">
              <a:srgbClr val="aed5f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00"/>
                </a:solidFill>
                <a:latin typeface="Arial"/>
              </a:rPr>
              <a:t>Provisional aspects</a:t>
            </a:r>
            <a:endParaRPr b="0" lang="en-US" sz="4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Include HSE warnings where necessary.  (details given only where they are not covered elsewhe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Repeatability and reproducibility values to be included where fea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Conditioning of briquettes for design process to be cove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Separate heating methods for briquette preparation - design and Q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08:24:18Z</dcterms:created>
  <dc:creator>Myburgh</dc:creator>
  <dc:description/>
  <dc:language>en-US</dc:language>
  <cp:lastModifiedBy>Myburgh</cp:lastModifiedBy>
  <dcterms:modified xsi:type="dcterms:W3CDTF">2008-05-05T14:01:48Z</dcterms:modified>
  <cp:revision>10</cp:revision>
  <dc:subject/>
  <dc:title>14th RPF 20 – 21 Nov 2007 Resolution #5</dc:title>
</cp:coreProperties>
</file>