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334-0FAA-4309-AA21-220BAB23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556-7F23-44A9-A801-3093AC27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4F9-1178-4451-AF48-14D3CD51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E2B-BE60-4884-9282-2F4A080A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ED14-541D-47ED-9584-6BF77951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7AFC-1D23-4D7D-8BF8-A8D35446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197A-EBFE-4D68-8297-8DA280B1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1101-59F6-40E8-872E-5D2E97EB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5379-01A7-41CF-96DD-4603D9A6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BB65-F24B-4D99-9E14-B0ABB755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C443-4CBF-410E-BC3B-FBB75F0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F03-7C86-491B-96C8-6CA72A9C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24DC-A7D5-436A-A1BC-D11A907E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08B6-B0FC-433C-9607-8998D14D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F0C2-2295-44FA-AF2A-6F4634AF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7F21-26AE-487C-B921-79D20CF9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C5BC-4B10-4F4F-A3F5-A7125F2A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CC2-3621-4C5D-8A55-184E9854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E28-A029-45A5-B12A-0B6570E4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67E-19BA-4C60-A893-13EECD2A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6E4-4697-4B71-A1A8-C996D516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CD8-FD94-4A9C-8B79-52B99E2F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133-2A1B-4EE1-9C8B-5BE573B0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8C0-34D9-4F9F-9DD8-B24CF490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5DF0-BF6D-4C8D-92C0-BF2E94BF3C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1D26-9E0E-43C8-949E-106A29A02DF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la.org.za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damhuisr@nra.co.za" TargetMode="External"/><Relationship Id="rId2" Type="http://schemas.openxmlformats.org/officeDocument/2006/relationships/hyperlink" Target="mailto:marlanp@sanas.co.za" TargetMode="External"/><Relationship Id="rId3" Type="http://schemas.openxmlformats.org/officeDocument/2006/relationships/hyperlink" Target="http://www.sanas.co.za/" TargetMode="External"/><Relationship Id="rId4" Type="http://schemas.openxmlformats.org/officeDocument/2006/relationships/hyperlink" Target="http://www.sanas.co.za/index.php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anas.co.za/index.ph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086600" cy="25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PF Task Group Feedback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b Accreditation TG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42920" y="537336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 rot="17668200">
            <a:off x="1204200" y="2116800"/>
            <a:ext cx="3195360" cy="1787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19813200">
            <a:off x="6441840" y="-247320"/>
            <a:ext cx="485640" cy="6192720"/>
          </a:xfrm>
          <a:prstGeom prst="downArrow">
            <a:avLst>
              <a:gd name="adj1" fmla="val 50000"/>
              <a:gd name="adj2" fmla="val 318792"/>
            </a:avLst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7188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685880" y="222480"/>
            <a:ext cx="6563880" cy="5672520"/>
            <a:chOff x="1685880" y="222480"/>
            <a:chExt cx="6563880" cy="5672520"/>
          </a:xfrm>
        </p:grpSpPr>
        <p:sp>
          <p:nvSpPr>
            <p:cNvPr id="140" name="_s107526"/>
            <p:cNvSpPr/>
            <p:nvPr/>
          </p:nvSpPr>
          <p:spPr>
            <a:xfrm flipV="1">
              <a:off x="3874680" y="222120"/>
              <a:ext cx="2186640" cy="1890720"/>
            </a:xfrm>
            <a:custGeom>
              <a:avLst/>
              <a:gdLst>
                <a:gd name="textAreaLeft" fmla="*/ 784440 w 2186640"/>
                <a:gd name="textAreaRight" fmla="*/ 1402200 w 2186640"/>
                <a:gd name="textAreaTop" fmla="*/ 678240 h 1890720"/>
                <a:gd name="textAreaBottom" fmla="*/ 121248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ahoma"/>
                </a:rPr>
                <a:t>National PT scheme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ahoma"/>
                </a:rPr>
                <a:t>High accuracy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ahoma"/>
                </a:rPr>
                <a:t>High cost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ahoma"/>
                </a:rPr>
                <a:t>low frequenc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ahoma"/>
                </a:rPr>
                <a:t>tests accurac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ahoma"/>
                </a:rPr>
                <a:t>repeatability &amp; reproducibil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07527"/>
            <p:cNvSpPr/>
            <p:nvPr/>
          </p:nvSpPr>
          <p:spPr>
            <a:xfrm flipV="1">
              <a:off x="2778840" y="2113200"/>
              <a:ext cx="4377600" cy="1890720"/>
            </a:xfrm>
            <a:custGeom>
              <a:avLst/>
              <a:gdLst>
                <a:gd name="textAreaLeft" fmla="*/ 962640 w 4377600"/>
                <a:gd name="textAreaRight" fmla="*/ 3414960 w 4377600"/>
                <a:gd name="textAreaTop" fmla="*/ 415800 h 1890720"/>
                <a:gd name="textAreaBottom" fmla="*/ 147492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Level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ahoma"/>
                </a:rPr>
                <a:t>Local interlab comp sche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ffff00"/>
                  </a:solidFill>
                  <a:latin typeface="Tahoma"/>
                </a:rPr>
                <a:t>Medium accurac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ahoma"/>
                </a:rPr>
                <a:t>medium frequenc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ahoma"/>
                </a:rPr>
                <a:t>Tests lab’s bias precision and systematic erro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07528"/>
            <p:cNvSpPr/>
            <p:nvPr/>
          </p:nvSpPr>
          <p:spPr>
            <a:xfrm flipV="1">
              <a:off x="1685880" y="4003200"/>
              <a:ext cx="6563880" cy="1891080"/>
            </a:xfrm>
            <a:custGeom>
              <a:avLst/>
              <a:gdLst>
                <a:gd name="textAreaLeft" fmla="*/ 1139400 w 6563880"/>
                <a:gd name="textAreaRight" fmla="*/ 5424480 w 6563880"/>
                <a:gd name="textAreaTop" fmla="*/ 328320 h 1891080"/>
                <a:gd name="textAreaBottom" fmla="*/ 1562760 h 189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66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Tahoma"/>
                </a:rPr>
                <a:t>Level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ahoma"/>
                </a:rPr>
                <a:t>In-house replicate / repeat tes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ahoma"/>
                </a:rPr>
                <a:t>Low cost, Medium accuracy, High frequency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ahoma"/>
                </a:rPr>
                <a:t>Tests labs random erro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10800000">
            <a:off x="8172360" y="764640"/>
            <a:ext cx="486000" cy="5040360"/>
          </a:xfrm>
          <a:prstGeom prst="downArrow">
            <a:avLst>
              <a:gd name="adj1" fmla="val 50000"/>
              <a:gd name="adj2" fmla="val 259278"/>
            </a:avLst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162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658360" y="765000"/>
            <a:ext cx="485640" cy="5040360"/>
          </a:xfrm>
          <a:prstGeom prst="downArrow">
            <a:avLst>
              <a:gd name="adj1" fmla="val 50000"/>
              <a:gd name="adj2" fmla="val 259470"/>
            </a:avLst>
          </a:prstGeom>
          <a:gradFill rotWithShape="0">
            <a:gsLst>
              <a:gs pos="0">
                <a:srgbClr val="3333cc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7045920" y="2808720"/>
            <a:ext cx="37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crease in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6555600" y="36770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4800">
            <a:off x="3621600" y="2216880"/>
            <a:ext cx="55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crease in risk of “poor” result being repor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549360"/>
            <a:ext cx="145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R&amp;R values, typical UoM values 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989000"/>
            <a:ext cx="145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Lab limits cannot be set outside R&amp;R &amp; UoM val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005360"/>
            <a:ext cx="158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Replicate tests should be correlated with Level 2 resul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151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Tahoma"/>
              </a:rPr>
              <a:t>Human resource develop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993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From Les Sampson’s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Skills development and HR growth only a priority in the last 2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Inappropriate qualifications at all lev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00"/>
                </a:solidFill>
                <a:latin typeface="Tahoma"/>
              </a:rPr>
              <a:t>CETA; Materials testing; Pavement Engine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Development of Materials testing Compete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807732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ral Civil Engineering (materials oriented) qualification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neric B Eng, B Tech &amp; N-Di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ational Certificate in Pavement Engineering - NQF 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neric National Certificate in Construction– NQF 1 – 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neric certificates in Engineering – NQF 5 – 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ational Certificate in Construction materials manufacturin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ational certificate in materials testing NQF 2 – 4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Construction Material testing qualific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??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number of them appear to be targeting a similar mark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plication of efforts?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 there a single strategic coordinated approach to developing these qualification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680" y="1980720"/>
            <a:ext cx="7826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00"/>
                </a:solidFill>
                <a:latin typeface="Tahoma"/>
              </a:rPr>
              <a:t>Construction Materials Testing qual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22 March 2006, workshop held for establishment of a </a:t>
            </a:r>
            <a:r>
              <a:rPr b="0" lang="en-ZA" sz="2400" spc="-1" strike="noStrike">
                <a:solidFill>
                  <a:srgbClr val="0066ff"/>
                </a:solidFill>
                <a:latin typeface="Tahoma"/>
              </a:rPr>
              <a:t>‘Construction Materials Testing Qualification’</a:t>
            </a: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 on behalf of the ‘</a:t>
            </a:r>
            <a:r>
              <a:rPr b="0" lang="en-ZA" sz="2400" spc="-1" strike="noStrike">
                <a:solidFill>
                  <a:srgbClr val="0066ff"/>
                </a:solidFill>
                <a:latin typeface="Tahoma"/>
              </a:rPr>
              <a:t>Construction CETA</a:t>
            </a: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’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A decision was made for the establishment of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ZA" sz="2000" spc="-1" strike="noStrike">
                <a:solidFill>
                  <a:srgbClr val="ffff00"/>
                </a:solidFill>
                <a:latin typeface="Tahoma"/>
              </a:rPr>
              <a:t>Materials Tester’s qualification</a:t>
            </a: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 and 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00"/>
                </a:solidFill>
                <a:latin typeface="Tahoma"/>
              </a:rPr>
              <a:t>Materials Tester Competency certification</a:t>
            </a: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These two frameworks were accepted in principle by Construction CE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velopment of Materials testing Competenc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00"/>
                </a:solidFill>
                <a:latin typeface="Tahoma"/>
              </a:rPr>
              <a:t>Construction Materials Testing qual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Generic qualification covering various aspects of lab testing, from NQF 2 – 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Rank the complexity of test in the various streams and modify the range statements of the unit stand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der development with SAQA – in process of review. Workshops to be held so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en though not yet approved, some training bodies are aligning training material to cover various aspects of course. Eg AsAc Materials Testers’ courses on questionnai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velopment of Materials testing Compe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680" y="1980720"/>
            <a:ext cx="7826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National Laboratory Association Materials Testers Competency Sche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ffffff"/>
                </a:solidFill>
                <a:latin typeface="Tahoma"/>
              </a:rPr>
              <a:t>NLA approached by industry to set up competency scheme based on Materials Testers’ qualific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ffffff"/>
                </a:solidFill>
                <a:latin typeface="Tahoma"/>
              </a:rPr>
              <a:t>Operator to be evaluated for </a:t>
            </a:r>
            <a:r>
              <a:rPr b="0" lang="en-ZA" sz="1800" spc="-1" strike="noStrike">
                <a:solidFill>
                  <a:srgbClr val="0066ff"/>
                </a:solidFill>
                <a:latin typeface="Tahoma"/>
              </a:rPr>
              <a:t>competency</a:t>
            </a:r>
            <a:r>
              <a:rPr b="0" lang="en-ZA" sz="1800" spc="-1" strike="noStrike">
                <a:solidFill>
                  <a:srgbClr val="ffffff"/>
                </a:solidFill>
                <a:latin typeface="Tahoma"/>
              </a:rPr>
              <a:t> to carry out a test method. The instrument consists of a </a:t>
            </a:r>
            <a:r>
              <a:rPr b="0" lang="en-ZA" sz="1800" spc="-1" strike="noStrike">
                <a:solidFill>
                  <a:srgbClr val="0066ff"/>
                </a:solidFill>
                <a:latin typeface="Tahoma"/>
              </a:rPr>
              <a:t>theoretical</a:t>
            </a:r>
            <a:r>
              <a:rPr b="0" lang="en-ZA" sz="1800" spc="-1" strike="noStrike">
                <a:solidFill>
                  <a:srgbClr val="ffffff"/>
                </a:solidFill>
                <a:latin typeface="Tahoma"/>
              </a:rPr>
              <a:t> section and a </a:t>
            </a:r>
            <a:r>
              <a:rPr b="0" lang="en-ZA" sz="1800" spc="-1" strike="noStrike">
                <a:solidFill>
                  <a:srgbClr val="0066ff"/>
                </a:solidFill>
                <a:latin typeface="Tahoma"/>
              </a:rPr>
              <a:t>practical</a:t>
            </a:r>
            <a:r>
              <a:rPr b="0" lang="en-ZA" sz="1800" spc="-1" strike="noStrike">
                <a:solidFill>
                  <a:srgbClr val="ffffff"/>
                </a:solidFill>
                <a:latin typeface="Tahoma"/>
              </a:rPr>
              <a:t> sec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ffffff"/>
                </a:solidFill>
                <a:latin typeface="Tahoma"/>
              </a:rPr>
              <a:t>This competency evaluation instrument can also be used when evaluating practical work for National Diploma (Civil) / Materials Diploma stude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eme to be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SANAS accredited to ISO 1702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Personnel Competen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SANAS support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will reduce burden of proof f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ster competenc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Funding need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or go-ahe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380360" y="5148360"/>
            <a:ext cx="1512720" cy="1449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velopment of Materials testing Competenc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826920" y="1844640"/>
          <a:ext cx="7148520" cy="39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4640"/>
                    <a:ext cx="714852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 txBox="1"/>
          <p:nvPr/>
        </p:nvSpPr>
        <p:spPr>
          <a:xfrm>
            <a:off x="5183280" y="5803920"/>
            <a:ext cx="23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CS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943280" y="5803920"/>
            <a:ext cx="25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LA mat re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1557360"/>
            <a:ext cx="0" cy="5300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9860000">
            <a:off x="1763640" y="2852640"/>
            <a:ext cx="3600360" cy="486000"/>
          </a:xfrm>
          <a:prstGeom prst="rightArrow">
            <a:avLst>
              <a:gd name="adj1" fmla="val 50000"/>
              <a:gd name="adj2" fmla="val 18520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rowth in line with SAQ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82680" y="5205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velopment of Materials testing Compe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92000" y="1915920"/>
            <a:ext cx="5694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LA Testing &amp; Measurement Conferenc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3068280"/>
            <a:ext cx="7543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nual 2 day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gener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aboratory con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y specific streams eg calibration, water, electrical, wood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als with several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mon lab accreditation subjec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T sche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lidation of te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quipment handling &amp; calib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1368360" cy="1311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velopment of Materials testing Compe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3715920"/>
            <a:ext cx="75438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ic for 2008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isk management through making quality measur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5-27 August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more details se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www.nla.org.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692360" y="1916280"/>
            <a:ext cx="5694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LA Testing &amp; Measurement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1368360" cy="1311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velopment of Materials testing Compe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3284640"/>
            <a:ext cx="75438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LA has offered to host a civil engineering stre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ent and feedback on industry progress eg test methods, PT schemes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bs can workshop common issues – UoM, R&amp;R, interpretation of resul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twork with other laboratory streams to discuss common issu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PD points for materials techs / engine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velopment of Materials testing Compe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1368360" cy="1311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692000" y="1915920"/>
            <a:ext cx="5694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LA Testing &amp; Measurement Conferenc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Background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SO 17025 Accreditation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 17025 Accreditation looks at 5 areas in a laboratory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qui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easurement validity &amp; trace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ersonnel compet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ANAS – assessors, site lab accreditation, training,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Tahoma"/>
              </a:rPr>
              <a:t>Summary &amp; way forward?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0000" y="1917360"/>
            <a:ext cx="761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Tahoma"/>
              </a:rPr>
              <a:t>RPF / RECOB to support SANAS in their efforts to sort out our laboratory issu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Tahoma"/>
              </a:rPr>
              <a:t>A co-ordinated approach to education &amp; training through RECOB  / RPF nominations for mandated persons on various industry boards (ECSA, SAQA, CETA, etc) in order to expedite / unify proces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Tahoma"/>
              </a:rPr>
              <a:t>Establishment  of the NLA Materials testers competency sche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Tahoma"/>
              </a:rPr>
              <a:t>Establishment  of Civil Eng stream at NLA annual T&amp;M confer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26920" y="0"/>
            <a:ext cx="3961080" cy="42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an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700360" y="3213000"/>
            <a:ext cx="5543640" cy="24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y questions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42920" y="404640"/>
            <a:ext cx="60325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ANAS – assessors, site lab accreditation, training, etc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NAS has put together a strategic plan for Civ Eng laboratories which covers a number of areas incl test methods, PT schemes, no of assessors and site lab accredit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chnical assesso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at present available with a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very soon. (3xGP &amp; 1xEC) with capacity for 9 assessment p.a. ea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NAS will be training a further 3 in Aug this year (preferably BE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rgeting academics for certain areas (esp. cement production industry) due to competi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ward possible candidates to me: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damhuisr@nra.co.z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marlanp@sanas.co.z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www.sanas.co.z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more information on SAN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04640"/>
            <a:ext cx="2732040" cy="13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2920" y="404640"/>
            <a:ext cx="60325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ANAS – assessors, site lab accreditation, training, etc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te lab accredit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doc based on OZ model (NATA) but not accepted by SA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ing committee to be set up by SANAS at next STC meeting in June / Ju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4640"/>
            <a:ext cx="2732040" cy="13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SO 17025 REQUIREMENT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Measurement validity &amp; traceab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26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O 17025 demands in Section 5.9 that laboratories assure the quality of the test by one of the follow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33524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ference materi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33524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Interlab comparisons or PT sche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33524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Replicate tes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33524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Retesting of retained samp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33524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relation of results from different characteristics of an item eg PI vs 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requires that the selected method should be appropriate to the type &amp; volume of the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NAS prefers PT schemes but does not specify the mode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5651640" y="270828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6000" y="2997360"/>
            <a:ext cx="287280" cy="1079280"/>
          </a:xfrm>
          <a:custGeom>
            <a:avLst/>
            <a:gdLst>
              <a:gd name="textAreaLeft" fmla="*/ 0 w 287280"/>
              <a:gd name="textAreaRight" fmla="*/ 103680 w 28728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43880" y="3141720"/>
            <a:ext cx="15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Practical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o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826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level PT scheme proposal developed for a National Proficiency Testing Sche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lot study Gautrans &amp; WCPA (2004/0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d on CLIENT requir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SO 17025 REQUIREMENT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Measurement validity &amp; trace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924360" y="3068640"/>
            <a:ext cx="6149520" cy="1170720"/>
            <a:chOff x="3924360" y="3068640"/>
            <a:chExt cx="6149520" cy="1170720"/>
          </a:xfrm>
        </p:grpSpPr>
        <p:sp>
          <p:nvSpPr>
            <p:cNvPr id="127" name=""/>
            <p:cNvSpPr/>
            <p:nvPr/>
          </p:nvSpPr>
          <p:spPr>
            <a:xfrm>
              <a:off x="3924360" y="3932280"/>
              <a:ext cx="44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National Proficiency Assessment Services for Road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46440" y="3068640"/>
              <a:ext cx="462744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NPASR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sche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be accredited to ISO Guide 4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be run independently / sustain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stry had certain reservations about the system, esp the cost &amp; frequency of tes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PASR System has been broadened to meet the goals of various organizational groups – clients &amp; commercial la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SO 17025 REQUIREMENT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Measurement validity &amp; trace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1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adened system has 3 levels of Prof Testing to be based on national standard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PT scheme (as per origi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accuracy, Relatively High cost, low frequency – tests accuracy of labs’ results, repeatability &amp; reproducibility for various tes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interlab comp scheme: Medium accuracy, medium frequency – tests lab’s bias precision and systematic error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In-house replicate / repeat testing: Low cost, Medium accuracy, High frequency – tests labs random err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SO 17025 REQUIREMENT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Measurement validity &amp; trace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002440" y="2997360"/>
            <a:ext cx="1141560" cy="1199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677000" y="5084640"/>
            <a:ext cx="1467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1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utcomes required for system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s previous system:  National scheme with local testing cells. Cells ideally must overlap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ust be accredited to ISO Guide 4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ust be run independently / sustainabl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evels must feed into each oth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imilar basis of non-conformance for all labs ie similar actions required by labs for similar ra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ue to priority – a partnership is being developed between the taskgroup and possible service provider/s to develop the Level 2 and 3 systems. Level 1 will continue being developed and expande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gram:- Uniform Level 2 &amp; 3 Inter-lab comparison system in place by late 2009. Rest to follow thereafter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ssibility of NLA running scheme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SO 17025 REQUIREMENT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Measurement validity &amp; trace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14:00:29Z</dcterms:created>
  <dc:creator>Mustek</dc:creator>
  <dc:description/>
  <dc:language>en-US</dc:language>
  <cp:lastModifiedBy>Damhuis</cp:lastModifiedBy>
  <dcterms:modified xsi:type="dcterms:W3CDTF">2008-05-07T07:19:43Z</dcterms:modified>
  <cp:revision>115</cp:revision>
  <dc:subject/>
  <dc:title>RPF Task Group Feedback  Lab Accreditation TG Skills Development TG</dc:title>
</cp:coreProperties>
</file>