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FD-9A3A-4515-9D54-D739636C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90F-C8F2-48F2-BD70-8F6C4BE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3B7-B44A-4A19-9F84-98C3F923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72E-D4CA-4943-AAE4-6E8AA2B3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487B-AB19-4F86-B7BA-07455671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9347-841D-434E-B2E0-967C760A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388-DA5B-4E9B-85C9-37FC3EA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2F93-7B81-4652-98E5-42E5941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B31-920A-4843-92BA-AAD47A09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7574-A346-474A-A95F-8C1CF82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E1D0-0AA5-484F-8403-014973F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588-D6FC-499C-8526-615CC70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8B3-D48F-45A9-A02F-FC83EBF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87E0-A02B-4891-BC71-231018D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468-A7D2-4FA0-AA92-D680D7F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43BD-156A-4797-B4E6-F0E42EED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0340-256B-4212-8061-208D5E4E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52A-30C6-4514-A2BB-37D9F028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06E-90D2-40F7-B158-6CC608A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51A-1EFB-461A-BE77-0F58A48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D7E-02ED-40CB-9806-F5E0237C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493-138C-47DA-BE27-DB9E76D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4A0-03C6-4B58-B478-1F701F3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DBB-1F36-4A19-9FEA-8AB2692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82B1-A5D6-4D3C-BC74-106406986E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6B2-7715-4427-9350-194004DE2A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3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r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REVISION OF TRH1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2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aldo L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eting of RPF - 8 Novembe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47520"/>
            <a:ext cx="21607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st significant changes to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way with “remaining life” / “end of life concepts”  - replacement not clear as yet but will be related to the functionality of the pa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ook at the design reliability concepts – needs revision but not sure what the answer is as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eaeaea"/>
                </a:solidFill>
                <a:latin typeface="Tahoma"/>
              </a:rPr>
              <a:t>Most significant changes to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definitions for short, medium and long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way with deflection criteria as in Appendix 1 of 1997 version - mis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her focus on relative dif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 well know “Cusum” p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st significant changes to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guidelines for the provision of a detailed tes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nformation is needed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is it to be obtained – take account of vari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is it to be used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guidelines to collate information to be exported to other design methods – most notably SAMD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st significant changes to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sion of concrete (rigid pavement) solutions where appropr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ility of reviving SABITA’S REACT software to be used in economic appraisal of various remedial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 referred to in the text will be provided on a CD as far as copy right restrictions prov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47520"/>
            <a:ext cx="21589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y of TRH1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 rehabilitation research work started circa 19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12 appear in 1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vision in 1990/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vision 1997 (minor altera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revision 2005/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rd revis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identified during 200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ed comments from individ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o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RAL committed fu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committee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itte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naldo Lo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bus van der Wal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rit Jord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hepe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n van Wij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ric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ilip Joube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tz Joos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&amp;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m Jenki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han Hattin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yan Perri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&amp;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re Molenaa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Delft - Mod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verview of com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ly acceptable proced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H12 more a textbook than a guideline doc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guidelines and procedures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racy / correctness of criteria related to deflection measurements (different device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evance of AI, TRRL and Shell overlay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in traffic loading predi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Overview of com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sign reliability concept and how to cater for vari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ove readability and provide examp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process more clear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more definitive guidelines with explanatory append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ackage to make clearer – include relevant available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on some defin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Tendering for consultant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59640" y="2276640"/>
            <a:ext cx="1584360" cy="3528720"/>
            <a:chOff x="6659640" y="2276640"/>
            <a:chExt cx="1584360" cy="3528720"/>
          </a:xfrm>
        </p:grpSpPr>
        <p:sp>
          <p:nvSpPr>
            <p:cNvPr id="125" name=""/>
            <p:cNvSpPr/>
            <p:nvPr/>
          </p:nvSpPr>
          <p:spPr>
            <a:xfrm>
              <a:off x="6659640" y="2276640"/>
              <a:ext cx="1584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4000" y="2276640"/>
              <a:ext cx="0" cy="3528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884720" y="5805360"/>
              <a:ext cx="3589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vision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step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sed on comments received prepare first dr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Review first dra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review prepare second dr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view second dra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third dr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inal review and fina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ject phas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328464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6000" y="328464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3500280"/>
            <a:ext cx="7920000" cy="1512720"/>
            <a:chOff x="900000" y="3500280"/>
            <a:chExt cx="7920000" cy="1512720"/>
          </a:xfrm>
        </p:grpSpPr>
        <p:sp>
          <p:nvSpPr>
            <p:cNvPr id="137" name=""/>
            <p:cNvSpPr/>
            <p:nvPr/>
          </p:nvSpPr>
          <p:spPr>
            <a:xfrm>
              <a:off x="900000" y="3500280"/>
              <a:ext cx="1584360" cy="1512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500280"/>
              <a:ext cx="1584360" cy="1512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36000" y="3500280"/>
              <a:ext cx="1584000" cy="1512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4360" y="3500280"/>
              <a:ext cx="1584360" cy="1512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280" y="3500280"/>
              <a:ext cx="1584360" cy="1512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42920" y="400500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Initial Assess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6000" y="4005000"/>
              <a:ext cx="136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Detailed Assess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1640" y="4005000"/>
              <a:ext cx="122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Preliminary Desig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6000" y="4005000"/>
              <a:ext cx="122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Detail Desig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8720" y="4005000"/>
              <a:ext cx="14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Procurement Docu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84360" y="1916280"/>
            <a:ext cx="316728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116080"/>
            <a:ext cx="24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resent Detailed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6453360"/>
            <a:ext cx="3167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6453360"/>
            <a:ext cx="3166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80536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nvestigation and Analysis = 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59500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habilitation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144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5800" y="522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997360"/>
            <a:ext cx="3167280" cy="276480"/>
          </a:xfrm>
          <a:prstGeom prst="rect">
            <a:avLst/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Fact finding / 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997360"/>
            <a:ext cx="1584360" cy="276480"/>
          </a:xfrm>
          <a:prstGeom prst="rect">
            <a:avLst/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Decision ma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2997360"/>
            <a:ext cx="3168360" cy="276480"/>
          </a:xfrm>
          <a:prstGeom prst="rect">
            <a:avLst/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Finalis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2000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69440" y="5229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916280"/>
            <a:ext cx="158436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ahoma"/>
              </a:rPr>
              <a:t>Initial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916280"/>
            <a:ext cx="158436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0606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ahoma"/>
              </a:rPr>
              <a:t>Detail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395280" y="1915920"/>
            <a:ext cx="393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358920" y="3933360"/>
            <a:ext cx="393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900000" y="2781360"/>
            <a:ext cx="215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2637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RH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781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6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6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0:30:49Z</dcterms:created>
  <dc:creator>hOME</dc:creator>
  <dc:description/>
  <dc:language>en-US</dc:language>
  <cp:lastModifiedBy>User @</cp:lastModifiedBy>
  <dcterms:modified xsi:type="dcterms:W3CDTF">2006-11-08T11:10:08Z</dcterms:modified>
  <cp:revision>19</cp:revision>
  <dc:subject/>
  <dc:title>TRH12 - REVISION</dc:title>
</cp:coreProperties>
</file>