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51D-4074-4F32-8FDA-CE8ADF3A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1D3-9D53-4761-9EEA-9F7271D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42F-A59E-4F06-AA6D-AF8E128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EB7-4FDE-4D40-91C5-9ECD6250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7D7-910F-4144-BA95-8652222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764-9DE0-455C-B669-A27BE20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F20-211C-4FB9-8B69-BEF001DC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734-EA93-4957-ABCE-8C3FA013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0D-2736-4CDE-BCB8-4E0F28E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826-B3E5-4FE8-82F4-DB51369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1AC-7347-436C-8EC9-04706A0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0F-437C-46AE-B588-4FDE0444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C79B-0A64-4261-BACC-94C354A2374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0328400" cy="704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991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sphalt Academ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Feedback to RP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 Nov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100800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a50021"/>
                </a:solidFill>
                <a:latin typeface="Arial"/>
              </a:rPr>
              <a:t>Relationship with Tertiary Instit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Alliance with Continued Education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Pre-empts the need for 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Focus on NQF level 4 and above for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Ad hoc feedback of best-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Relationship with C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Provide technical support to C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Industry entry point for bituminou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Course material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sAc will coordinate technical input into the quality of the training material related to bituminous products un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sAc will provide input into the accreditation process of course pres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Block course in Flexible Pavement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Targeted at new entrants into the road sector (civil engineers, technicians &amp; technolog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7 modules over 11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1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Materials investigation &amp; design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Structural pavement design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Tendering &amp; documentation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1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Construction &amp; quality control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Maintenance &amp; asset management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1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Final assessment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1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Block course in Flexible Pavement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Run through tertiary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Project theme through all the modules as course work for fin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New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CSIR commissioned to put together existing material and identify developm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Presented over 11 weeks in a year from May/June 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Linkage to higher degree or CP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Revision &amp; Upgrade of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Course restructured into 5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Sampling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3 day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Granular material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5 day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Dec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Aggregate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4 day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Bituminous product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5 day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Dec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Asphalt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5 days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Course notes can be modified for level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Theory am; Practical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Course presented from March 06 at TUT, CPUT and DIT (web site for further in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Revision of TG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omic Sans MS"/>
              </a:rPr>
              <a:t>TG 1: Modified B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In parallel to Bit Spec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Tests on report need updating (DR datab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Classification needs review - not totally suitable for new modifiers in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a50021"/>
                </a:solidFill>
                <a:latin typeface="Comic Sans MS"/>
              </a:rPr>
              <a:t>Re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ZA" sz="2800" spc="-1" strike="noStrike">
                <a:solidFill>
                  <a:srgbClr val="a50021"/>
                </a:solidFill>
                <a:latin typeface="Comic Sans MS"/>
              </a:rPr>
              <a:t>RPF should reconvene the Modified Binders Task Group under the Chairpersonship of D Ross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omic Sans MS"/>
              </a:rPr>
              <a:t>TG 2: Foam Bit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To be incorporated into the new Bitumen Stabilisation manual</a:t>
            </a: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4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a50021"/>
                </a:solidFill>
                <a:latin typeface="Arial"/>
              </a:rPr>
              <a:t>Other 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BitSafe Training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Course run through AsAc on behalf of Sab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Trainers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Linked to uni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Certification unde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On line in first quarter of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Manual 24; Practical HMA Desig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One seminar in Pre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KZN - 15 Feb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omic Sans MS"/>
              </a:rPr>
              <a:t>Western Cape – 16 Feb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Industry need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HMA Forensic study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864720" cy="710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20000" y="357336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Asphalt Academy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As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540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ablished January 2001 (launch May 2001 R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gistered as a Trust on 5 Jun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-profit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aged by a Board of Trus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aborative initiative between Sabita and CSIR, Transpor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nual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ab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2 Cours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3 Course Presentation (58 courses schedu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4 CAPSA &amp; modification of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05 Consolidation of strategy with increas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dependence from sponsors and a broad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nsorship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Operational Thrus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ducation, Training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sure that courses and curricula offered at institutions of learning are consistent and relevant to industry needs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ular assessment of course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ing relevant knowledge transfer to lecturers, trainers and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sure that courses and post-graduate studies are properly scheduled, coordinated and aligned with relevant legislation and quality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nowledge transfer to practition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ld seminars and workshops to disseminate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blish and distribute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age and maintain appropriate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port and participate in CAPSA and RP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pport of Sabita and CSIR Transportek courses and initiatives within South Africa and into SADC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gress to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61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wo best-practice manuals published and launc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G 1: The use and application of modified b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G 2: The design and use of foamed bitumen treate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 new courses developed in line with industry unit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 to bit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lication of surface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lication of 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facture of 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tuminous pavement repairs (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truction of surface seals (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courses developed and pres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phalt Testers course (A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 of surfacing seals (revised TRH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 of Hot mix Asphalt (SAHMA design gu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rogress to November 2005 ..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ver R250 000 invested in course development and upgr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250 000 for the current financial year mainly for the Block Course in Flexible Pavemen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roved understanding of AsAc’s role related to the CETA and S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bita library relocated at Transportek as the AsAc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wo RPF task groups conv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SA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urse schedule opti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ategic alli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ZN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ining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urse Profile to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849240"/>
          <a:ext cx="9144000" cy="6010200"/>
        </p:xfrm>
        <a:graphic>
          <a:graphicData uri="http://schemas.openxmlformats.org/drawingml/2006/table">
            <a:tbl>
              <a:tblPr/>
              <a:tblGrid>
                <a:gridCol w="6012000"/>
                <a:gridCol w="1565280"/>
                <a:gridCol w="156672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ducation, Training and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f Cou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f Attend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roduction to bitu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ication of surfacing s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halt Testers Course (A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tuminous Materials on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lication of H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ign of H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ign of Surfacing S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ced Bitumen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lity management of bitu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file of other activities to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996840"/>
          <a:ext cx="9142560" cy="5600520"/>
        </p:xfrm>
        <a:graphic>
          <a:graphicData uri="http://schemas.openxmlformats.org/drawingml/2006/table">
            <a:tbl>
              <a:tblPr/>
              <a:tblGrid>
                <a:gridCol w="4954680"/>
                <a:gridCol w="1395360"/>
                <a:gridCol w="1396800"/>
                <a:gridCol w="1395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going Practitioner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f Attend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f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G 1: Modified Binders Guid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 ’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G 2: Foam Bitumen Guide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p ’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H 3/IGHMA Design 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n ’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ltra Thin Asphalt worksh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y ‘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am Bitumen workshop (SAT/Gautrans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 ‘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RF Compaction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g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PSA Tuto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p ’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PSA 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p ‘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perSurf 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 ‘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bita manual 24 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g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a50021"/>
                </a:solidFill>
                <a:latin typeface="Arial"/>
              </a:rPr>
              <a:t>Summary of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-252360" y="1341360"/>
          <a:ext cx="7488360" cy="55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341360"/>
                    <a:ext cx="74883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005/06 Issues and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ionship with Tertiary Institutions and accreditation of courses and pres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ationship with the CETA and acceptance/accreditation of AsAc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Expansion of Strategic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Strategic partners to expand sponsorship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Targeted client authorities in line with training needs of 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SAICE/SAACE/SAF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EP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ock Course on Flexible Pavement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vision and upgrade of ATC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Upgrade of T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Comic Sans MS"/>
              </a:rPr>
              <a:t>Bitumen Safety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13:58:28Z</dcterms:created>
  <dc:creator>Mustek</dc:creator>
  <dc:description/>
  <dc:language>en-US</dc:language>
  <cp:lastModifiedBy>Mustek</cp:lastModifiedBy>
  <dcterms:modified xsi:type="dcterms:W3CDTF">2005-11-23T06:04:42Z</dcterms:modified>
  <cp:revision>24</cp:revision>
  <dc:subject/>
  <dc:title>Slide 1</dc:title>
</cp:coreProperties>
</file>