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5200" y="346500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9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468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80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520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468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80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14320" y="-360"/>
            <a:ext cx="76392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9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5200" y="346500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9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2468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520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2468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14320" y="-360"/>
            <a:ext cx="76392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9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3" marL="16002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4" marL="20574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5" marL="2057400" indent="-228600">
              <a:lnSpc>
                <a:spcPts val="2200"/>
              </a:lnSpc>
              <a:spcBef>
                <a:spcPts val="550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6" marL="2057400" indent="-228600">
              <a:lnSpc>
                <a:spcPts val="2200"/>
              </a:lnSpc>
              <a:spcBef>
                <a:spcPts val="550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35472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2d50"/>
                </a:solidFill>
                <a:latin typeface="Arial"/>
              </a:rPr>
              <a:t>Slide </a:t>
            </a:r>
            <a:fld id="{7E6253DF-5247-4E52-8C55-99DEAB27642C}" type="slidenum">
              <a:rPr b="0" lang="en-US" sz="1200" spc="-1" strike="noStrike">
                <a:solidFill>
                  <a:srgbClr val="012d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5000"/>
            <a:ext cx="9144000" cy="7164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50000">
                <a:srgbClr val="828daa"/>
              </a:gs>
              <a:gs pos="100000">
                <a:srgbClr val="081d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83808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8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838080" cy="66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pis.roadrehab.com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7760" y="2666880"/>
            <a:ext cx="843588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th African Pavement Design Metho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APDM) Revision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PF Feedback 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y 2008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ouw Kannemey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7639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PPI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1042920" y="1290600"/>
            <a:ext cx="7819920" cy="460044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996840" y="853920"/>
            <a:ext cx="3127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37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Graphical  View 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7639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PPI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561960" y="1633680"/>
            <a:ext cx="8582040" cy="324792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996840" y="853920"/>
            <a:ext cx="5775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37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Representation of 50 Captured Sections 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7639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PPI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996840" y="853920"/>
            <a:ext cx="57754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37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ypical Performance Trends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457200">
              <a:lnSpc>
                <a:spcPts val="2200"/>
              </a:lnSpc>
              <a:spcBef>
                <a:spcPts val="137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  </a:t>
            </a: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Granular Base / Cemented Subbase 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1681200" y="1809720"/>
            <a:ext cx="6543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7639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PPI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996840" y="853920"/>
            <a:ext cx="57754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37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ypical Performance Trends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457200">
              <a:lnSpc>
                <a:spcPts val="2200"/>
              </a:lnSpc>
              <a:spcBef>
                <a:spcPts val="137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  </a:t>
            </a: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Asphalt Base  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1386000" y="1871640"/>
            <a:ext cx="64864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7639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PPI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20880" y="1434960"/>
            <a:ext cx="788040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What Next ?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4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unch PPIS website and obtain feedback from the industry;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ts val="1899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erform ongoing improvement of the concept of web-based access to pavement performance information;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ts val="1899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view Bitumen Stabilised Material Project Sections and include 15 sections into PPIS;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ts val="1899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corporate the Data Collection Framework into the SANRAL Manual M1;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ts val="1899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ize submittal of all design data with the Project Design Documentation based on the proforma electronic PPIS Database File.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>
              <a:lnSpc>
                <a:spcPts val="1899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velopment of a First Level Performance Based Design Method.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ts val="1899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>
              <a:lnSpc>
                <a:spcPts val="1899"/>
              </a:lnSpc>
              <a:spcBef>
                <a:spcPts val="24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>
              <a:lnSpc>
                <a:spcPts val="1899"/>
              </a:lnSpc>
              <a:spcBef>
                <a:spcPts val="24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83296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MEAS Phase 2 Outcome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1"/>
          <a:stretch/>
        </p:blipFill>
        <p:spPr>
          <a:xfrm rot="16200000">
            <a:off x="1893600" y="16920"/>
            <a:ext cx="5915160" cy="776592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252440" y="2308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83296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MEAS Phase 2 Outcome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252440" y="2308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1117440" y="1481040"/>
            <a:ext cx="7683480" cy="4682880"/>
            <a:chOff x="1117440" y="1481040"/>
            <a:chExt cx="7683480" cy="4682880"/>
          </a:xfrm>
        </p:grpSpPr>
        <p:grpSp>
          <p:nvGrpSpPr>
            <p:cNvPr id="1235" name=""/>
            <p:cNvGrpSpPr/>
            <p:nvPr/>
          </p:nvGrpSpPr>
          <p:grpSpPr>
            <a:xfrm>
              <a:off x="1123560" y="1486440"/>
              <a:ext cx="7670160" cy="4670280"/>
              <a:chOff x="1123560" y="1486440"/>
              <a:chExt cx="7670160" cy="4670280"/>
            </a:xfrm>
          </p:grpSpPr>
          <p:grpSp>
            <p:nvGrpSpPr>
              <p:cNvPr id="1236" name=""/>
              <p:cNvGrpSpPr/>
              <p:nvPr/>
            </p:nvGrpSpPr>
            <p:grpSpPr>
              <a:xfrm>
                <a:off x="1123560" y="1486440"/>
                <a:ext cx="2307600" cy="933840"/>
                <a:chOff x="1123560" y="1486440"/>
                <a:chExt cx="2307600" cy="9338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1172880" y="1486440"/>
                  <a:ext cx="22086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Phase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123560" y="1486440"/>
                  <a:ext cx="2307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3431520" y="1486440"/>
                <a:ext cx="1024560" cy="933840"/>
                <a:chOff x="3431520" y="1486440"/>
                <a:chExt cx="1024560" cy="93384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3481200" y="1486440"/>
                  <a:ext cx="9252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Start date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3431520" y="1486440"/>
                  <a:ext cx="102456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4456800" y="1486440"/>
                <a:ext cx="1025280" cy="933840"/>
                <a:chOff x="4456800" y="1486440"/>
                <a:chExt cx="1025280" cy="9338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4506480" y="1486440"/>
                  <a:ext cx="9252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End Date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456800" y="1486440"/>
                  <a:ext cx="102528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5482440" y="1486440"/>
                <a:ext cx="1692720" cy="933840"/>
                <a:chOff x="5482440" y="1486440"/>
                <a:chExt cx="1692720" cy="93384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5531760" y="1486440"/>
                  <a:ext cx="159372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Estimated Cost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5482440" y="1486440"/>
                  <a:ext cx="169272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7175880" y="1486440"/>
                <a:ext cx="1617840" cy="933840"/>
                <a:chOff x="7175880" y="1486440"/>
                <a:chExt cx="1617840" cy="93384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7225560" y="1486440"/>
                  <a:ext cx="15177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Cumulative Cost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7175880" y="1486440"/>
                  <a:ext cx="161784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1123560" y="2420640"/>
                <a:ext cx="2307600" cy="933480"/>
                <a:chOff x="1123560" y="2420640"/>
                <a:chExt cx="2307600" cy="93348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1172880" y="2420640"/>
                  <a:ext cx="220860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Immediate (18 months)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123560" y="2420640"/>
                  <a:ext cx="230760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3431520" y="2420640"/>
                <a:ext cx="1024560" cy="933480"/>
                <a:chOff x="3431520" y="2420640"/>
                <a:chExt cx="1024560" cy="9334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3481200" y="2420640"/>
                  <a:ext cx="92520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pr 2008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431520" y="2420640"/>
                  <a:ext cx="102456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4456800" y="2420640"/>
                <a:ext cx="1025280" cy="933480"/>
                <a:chOff x="4456800" y="2420640"/>
                <a:chExt cx="1025280" cy="9334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4506480" y="2420640"/>
                  <a:ext cx="92520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Dec 2009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456800" y="2420640"/>
                  <a:ext cx="102528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5482440" y="2420640"/>
                <a:ext cx="1692720" cy="933480"/>
                <a:chOff x="5482440" y="2420640"/>
                <a:chExt cx="1692720" cy="933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5531760" y="2420640"/>
                  <a:ext cx="159372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 41 740 599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482440" y="2420640"/>
                  <a:ext cx="169272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7175880" y="2420640"/>
                <a:ext cx="1617840" cy="933480"/>
                <a:chOff x="7175880" y="2420640"/>
                <a:chExt cx="1617840" cy="9334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7225560" y="2420640"/>
                  <a:ext cx="151776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 41 740 599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175880" y="2420640"/>
                  <a:ext cx="161784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1123560" y="3354480"/>
                <a:ext cx="2307600" cy="933840"/>
                <a:chOff x="1123560" y="3354480"/>
                <a:chExt cx="2307600" cy="93384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1172880" y="3354480"/>
                  <a:ext cx="22086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Short-term (3 years)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123560" y="3354480"/>
                  <a:ext cx="2307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431520" y="3354480"/>
                <a:ext cx="1024560" cy="933840"/>
                <a:chOff x="3431520" y="3354480"/>
                <a:chExt cx="1024560" cy="93384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481200" y="3354480"/>
                  <a:ext cx="9252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pr 2008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431520" y="3354480"/>
                  <a:ext cx="102456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4456800" y="3354480"/>
                <a:ext cx="1025280" cy="933840"/>
                <a:chOff x="4456800" y="3354480"/>
                <a:chExt cx="1025280" cy="93384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4506480" y="3354480"/>
                  <a:ext cx="9252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Mar 2011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456800" y="3354480"/>
                  <a:ext cx="102528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5482440" y="3354480"/>
                <a:ext cx="1692720" cy="933840"/>
                <a:chOff x="5482440" y="3354480"/>
                <a:chExt cx="1692720" cy="93384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5531760" y="3354480"/>
                  <a:ext cx="159372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 6 291 064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482440" y="3354480"/>
                  <a:ext cx="169272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7175880" y="3354480"/>
                <a:ext cx="1617840" cy="933840"/>
                <a:chOff x="7175880" y="3354480"/>
                <a:chExt cx="1617840" cy="93384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7225560" y="3354480"/>
                  <a:ext cx="15177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 48 031 623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7175880" y="3354480"/>
                  <a:ext cx="161784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1123560" y="4289040"/>
                <a:ext cx="2307600" cy="933840"/>
                <a:chOff x="1123560" y="4289040"/>
                <a:chExt cx="2307600" cy="93384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1172880" y="4289040"/>
                  <a:ext cx="22086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Medium-term (5 years)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1123560" y="4289040"/>
                  <a:ext cx="2307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3431520" y="4289040"/>
                <a:ext cx="1024560" cy="933840"/>
                <a:chOff x="3431520" y="4289040"/>
                <a:chExt cx="1024560" cy="93384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3481200" y="4289040"/>
                  <a:ext cx="9252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pr 2008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431520" y="4289040"/>
                  <a:ext cx="102456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4456800" y="4289040"/>
                <a:ext cx="1025280" cy="933840"/>
                <a:chOff x="4456800" y="4289040"/>
                <a:chExt cx="1025280" cy="93384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506480" y="4289040"/>
                  <a:ext cx="9252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Mar 2012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456800" y="4289040"/>
                  <a:ext cx="102528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5482440" y="4289040"/>
                <a:ext cx="1692720" cy="933840"/>
                <a:chOff x="5482440" y="4289040"/>
                <a:chExt cx="1692720" cy="93384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5531760" y="4289040"/>
                  <a:ext cx="159372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 4 875 854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82440" y="4289040"/>
                  <a:ext cx="169272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7175880" y="4289040"/>
                <a:ext cx="1617840" cy="933840"/>
                <a:chOff x="7175880" y="4289040"/>
                <a:chExt cx="1617840" cy="93384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7225560" y="4289040"/>
                  <a:ext cx="15177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 52 907 477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175880" y="4289040"/>
                  <a:ext cx="161784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1123560" y="5223240"/>
                <a:ext cx="2307600" cy="933480"/>
                <a:chOff x="1123560" y="5223240"/>
                <a:chExt cx="2307600" cy="93348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1172880" y="5223240"/>
                  <a:ext cx="220860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Long-term (10 years)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1123560" y="5223240"/>
                  <a:ext cx="230760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3431520" y="5223240"/>
                <a:ext cx="1024560" cy="933480"/>
                <a:chOff x="3431520" y="5223240"/>
                <a:chExt cx="1024560" cy="93348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3481200" y="5223240"/>
                  <a:ext cx="92520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pr 2008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3431520" y="5223240"/>
                  <a:ext cx="102456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4456800" y="5223240"/>
                <a:ext cx="1025280" cy="933480"/>
                <a:chOff x="4456800" y="5223240"/>
                <a:chExt cx="1025280" cy="93348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4506480" y="5223240"/>
                  <a:ext cx="92520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Mar 2017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456800" y="5223240"/>
                  <a:ext cx="102528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5482440" y="5223240"/>
                <a:ext cx="1692720" cy="933480"/>
                <a:chOff x="5482440" y="5223240"/>
                <a:chExt cx="1692720" cy="93348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5531760" y="5223240"/>
                  <a:ext cx="159372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 2 109 423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5482440" y="5223240"/>
                  <a:ext cx="169272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7175880" y="5223240"/>
                <a:ext cx="1617840" cy="933480"/>
                <a:chOff x="7175880" y="5223240"/>
                <a:chExt cx="1617840" cy="93348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7225560" y="5223240"/>
                  <a:ext cx="1517760" cy="9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 55 016 900</a:t>
                  </a: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175880" y="5223240"/>
                  <a:ext cx="1617840" cy="93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afaf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1" name=""/>
            <p:cNvSpPr/>
            <p:nvPr/>
          </p:nvSpPr>
          <p:spPr>
            <a:xfrm>
              <a:off x="1117440" y="1481040"/>
              <a:ext cx="7683480" cy="468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1049400" y="9270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The Costs ?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83296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MEAS Peer Review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52440" y="2308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63640" y="870120"/>
            <a:ext cx="82803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Ph</a:t>
            </a:r>
            <a:r>
              <a:rPr b="0" lang="en-GB" sz="2400" spc="-1" strike="noStrike">
                <a:solidFill>
                  <a:srgbClr val="012d50"/>
                </a:solidFill>
                <a:latin typeface="Arial"/>
                <a:ea typeface="Times New Roman"/>
              </a:rPr>
              <a:t>ase 2 outputs from the individual projects was synthesised into a single summary report.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2d50"/>
                </a:solidFill>
                <a:latin typeface="Arial"/>
                <a:ea typeface="Times New Roman"/>
              </a:rPr>
              <a:t>All Reports subject to peer review: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f Andre Molenaar (Netherlands);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f Fred Hugo (Stellenbosch),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 Pieter Strauss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 Pieter Poolman, University of Oregon USA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 Andre Smit, National Center for Asphalt Technology (NCAT), Auburn, USA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 Imad L. Al-Qadi, Center for Transportation, University of Illino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SA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 Don Christensen PE,  Advanced Asphalt Technologies, USA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 Ramon Bonaquist PE,  Advanced Asphalt Technologies, USA .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83296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MEAS Peer Review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252440" y="2308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863640" y="870120"/>
            <a:ext cx="80899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112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12d50"/>
                </a:solidFill>
                <a:latin typeface="Arial"/>
                <a:ea typeface="Times New Roman"/>
              </a:rPr>
              <a:t>“</a:t>
            </a:r>
            <a:r>
              <a:rPr b="0" lang="en-ZA" sz="1800" spc="-1" strike="noStrike">
                <a:solidFill>
                  <a:srgbClr val="012d50"/>
                </a:solidFill>
                <a:latin typeface="Arial"/>
                <a:ea typeface="Times New Roman"/>
              </a:rPr>
              <a:t>having an extremely advanced pavement design engine implemented in an inadequate planning process will not address South Africa’s needs”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380880" indent="-380880" algn="just">
              <a:spcBef>
                <a:spcPts val="112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12d50"/>
                </a:solidFill>
                <a:latin typeface="Arial"/>
                <a:ea typeface="Times New Roman"/>
              </a:rPr>
              <a:t>Must take full cognisance of the in-service operating conditions of the pavement and the impact thereof on the design inputs</a:t>
            </a:r>
            <a:r>
              <a:rPr b="0" lang="en-GB" sz="1800" spc="-1" strike="noStrike">
                <a:solidFill>
                  <a:srgbClr val="012d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380880" indent="-380880" algn="just">
              <a:spcBef>
                <a:spcPts val="112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12d50"/>
                </a:solidFill>
                <a:latin typeface="Arial"/>
                <a:ea typeface="Times New Roman"/>
              </a:rPr>
              <a:t>Functional performance simulation must be an integral part of the pavement design process</a:t>
            </a:r>
            <a:r>
              <a:rPr b="0" lang="en-GB" sz="1800" spc="-1" strike="noStrike">
                <a:solidFill>
                  <a:srgbClr val="012d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380880" indent="-380880" algn="just">
              <a:spcBef>
                <a:spcPts val="112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12d50"/>
                </a:solidFill>
                <a:latin typeface="Arial"/>
                <a:ea typeface="Times New Roman"/>
              </a:rPr>
              <a:t>A comprehensive cost-benefit analysis procedure assessing different life-cycle strategies and including cost and benefits for road users as well as road authorities must form part of the final deliverable</a:t>
            </a:r>
            <a:r>
              <a:rPr b="0" lang="en-GB" sz="1800" spc="-1" strike="noStrike">
                <a:solidFill>
                  <a:srgbClr val="012d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380880" indent="-380880" algn="just">
              <a:spcBef>
                <a:spcPts val="112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d5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12d50"/>
                </a:solidFill>
                <a:latin typeface="Arial"/>
                <a:ea typeface="Times New Roman"/>
              </a:rPr>
              <a:t>For the successful implementation and utilisation:  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12d50"/>
                </a:solidFill>
                <a:latin typeface="Arial"/>
                <a:ea typeface="Times New Roman"/>
              </a:rPr>
              <a:t>Be easy to use on a day to day basis by pavement engineers</a:t>
            </a:r>
            <a:r>
              <a:rPr b="0" lang="en-GB" sz="1600" spc="-1" strike="noStrike">
                <a:solidFill>
                  <a:srgbClr val="012d5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12d50"/>
                </a:solidFill>
                <a:latin typeface="Arial"/>
                <a:ea typeface="Times New Roman"/>
              </a:rPr>
              <a:t>Keep input data to essential minimum that is readily available to the user</a:t>
            </a:r>
            <a:r>
              <a:rPr b="0" lang="en-GB" sz="1600" spc="-1" strike="noStrike">
                <a:solidFill>
                  <a:srgbClr val="012d5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12d50"/>
                </a:solidFill>
                <a:latin typeface="Arial"/>
                <a:ea typeface="Times New Roman"/>
              </a:rPr>
              <a:t>Relay on results of test equipment generally available in practice</a:t>
            </a:r>
            <a:r>
              <a:rPr b="0" lang="en-GB" sz="1600" spc="-1" strike="noStrike">
                <a:solidFill>
                  <a:srgbClr val="012d5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10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12d50"/>
                </a:solidFill>
                <a:latin typeface="Arial"/>
                <a:ea typeface="Times New Roman"/>
              </a:rPr>
              <a:t>Not require knowledge that goes beyond what can reasonably be expected of an educated pavement engineer in practice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83296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MEAS ???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252440" y="2308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 rot="16200000">
            <a:off x="1897920" y="-192960"/>
            <a:ext cx="6005520" cy="8096400"/>
          </a:xfrm>
          <a:prstGeom prst="rect">
            <a:avLst/>
          </a:prstGeom>
          <a:ln w="0">
            <a:noFill/>
          </a:ln>
        </p:spPr>
      </p:pic>
      <p:sp>
        <p:nvSpPr>
          <p:cNvPr id="1328" name=""/>
          <p:cNvSpPr/>
          <p:nvPr/>
        </p:nvSpPr>
        <p:spPr>
          <a:xfrm>
            <a:off x="1268280" y="1636560"/>
            <a:ext cx="592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4320" y="142560"/>
            <a:ext cx="832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Historical Overview – SAMDM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0720" y="1413000"/>
            <a:ext cx="793764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The SAMDM used since 1980s in various form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method is better than no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DoT insisted that consultants design using SAM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ttempt to introduce more “Science” and reduce “A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LSYM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DM used for developing design catalogues in 1984 and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RH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-scale design software implementation since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MEPADS, Rubicon, C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development of engineering models slowed down because of a lack of funding since early 19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81600" y="4167360"/>
            <a:ext cx="33624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83296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MEA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252440" y="2308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25244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268280" y="1636560"/>
            <a:ext cx="592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920880" y="1434960"/>
            <a:ext cx="788040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What Next ?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4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nalise the end product framework and inter dependencies;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4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s to the current project plan based on: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2" marL="1244520" indent="-291960" algn="just">
              <a:lnSpc>
                <a:spcPct val="100000"/>
              </a:lnSpc>
              <a:spcBef>
                <a:spcPts val="4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 of functional performance simul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oughness, texture, friction …) – Close gap between PMS and Design;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2" marL="1244520" indent="-291960" algn="just">
              <a:lnSpc>
                <a:spcPct val="100000"/>
              </a:lnSpc>
              <a:spcBef>
                <a:spcPts val="4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 economic analysis of design alternatives and maintenance strategies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2" marL="1244520" indent="-291960" algn="just">
              <a:lnSpc>
                <a:spcPct val="100000"/>
              </a:lnSpc>
              <a:spcBef>
                <a:spcPts val="4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tion of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nding available. 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4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ject te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o re-evaluate project deliverables and how it will fit in to final product as first task during phase 3 – Get common understanding of envisaged end product.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4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vised Phase 3 to start June 2008.</a:t>
            </a: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  <a:p>
            <a:pPr lvl="1" marL="762120" indent="-304920">
              <a:lnSpc>
                <a:spcPts val="1899"/>
              </a:lnSpc>
              <a:spcBef>
                <a:spcPts val="2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14320" y="171000"/>
            <a:ext cx="76392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Typical SA Pavement and SAMDM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2400" y="1892160"/>
            <a:ext cx="2778120" cy="1969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35000" y="2157480"/>
            <a:ext cx="2695680" cy="506520"/>
            <a:chOff x="1035000" y="2157480"/>
            <a:chExt cx="2695680" cy="506520"/>
          </a:xfrm>
        </p:grpSpPr>
        <p:sp>
          <p:nvSpPr>
            <p:cNvPr id="89" name=""/>
            <p:cNvSpPr/>
            <p:nvPr/>
          </p:nvSpPr>
          <p:spPr>
            <a:xfrm>
              <a:off x="111816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4760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1320" y="2416320"/>
              <a:ext cx="8964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5000" y="2549880"/>
              <a:ext cx="8928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94840" y="2281320"/>
              <a:ext cx="9036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0"/>
                  </a:moveTo>
                  <a:lnTo>
                    <a:pt x="85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1880" y="2549880"/>
              <a:ext cx="8964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65040" y="215748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7640" y="215748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0688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7744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668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58920" y="241632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7640" y="241632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00400" y="2416320"/>
              <a:ext cx="8964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64480" y="2549880"/>
              <a:ext cx="8928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3720" y="2549880"/>
              <a:ext cx="8928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2576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11720" y="2549880"/>
              <a:ext cx="90360" cy="11412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9596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8504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672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07280" y="2281320"/>
              <a:ext cx="9036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0"/>
                  </a:moveTo>
                  <a:lnTo>
                    <a:pt x="85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6652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9480" y="2416320"/>
              <a:ext cx="8964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78560" y="2416320"/>
              <a:ext cx="8964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6720" y="241632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0440" y="2549880"/>
              <a:ext cx="90360" cy="11412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3560" y="2549880"/>
              <a:ext cx="8928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524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48760" y="2549880"/>
              <a:ext cx="8964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2580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488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72680" y="215748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432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9600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25800" y="241632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08400" y="2416320"/>
              <a:ext cx="8964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66560" y="241632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31720" y="2549880"/>
              <a:ext cx="8928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89520" y="2549880"/>
              <a:ext cx="8964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91560" y="2281320"/>
              <a:ext cx="8964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8600" y="2549880"/>
              <a:ext cx="8964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61760" y="215748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4436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0360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7416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340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55640" y="241632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44360" y="241632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97120" y="2416320"/>
              <a:ext cx="8964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61200" y="2549880"/>
              <a:ext cx="8928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19360" y="2549880"/>
              <a:ext cx="90360" cy="11412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21040" y="2281320"/>
              <a:ext cx="9036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0"/>
                  </a:moveTo>
                  <a:lnTo>
                    <a:pt x="85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8440" y="2549880"/>
              <a:ext cx="90360" cy="11412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9268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80680" y="215748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344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400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6324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86200" y="2416320"/>
              <a:ext cx="8964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4200" y="241632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3440" y="241632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7520" y="2549880"/>
              <a:ext cx="8928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50280" y="2549880"/>
              <a:ext cx="8928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196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45480" y="2549880"/>
              <a:ext cx="8964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2520" y="215748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9760" y="215748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40320" y="2281320"/>
              <a:ext cx="9036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0"/>
                  </a:moveTo>
                  <a:lnTo>
                    <a:pt x="85" y="0"/>
                  </a:lnTo>
                  <a:lnTo>
                    <a:pt x="43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2720" y="2281320"/>
              <a:ext cx="8928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84" y="0"/>
                  </a:lnTo>
                  <a:lnTo>
                    <a:pt x="4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2520" y="2416320"/>
              <a:ext cx="8928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63280" y="2416320"/>
              <a:ext cx="9036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27360" y="2549880"/>
              <a:ext cx="90360" cy="11412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0" y="0"/>
                  </a:moveTo>
                  <a:lnTo>
                    <a:pt x="85" y="0"/>
                  </a:lnTo>
                  <a:lnTo>
                    <a:pt x="4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6600" y="2549880"/>
              <a:ext cx="8928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0"/>
                  </a:moveTo>
                  <a:lnTo>
                    <a:pt x="84" y="0"/>
                  </a:lnTo>
                  <a:lnTo>
                    <a:pt x="4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098720" y="2700360"/>
            <a:ext cx="2609640" cy="636480"/>
            <a:chOff x="1098720" y="2700360"/>
            <a:chExt cx="2609640" cy="636480"/>
          </a:xfrm>
        </p:grpSpPr>
        <p:grpSp>
          <p:nvGrpSpPr>
            <p:cNvPr id="164" name=""/>
            <p:cNvGrpSpPr/>
            <p:nvPr/>
          </p:nvGrpSpPr>
          <p:grpSpPr>
            <a:xfrm>
              <a:off x="1098720" y="2700360"/>
              <a:ext cx="655560" cy="636480"/>
              <a:chOff x="1098720" y="2700360"/>
              <a:chExt cx="655560" cy="636480"/>
            </a:xfrm>
          </p:grpSpPr>
          <p:sp>
            <p:nvSpPr>
              <p:cNvPr id="165" name=""/>
              <p:cNvSpPr/>
              <p:nvPr/>
            </p:nvSpPr>
            <p:spPr>
              <a:xfrm>
                <a:off x="1098720" y="2700360"/>
                <a:ext cx="655560" cy="6350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25360" y="2967480"/>
                <a:ext cx="18000" cy="36936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9" y="307"/>
                    </a:moveTo>
                    <a:lnTo>
                      <a:pt x="9" y="298"/>
                    </a:lnTo>
                    <a:lnTo>
                      <a:pt x="17" y="290"/>
                    </a:lnTo>
                    <a:lnTo>
                      <a:pt x="9" y="281"/>
                    </a:lnTo>
                    <a:lnTo>
                      <a:pt x="9" y="273"/>
                    </a:lnTo>
                    <a:lnTo>
                      <a:pt x="0" y="256"/>
                    </a:lnTo>
                    <a:lnTo>
                      <a:pt x="9" y="247"/>
                    </a:lnTo>
                    <a:lnTo>
                      <a:pt x="9" y="205"/>
                    </a:lnTo>
                    <a:lnTo>
                      <a:pt x="0" y="196"/>
                    </a:lnTo>
                    <a:lnTo>
                      <a:pt x="17" y="179"/>
                    </a:lnTo>
                    <a:lnTo>
                      <a:pt x="17" y="170"/>
                    </a:lnTo>
                    <a:lnTo>
                      <a:pt x="0" y="153"/>
                    </a:lnTo>
                    <a:lnTo>
                      <a:pt x="0" y="136"/>
                    </a:lnTo>
                    <a:lnTo>
                      <a:pt x="9" y="12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9" y="94"/>
                    </a:lnTo>
                    <a:lnTo>
                      <a:pt x="9" y="85"/>
                    </a:lnTo>
                    <a:lnTo>
                      <a:pt x="0" y="77"/>
                    </a:lnTo>
                    <a:lnTo>
                      <a:pt x="9" y="68"/>
                    </a:lnTo>
                    <a:lnTo>
                      <a:pt x="9" y="34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17240" y="2700360"/>
                <a:ext cx="18000" cy="246600"/>
              </a:xfrm>
              <a:custGeom>
                <a:avLst/>
                <a:gdLst/>
                <a:ahLst/>
                <a:rect l="l" t="t" r="r" b="b"/>
                <a:pathLst>
                  <a:path w="17" h="205">
                    <a:moveTo>
                      <a:pt x="8" y="0"/>
                    </a:moveTo>
                    <a:lnTo>
                      <a:pt x="8" y="43"/>
                    </a:lnTo>
                    <a:lnTo>
                      <a:pt x="0" y="51"/>
                    </a:lnTo>
                    <a:lnTo>
                      <a:pt x="8" y="60"/>
                    </a:lnTo>
                    <a:lnTo>
                      <a:pt x="8" y="68"/>
                    </a:lnTo>
                    <a:lnTo>
                      <a:pt x="0" y="85"/>
                    </a:lnTo>
                    <a:lnTo>
                      <a:pt x="8" y="94"/>
                    </a:lnTo>
                    <a:lnTo>
                      <a:pt x="8" y="119"/>
                    </a:lnTo>
                    <a:lnTo>
                      <a:pt x="17" y="128"/>
                    </a:lnTo>
                    <a:lnTo>
                      <a:pt x="8" y="137"/>
                    </a:lnTo>
                    <a:lnTo>
                      <a:pt x="8" y="162"/>
                    </a:lnTo>
                    <a:lnTo>
                      <a:pt x="0" y="171"/>
                    </a:lnTo>
                    <a:lnTo>
                      <a:pt x="0" y="179"/>
                    </a:lnTo>
                    <a:lnTo>
                      <a:pt x="8" y="188"/>
                    </a:lnTo>
                    <a:lnTo>
                      <a:pt x="0" y="196"/>
                    </a:lnTo>
                    <a:lnTo>
                      <a:pt x="0" y="2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81320" y="2895120"/>
                <a:ext cx="36000" cy="43056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0" y="358"/>
                    </a:moveTo>
                    <a:lnTo>
                      <a:pt x="8" y="350"/>
                    </a:lnTo>
                    <a:lnTo>
                      <a:pt x="8" y="341"/>
                    </a:lnTo>
                    <a:lnTo>
                      <a:pt x="17" y="333"/>
                    </a:lnTo>
                    <a:lnTo>
                      <a:pt x="8" y="316"/>
                    </a:lnTo>
                    <a:lnTo>
                      <a:pt x="8" y="307"/>
                    </a:lnTo>
                    <a:lnTo>
                      <a:pt x="25" y="273"/>
                    </a:lnTo>
                    <a:lnTo>
                      <a:pt x="25" y="265"/>
                    </a:lnTo>
                    <a:lnTo>
                      <a:pt x="34" y="256"/>
                    </a:lnTo>
                    <a:lnTo>
                      <a:pt x="25" y="248"/>
                    </a:lnTo>
                    <a:lnTo>
                      <a:pt x="25" y="230"/>
                    </a:lnTo>
                    <a:lnTo>
                      <a:pt x="17" y="213"/>
                    </a:lnTo>
                    <a:lnTo>
                      <a:pt x="17" y="205"/>
                    </a:lnTo>
                    <a:lnTo>
                      <a:pt x="25" y="196"/>
                    </a:lnTo>
                    <a:lnTo>
                      <a:pt x="25" y="179"/>
                    </a:lnTo>
                    <a:lnTo>
                      <a:pt x="17" y="162"/>
                    </a:lnTo>
                    <a:lnTo>
                      <a:pt x="17" y="154"/>
                    </a:lnTo>
                    <a:lnTo>
                      <a:pt x="25" y="145"/>
                    </a:lnTo>
                    <a:lnTo>
                      <a:pt x="25" y="85"/>
                    </a:lnTo>
                    <a:lnTo>
                      <a:pt x="8" y="68"/>
                    </a:lnTo>
                    <a:lnTo>
                      <a:pt x="8" y="60"/>
                    </a:lnTo>
                    <a:lnTo>
                      <a:pt x="17" y="51"/>
                    </a:lnTo>
                    <a:lnTo>
                      <a:pt x="17" y="43"/>
                    </a:lnTo>
                    <a:lnTo>
                      <a:pt x="25" y="34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17840" y="3008160"/>
                <a:ext cx="18000" cy="317520"/>
              </a:xfrm>
              <a:custGeom>
                <a:avLst/>
                <a:gdLst/>
                <a:ahLst/>
                <a:rect l="l" t="t" r="r" b="b"/>
                <a:pathLst>
                  <a:path w="17" h="264">
                    <a:moveTo>
                      <a:pt x="8" y="264"/>
                    </a:moveTo>
                    <a:lnTo>
                      <a:pt x="8" y="239"/>
                    </a:lnTo>
                    <a:lnTo>
                      <a:pt x="17" y="222"/>
                    </a:lnTo>
                    <a:lnTo>
                      <a:pt x="8" y="205"/>
                    </a:lnTo>
                    <a:lnTo>
                      <a:pt x="8" y="60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8" y="2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53760" y="2700360"/>
                <a:ext cx="18000" cy="267120"/>
              </a:xfrm>
              <a:custGeom>
                <a:avLst/>
                <a:gdLst/>
                <a:ahLst/>
                <a:rect l="l" t="t" r="r" b="b"/>
                <a:pathLst>
                  <a:path w="17" h="222">
                    <a:moveTo>
                      <a:pt x="17" y="0"/>
                    </a:moveTo>
                    <a:lnTo>
                      <a:pt x="17" y="17"/>
                    </a:lnTo>
                    <a:lnTo>
                      <a:pt x="8" y="26"/>
                    </a:lnTo>
                    <a:lnTo>
                      <a:pt x="8" y="145"/>
                    </a:lnTo>
                    <a:lnTo>
                      <a:pt x="0" y="154"/>
                    </a:lnTo>
                    <a:lnTo>
                      <a:pt x="0" y="171"/>
                    </a:lnTo>
                    <a:lnTo>
                      <a:pt x="8" y="179"/>
                    </a:lnTo>
                    <a:lnTo>
                      <a:pt x="8" y="2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07600" y="3223440"/>
                <a:ext cx="54360" cy="113040"/>
              </a:xfrm>
              <a:custGeom>
                <a:avLst/>
                <a:gdLst/>
                <a:ahLst/>
                <a:rect l="l" t="t" r="r" b="b"/>
                <a:pathLst>
                  <a:path w="51" h="94">
                    <a:moveTo>
                      <a:pt x="0" y="0"/>
                    </a:moveTo>
                    <a:lnTo>
                      <a:pt x="0" y="26"/>
                    </a:lnTo>
                    <a:lnTo>
                      <a:pt x="9" y="26"/>
                    </a:lnTo>
                    <a:lnTo>
                      <a:pt x="9" y="34"/>
                    </a:lnTo>
                    <a:lnTo>
                      <a:pt x="17" y="34"/>
                    </a:lnTo>
                    <a:lnTo>
                      <a:pt x="17" y="43"/>
                    </a:lnTo>
                    <a:lnTo>
                      <a:pt x="26" y="43"/>
                    </a:lnTo>
                    <a:lnTo>
                      <a:pt x="26" y="60"/>
                    </a:lnTo>
                    <a:lnTo>
                      <a:pt x="34" y="68"/>
                    </a:lnTo>
                    <a:lnTo>
                      <a:pt x="43" y="68"/>
                    </a:lnTo>
                    <a:lnTo>
                      <a:pt x="43" y="85"/>
                    </a:lnTo>
                    <a:lnTo>
                      <a:pt x="51" y="85"/>
                    </a:lnTo>
                    <a:lnTo>
                      <a:pt x="5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07600" y="3275280"/>
                <a:ext cx="27720" cy="612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17" y="0"/>
                    </a:moveTo>
                    <a:lnTo>
                      <a:pt x="17" y="8"/>
                    </a:lnTo>
                    <a:lnTo>
                      <a:pt x="26" y="8"/>
                    </a:lnTo>
                    <a:lnTo>
                      <a:pt x="17" y="17"/>
                    </a:lnTo>
                    <a:lnTo>
                      <a:pt x="9" y="17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62240" y="327528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26" y="0"/>
                    </a:moveTo>
                    <a:lnTo>
                      <a:pt x="26" y="0"/>
                    </a:lnTo>
                    <a:lnTo>
                      <a:pt x="18" y="8"/>
                    </a:lnTo>
                    <a:lnTo>
                      <a:pt x="18" y="25"/>
                    </a:lnTo>
                    <a:lnTo>
                      <a:pt x="9" y="25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25880" y="2700360"/>
                <a:ext cx="63720" cy="61200"/>
              </a:xfrm>
              <a:custGeom>
                <a:avLst/>
                <a:gdLst/>
                <a:ahLst/>
                <a:rect l="l" t="t" r="r" b="b"/>
                <a:pathLst>
                  <a:path w="60" h="51">
                    <a:moveTo>
                      <a:pt x="0" y="51"/>
                    </a:moveTo>
                    <a:lnTo>
                      <a:pt x="26" y="51"/>
                    </a:lnTo>
                    <a:lnTo>
                      <a:pt x="26" y="43"/>
                    </a:lnTo>
                    <a:lnTo>
                      <a:pt x="34" y="34"/>
                    </a:lnTo>
                    <a:lnTo>
                      <a:pt x="34" y="26"/>
                    </a:lnTo>
                    <a:lnTo>
                      <a:pt x="43" y="26"/>
                    </a:lnTo>
                    <a:lnTo>
                      <a:pt x="43" y="17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98880" y="2700360"/>
                <a:ext cx="26640" cy="3132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26"/>
                    </a:moveTo>
                    <a:lnTo>
                      <a:pt x="17" y="26"/>
                    </a:lnTo>
                    <a:lnTo>
                      <a:pt x="17" y="17"/>
                    </a:lnTo>
                    <a:lnTo>
                      <a:pt x="8" y="17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34720" y="3275280"/>
                <a:ext cx="63720" cy="61200"/>
              </a:xfrm>
              <a:custGeom>
                <a:avLst/>
                <a:gdLst/>
                <a:ahLst/>
                <a:rect l="l" t="t" r="r" b="b"/>
                <a:pathLst>
                  <a:path w="60" h="51">
                    <a:moveTo>
                      <a:pt x="0" y="0"/>
                    </a:moveTo>
                    <a:lnTo>
                      <a:pt x="17" y="0"/>
                    </a:lnTo>
                    <a:lnTo>
                      <a:pt x="17" y="8"/>
                    </a:lnTo>
                    <a:lnTo>
                      <a:pt x="25" y="8"/>
                    </a:lnTo>
                    <a:lnTo>
                      <a:pt x="25" y="17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42" y="25"/>
                    </a:lnTo>
                    <a:lnTo>
                      <a:pt x="42" y="34"/>
                    </a:lnTo>
                    <a:lnTo>
                      <a:pt x="51" y="34"/>
                    </a:lnTo>
                    <a:lnTo>
                      <a:pt x="51" y="42"/>
                    </a:lnTo>
                    <a:lnTo>
                      <a:pt x="60" y="42"/>
                    </a:lnTo>
                    <a:lnTo>
                      <a:pt x="6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35840" y="3285000"/>
                <a:ext cx="27720" cy="5184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17" y="26"/>
                    </a:lnTo>
                    <a:lnTo>
                      <a:pt x="26" y="34"/>
                    </a:lnTo>
                    <a:lnTo>
                      <a:pt x="26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62400" y="2956320"/>
                <a:ext cx="55080" cy="123840"/>
              </a:xfrm>
              <a:custGeom>
                <a:avLst/>
                <a:gdLst/>
                <a:ahLst/>
                <a:rect l="l" t="t" r="r" b="b"/>
                <a:pathLst>
                  <a:path w="52" h="103">
                    <a:moveTo>
                      <a:pt x="0" y="0"/>
                    </a:moveTo>
                    <a:lnTo>
                      <a:pt x="26" y="26"/>
                    </a:lnTo>
                    <a:lnTo>
                      <a:pt x="26" y="51"/>
                    </a:lnTo>
                    <a:lnTo>
                      <a:pt x="35" y="51"/>
                    </a:lnTo>
                    <a:lnTo>
                      <a:pt x="35" y="69"/>
                    </a:lnTo>
                    <a:lnTo>
                      <a:pt x="43" y="69"/>
                    </a:lnTo>
                    <a:lnTo>
                      <a:pt x="43" y="94"/>
                    </a:lnTo>
                    <a:lnTo>
                      <a:pt x="52" y="94"/>
                    </a:lnTo>
                    <a:lnTo>
                      <a:pt x="52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26480" y="2905920"/>
                <a:ext cx="27720" cy="122760"/>
              </a:xfrm>
              <a:custGeom>
                <a:avLst/>
                <a:gdLst/>
                <a:ahLst/>
                <a:rect l="l" t="t" r="r" b="b"/>
                <a:pathLst>
                  <a:path w="26" h="102">
                    <a:moveTo>
                      <a:pt x="0" y="102"/>
                    </a:moveTo>
                    <a:lnTo>
                      <a:pt x="9" y="102"/>
                    </a:lnTo>
                    <a:lnTo>
                      <a:pt x="9" y="93"/>
                    </a:lnTo>
                    <a:lnTo>
                      <a:pt x="17" y="85"/>
                    </a:lnTo>
                    <a:lnTo>
                      <a:pt x="17" y="68"/>
                    </a:lnTo>
                    <a:lnTo>
                      <a:pt x="26" y="59"/>
                    </a:lnTo>
                    <a:lnTo>
                      <a:pt x="17" y="51"/>
                    </a:lnTo>
                    <a:lnTo>
                      <a:pt x="26" y="34"/>
                    </a:lnTo>
                    <a:lnTo>
                      <a:pt x="17" y="34"/>
                    </a:lnTo>
                    <a:lnTo>
                      <a:pt x="26" y="34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35240" y="2843280"/>
                <a:ext cx="54360" cy="112680"/>
              </a:xfrm>
              <a:custGeom>
                <a:avLst/>
                <a:gdLst/>
                <a:ahLst/>
                <a:rect l="l" t="t" r="r" b="b"/>
                <a:pathLst>
                  <a:path w="51" h="94">
                    <a:moveTo>
                      <a:pt x="0" y="0"/>
                    </a:moveTo>
                    <a:lnTo>
                      <a:pt x="0" y="18"/>
                    </a:lnTo>
                    <a:lnTo>
                      <a:pt x="8" y="18"/>
                    </a:lnTo>
                    <a:lnTo>
                      <a:pt x="8" y="35"/>
                    </a:lnTo>
                    <a:lnTo>
                      <a:pt x="17" y="35"/>
                    </a:lnTo>
                    <a:lnTo>
                      <a:pt x="17" y="52"/>
                    </a:lnTo>
                    <a:lnTo>
                      <a:pt x="25" y="52"/>
                    </a:lnTo>
                    <a:lnTo>
                      <a:pt x="25" y="60"/>
                    </a:lnTo>
                    <a:lnTo>
                      <a:pt x="34" y="60"/>
                    </a:lnTo>
                    <a:lnTo>
                      <a:pt x="34" y="69"/>
                    </a:lnTo>
                    <a:lnTo>
                      <a:pt x="43" y="69"/>
                    </a:lnTo>
                    <a:lnTo>
                      <a:pt x="43" y="77"/>
                    </a:lnTo>
                    <a:lnTo>
                      <a:pt x="51" y="77"/>
                    </a:lnTo>
                    <a:lnTo>
                      <a:pt x="5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7600" y="2833920"/>
                <a:ext cx="54360" cy="101880"/>
              </a:xfrm>
              <a:custGeom>
                <a:avLst/>
                <a:gdLst/>
                <a:ahLst/>
                <a:rect l="l" t="t" r="r" b="b"/>
                <a:pathLst>
                  <a:path w="51" h="85">
                    <a:moveTo>
                      <a:pt x="0" y="85"/>
                    </a:moveTo>
                    <a:lnTo>
                      <a:pt x="9" y="77"/>
                    </a:lnTo>
                    <a:lnTo>
                      <a:pt x="17" y="77"/>
                    </a:lnTo>
                    <a:lnTo>
                      <a:pt x="26" y="68"/>
                    </a:lnTo>
                    <a:lnTo>
                      <a:pt x="26" y="51"/>
                    </a:lnTo>
                    <a:lnTo>
                      <a:pt x="34" y="51"/>
                    </a:lnTo>
                    <a:lnTo>
                      <a:pt x="43" y="34"/>
                    </a:lnTo>
                    <a:lnTo>
                      <a:pt x="51" y="8"/>
                    </a:lnTo>
                    <a:lnTo>
                      <a:pt x="51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34720" y="2874600"/>
                <a:ext cx="44640" cy="164880"/>
              </a:xfrm>
              <a:custGeom>
                <a:avLst/>
                <a:gdLst/>
                <a:ahLst/>
                <a:rect l="l" t="t" r="r" b="b"/>
                <a:pathLst>
                  <a:path w="42" h="137">
                    <a:moveTo>
                      <a:pt x="0" y="137"/>
                    </a:moveTo>
                    <a:lnTo>
                      <a:pt x="0" y="137"/>
                    </a:lnTo>
                    <a:lnTo>
                      <a:pt x="0" y="119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25" y="60"/>
                    </a:lnTo>
                    <a:lnTo>
                      <a:pt x="34" y="43"/>
                    </a:lnTo>
                    <a:lnTo>
                      <a:pt x="34" y="9"/>
                    </a:lnTo>
                    <a:lnTo>
                      <a:pt x="42" y="9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1040" y="2700360"/>
              <a:ext cx="655560" cy="636480"/>
              <a:chOff x="1751040" y="2700360"/>
              <a:chExt cx="655560" cy="636480"/>
            </a:xfrm>
          </p:grpSpPr>
          <p:sp>
            <p:nvSpPr>
              <p:cNvPr id="184" name=""/>
              <p:cNvSpPr/>
              <p:nvPr/>
            </p:nvSpPr>
            <p:spPr>
              <a:xfrm>
                <a:off x="1751040" y="2700360"/>
                <a:ext cx="655560" cy="6350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77680" y="2967480"/>
                <a:ext cx="18000" cy="36936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9" y="307"/>
                    </a:moveTo>
                    <a:lnTo>
                      <a:pt x="9" y="298"/>
                    </a:lnTo>
                    <a:lnTo>
                      <a:pt x="17" y="290"/>
                    </a:lnTo>
                    <a:lnTo>
                      <a:pt x="9" y="281"/>
                    </a:lnTo>
                    <a:lnTo>
                      <a:pt x="9" y="273"/>
                    </a:lnTo>
                    <a:lnTo>
                      <a:pt x="0" y="256"/>
                    </a:lnTo>
                    <a:lnTo>
                      <a:pt x="9" y="247"/>
                    </a:lnTo>
                    <a:lnTo>
                      <a:pt x="9" y="205"/>
                    </a:lnTo>
                    <a:lnTo>
                      <a:pt x="0" y="196"/>
                    </a:lnTo>
                    <a:lnTo>
                      <a:pt x="17" y="179"/>
                    </a:lnTo>
                    <a:lnTo>
                      <a:pt x="17" y="170"/>
                    </a:lnTo>
                    <a:lnTo>
                      <a:pt x="0" y="153"/>
                    </a:lnTo>
                    <a:lnTo>
                      <a:pt x="0" y="136"/>
                    </a:lnTo>
                    <a:lnTo>
                      <a:pt x="9" y="12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9" y="94"/>
                    </a:lnTo>
                    <a:lnTo>
                      <a:pt x="9" y="85"/>
                    </a:lnTo>
                    <a:lnTo>
                      <a:pt x="0" y="77"/>
                    </a:lnTo>
                    <a:lnTo>
                      <a:pt x="9" y="68"/>
                    </a:lnTo>
                    <a:lnTo>
                      <a:pt x="9" y="34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69560" y="2700360"/>
                <a:ext cx="18000" cy="246600"/>
              </a:xfrm>
              <a:custGeom>
                <a:avLst/>
                <a:gdLst/>
                <a:ahLst/>
                <a:rect l="l" t="t" r="r" b="b"/>
                <a:pathLst>
                  <a:path w="17" h="205">
                    <a:moveTo>
                      <a:pt x="8" y="0"/>
                    </a:moveTo>
                    <a:lnTo>
                      <a:pt x="8" y="43"/>
                    </a:lnTo>
                    <a:lnTo>
                      <a:pt x="0" y="51"/>
                    </a:lnTo>
                    <a:lnTo>
                      <a:pt x="8" y="60"/>
                    </a:lnTo>
                    <a:lnTo>
                      <a:pt x="8" y="68"/>
                    </a:lnTo>
                    <a:lnTo>
                      <a:pt x="0" y="85"/>
                    </a:lnTo>
                    <a:lnTo>
                      <a:pt x="8" y="94"/>
                    </a:lnTo>
                    <a:lnTo>
                      <a:pt x="8" y="119"/>
                    </a:lnTo>
                    <a:lnTo>
                      <a:pt x="17" y="128"/>
                    </a:lnTo>
                    <a:lnTo>
                      <a:pt x="8" y="137"/>
                    </a:lnTo>
                    <a:lnTo>
                      <a:pt x="8" y="162"/>
                    </a:lnTo>
                    <a:lnTo>
                      <a:pt x="0" y="171"/>
                    </a:lnTo>
                    <a:lnTo>
                      <a:pt x="0" y="179"/>
                    </a:lnTo>
                    <a:lnTo>
                      <a:pt x="8" y="188"/>
                    </a:lnTo>
                    <a:lnTo>
                      <a:pt x="0" y="196"/>
                    </a:lnTo>
                    <a:lnTo>
                      <a:pt x="0" y="2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33640" y="2895120"/>
                <a:ext cx="36000" cy="43056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0" y="358"/>
                    </a:moveTo>
                    <a:lnTo>
                      <a:pt x="8" y="350"/>
                    </a:lnTo>
                    <a:lnTo>
                      <a:pt x="8" y="341"/>
                    </a:lnTo>
                    <a:lnTo>
                      <a:pt x="17" y="333"/>
                    </a:lnTo>
                    <a:lnTo>
                      <a:pt x="8" y="316"/>
                    </a:lnTo>
                    <a:lnTo>
                      <a:pt x="8" y="307"/>
                    </a:lnTo>
                    <a:lnTo>
                      <a:pt x="25" y="273"/>
                    </a:lnTo>
                    <a:lnTo>
                      <a:pt x="25" y="265"/>
                    </a:lnTo>
                    <a:lnTo>
                      <a:pt x="34" y="256"/>
                    </a:lnTo>
                    <a:lnTo>
                      <a:pt x="25" y="248"/>
                    </a:lnTo>
                    <a:lnTo>
                      <a:pt x="25" y="230"/>
                    </a:lnTo>
                    <a:lnTo>
                      <a:pt x="17" y="213"/>
                    </a:lnTo>
                    <a:lnTo>
                      <a:pt x="17" y="205"/>
                    </a:lnTo>
                    <a:lnTo>
                      <a:pt x="25" y="196"/>
                    </a:lnTo>
                    <a:lnTo>
                      <a:pt x="25" y="179"/>
                    </a:lnTo>
                    <a:lnTo>
                      <a:pt x="17" y="162"/>
                    </a:lnTo>
                    <a:lnTo>
                      <a:pt x="17" y="154"/>
                    </a:lnTo>
                    <a:lnTo>
                      <a:pt x="25" y="145"/>
                    </a:lnTo>
                    <a:lnTo>
                      <a:pt x="25" y="85"/>
                    </a:lnTo>
                    <a:lnTo>
                      <a:pt x="8" y="68"/>
                    </a:lnTo>
                    <a:lnTo>
                      <a:pt x="8" y="60"/>
                    </a:lnTo>
                    <a:lnTo>
                      <a:pt x="17" y="51"/>
                    </a:lnTo>
                    <a:lnTo>
                      <a:pt x="17" y="43"/>
                    </a:lnTo>
                    <a:lnTo>
                      <a:pt x="25" y="34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70160" y="3008160"/>
                <a:ext cx="18000" cy="317520"/>
              </a:xfrm>
              <a:custGeom>
                <a:avLst/>
                <a:gdLst/>
                <a:ahLst/>
                <a:rect l="l" t="t" r="r" b="b"/>
                <a:pathLst>
                  <a:path w="17" h="264">
                    <a:moveTo>
                      <a:pt x="8" y="264"/>
                    </a:moveTo>
                    <a:lnTo>
                      <a:pt x="8" y="239"/>
                    </a:lnTo>
                    <a:lnTo>
                      <a:pt x="17" y="222"/>
                    </a:lnTo>
                    <a:lnTo>
                      <a:pt x="8" y="205"/>
                    </a:lnTo>
                    <a:lnTo>
                      <a:pt x="8" y="60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8" y="2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06080" y="2700360"/>
                <a:ext cx="18000" cy="267120"/>
              </a:xfrm>
              <a:custGeom>
                <a:avLst/>
                <a:gdLst/>
                <a:ahLst/>
                <a:rect l="l" t="t" r="r" b="b"/>
                <a:pathLst>
                  <a:path w="17" h="222">
                    <a:moveTo>
                      <a:pt x="17" y="0"/>
                    </a:moveTo>
                    <a:lnTo>
                      <a:pt x="17" y="17"/>
                    </a:lnTo>
                    <a:lnTo>
                      <a:pt x="8" y="26"/>
                    </a:lnTo>
                    <a:lnTo>
                      <a:pt x="8" y="145"/>
                    </a:lnTo>
                    <a:lnTo>
                      <a:pt x="0" y="154"/>
                    </a:lnTo>
                    <a:lnTo>
                      <a:pt x="0" y="171"/>
                    </a:lnTo>
                    <a:lnTo>
                      <a:pt x="8" y="179"/>
                    </a:lnTo>
                    <a:lnTo>
                      <a:pt x="8" y="2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59920" y="3223440"/>
                <a:ext cx="54360" cy="113040"/>
              </a:xfrm>
              <a:custGeom>
                <a:avLst/>
                <a:gdLst/>
                <a:ahLst/>
                <a:rect l="l" t="t" r="r" b="b"/>
                <a:pathLst>
                  <a:path w="51" h="94">
                    <a:moveTo>
                      <a:pt x="0" y="0"/>
                    </a:moveTo>
                    <a:lnTo>
                      <a:pt x="0" y="26"/>
                    </a:lnTo>
                    <a:lnTo>
                      <a:pt x="9" y="26"/>
                    </a:lnTo>
                    <a:lnTo>
                      <a:pt x="9" y="34"/>
                    </a:lnTo>
                    <a:lnTo>
                      <a:pt x="17" y="34"/>
                    </a:lnTo>
                    <a:lnTo>
                      <a:pt x="17" y="43"/>
                    </a:lnTo>
                    <a:lnTo>
                      <a:pt x="26" y="43"/>
                    </a:lnTo>
                    <a:lnTo>
                      <a:pt x="26" y="60"/>
                    </a:lnTo>
                    <a:lnTo>
                      <a:pt x="34" y="68"/>
                    </a:lnTo>
                    <a:lnTo>
                      <a:pt x="43" y="68"/>
                    </a:lnTo>
                    <a:lnTo>
                      <a:pt x="43" y="85"/>
                    </a:lnTo>
                    <a:lnTo>
                      <a:pt x="51" y="85"/>
                    </a:lnTo>
                    <a:lnTo>
                      <a:pt x="5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59920" y="3275280"/>
                <a:ext cx="27720" cy="612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17" y="0"/>
                    </a:moveTo>
                    <a:lnTo>
                      <a:pt x="17" y="8"/>
                    </a:lnTo>
                    <a:lnTo>
                      <a:pt x="26" y="8"/>
                    </a:lnTo>
                    <a:lnTo>
                      <a:pt x="17" y="17"/>
                    </a:lnTo>
                    <a:lnTo>
                      <a:pt x="9" y="17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14560" y="327528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26" y="0"/>
                    </a:moveTo>
                    <a:lnTo>
                      <a:pt x="26" y="0"/>
                    </a:lnTo>
                    <a:lnTo>
                      <a:pt x="18" y="8"/>
                    </a:lnTo>
                    <a:lnTo>
                      <a:pt x="18" y="25"/>
                    </a:lnTo>
                    <a:lnTo>
                      <a:pt x="9" y="25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78200" y="2700360"/>
                <a:ext cx="63720" cy="61200"/>
              </a:xfrm>
              <a:custGeom>
                <a:avLst/>
                <a:gdLst/>
                <a:ahLst/>
                <a:rect l="l" t="t" r="r" b="b"/>
                <a:pathLst>
                  <a:path w="60" h="51">
                    <a:moveTo>
                      <a:pt x="0" y="51"/>
                    </a:moveTo>
                    <a:lnTo>
                      <a:pt x="26" y="51"/>
                    </a:lnTo>
                    <a:lnTo>
                      <a:pt x="26" y="43"/>
                    </a:lnTo>
                    <a:lnTo>
                      <a:pt x="34" y="34"/>
                    </a:lnTo>
                    <a:lnTo>
                      <a:pt x="34" y="26"/>
                    </a:lnTo>
                    <a:lnTo>
                      <a:pt x="43" y="26"/>
                    </a:lnTo>
                    <a:lnTo>
                      <a:pt x="43" y="17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51200" y="2700360"/>
                <a:ext cx="26640" cy="3132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26"/>
                    </a:moveTo>
                    <a:lnTo>
                      <a:pt x="17" y="26"/>
                    </a:lnTo>
                    <a:lnTo>
                      <a:pt x="17" y="17"/>
                    </a:lnTo>
                    <a:lnTo>
                      <a:pt x="8" y="17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87040" y="3275280"/>
                <a:ext cx="63720" cy="61200"/>
              </a:xfrm>
              <a:custGeom>
                <a:avLst/>
                <a:gdLst/>
                <a:ahLst/>
                <a:rect l="l" t="t" r="r" b="b"/>
                <a:pathLst>
                  <a:path w="60" h="51">
                    <a:moveTo>
                      <a:pt x="0" y="0"/>
                    </a:moveTo>
                    <a:lnTo>
                      <a:pt x="17" y="0"/>
                    </a:lnTo>
                    <a:lnTo>
                      <a:pt x="17" y="8"/>
                    </a:lnTo>
                    <a:lnTo>
                      <a:pt x="25" y="8"/>
                    </a:lnTo>
                    <a:lnTo>
                      <a:pt x="25" y="17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42" y="25"/>
                    </a:lnTo>
                    <a:lnTo>
                      <a:pt x="42" y="34"/>
                    </a:lnTo>
                    <a:lnTo>
                      <a:pt x="51" y="34"/>
                    </a:lnTo>
                    <a:lnTo>
                      <a:pt x="51" y="42"/>
                    </a:lnTo>
                    <a:lnTo>
                      <a:pt x="60" y="42"/>
                    </a:lnTo>
                    <a:lnTo>
                      <a:pt x="6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288160" y="3285000"/>
                <a:ext cx="27720" cy="5184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17" y="26"/>
                    </a:lnTo>
                    <a:lnTo>
                      <a:pt x="26" y="34"/>
                    </a:lnTo>
                    <a:lnTo>
                      <a:pt x="26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14720" y="2956320"/>
                <a:ext cx="55080" cy="123840"/>
              </a:xfrm>
              <a:custGeom>
                <a:avLst/>
                <a:gdLst/>
                <a:ahLst/>
                <a:rect l="l" t="t" r="r" b="b"/>
                <a:pathLst>
                  <a:path w="52" h="103">
                    <a:moveTo>
                      <a:pt x="0" y="0"/>
                    </a:moveTo>
                    <a:lnTo>
                      <a:pt x="26" y="26"/>
                    </a:lnTo>
                    <a:lnTo>
                      <a:pt x="26" y="51"/>
                    </a:lnTo>
                    <a:lnTo>
                      <a:pt x="35" y="51"/>
                    </a:lnTo>
                    <a:lnTo>
                      <a:pt x="35" y="69"/>
                    </a:lnTo>
                    <a:lnTo>
                      <a:pt x="43" y="69"/>
                    </a:lnTo>
                    <a:lnTo>
                      <a:pt x="43" y="94"/>
                    </a:lnTo>
                    <a:lnTo>
                      <a:pt x="52" y="94"/>
                    </a:lnTo>
                    <a:lnTo>
                      <a:pt x="52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78800" y="2905920"/>
                <a:ext cx="27720" cy="122760"/>
              </a:xfrm>
              <a:custGeom>
                <a:avLst/>
                <a:gdLst/>
                <a:ahLst/>
                <a:rect l="l" t="t" r="r" b="b"/>
                <a:pathLst>
                  <a:path w="26" h="102">
                    <a:moveTo>
                      <a:pt x="0" y="102"/>
                    </a:moveTo>
                    <a:lnTo>
                      <a:pt x="9" y="102"/>
                    </a:lnTo>
                    <a:lnTo>
                      <a:pt x="9" y="93"/>
                    </a:lnTo>
                    <a:lnTo>
                      <a:pt x="17" y="85"/>
                    </a:lnTo>
                    <a:lnTo>
                      <a:pt x="17" y="68"/>
                    </a:lnTo>
                    <a:lnTo>
                      <a:pt x="26" y="59"/>
                    </a:lnTo>
                    <a:lnTo>
                      <a:pt x="17" y="51"/>
                    </a:lnTo>
                    <a:lnTo>
                      <a:pt x="26" y="34"/>
                    </a:lnTo>
                    <a:lnTo>
                      <a:pt x="17" y="34"/>
                    </a:lnTo>
                    <a:lnTo>
                      <a:pt x="26" y="34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87560" y="2843280"/>
                <a:ext cx="54360" cy="112680"/>
              </a:xfrm>
              <a:custGeom>
                <a:avLst/>
                <a:gdLst/>
                <a:ahLst/>
                <a:rect l="l" t="t" r="r" b="b"/>
                <a:pathLst>
                  <a:path w="51" h="94">
                    <a:moveTo>
                      <a:pt x="0" y="0"/>
                    </a:moveTo>
                    <a:lnTo>
                      <a:pt x="0" y="18"/>
                    </a:lnTo>
                    <a:lnTo>
                      <a:pt x="8" y="18"/>
                    </a:lnTo>
                    <a:lnTo>
                      <a:pt x="8" y="35"/>
                    </a:lnTo>
                    <a:lnTo>
                      <a:pt x="17" y="35"/>
                    </a:lnTo>
                    <a:lnTo>
                      <a:pt x="17" y="52"/>
                    </a:lnTo>
                    <a:lnTo>
                      <a:pt x="25" y="52"/>
                    </a:lnTo>
                    <a:lnTo>
                      <a:pt x="25" y="60"/>
                    </a:lnTo>
                    <a:lnTo>
                      <a:pt x="34" y="60"/>
                    </a:lnTo>
                    <a:lnTo>
                      <a:pt x="34" y="69"/>
                    </a:lnTo>
                    <a:lnTo>
                      <a:pt x="43" y="69"/>
                    </a:lnTo>
                    <a:lnTo>
                      <a:pt x="43" y="77"/>
                    </a:lnTo>
                    <a:lnTo>
                      <a:pt x="51" y="77"/>
                    </a:lnTo>
                    <a:lnTo>
                      <a:pt x="5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59920" y="2833920"/>
                <a:ext cx="54360" cy="101880"/>
              </a:xfrm>
              <a:custGeom>
                <a:avLst/>
                <a:gdLst/>
                <a:ahLst/>
                <a:rect l="l" t="t" r="r" b="b"/>
                <a:pathLst>
                  <a:path w="51" h="85">
                    <a:moveTo>
                      <a:pt x="0" y="85"/>
                    </a:moveTo>
                    <a:lnTo>
                      <a:pt x="9" y="77"/>
                    </a:lnTo>
                    <a:lnTo>
                      <a:pt x="17" y="77"/>
                    </a:lnTo>
                    <a:lnTo>
                      <a:pt x="26" y="68"/>
                    </a:lnTo>
                    <a:lnTo>
                      <a:pt x="26" y="51"/>
                    </a:lnTo>
                    <a:lnTo>
                      <a:pt x="34" y="51"/>
                    </a:lnTo>
                    <a:lnTo>
                      <a:pt x="43" y="34"/>
                    </a:lnTo>
                    <a:lnTo>
                      <a:pt x="51" y="8"/>
                    </a:lnTo>
                    <a:lnTo>
                      <a:pt x="51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787040" y="2874600"/>
                <a:ext cx="44640" cy="164880"/>
              </a:xfrm>
              <a:custGeom>
                <a:avLst/>
                <a:gdLst/>
                <a:ahLst/>
                <a:rect l="l" t="t" r="r" b="b"/>
                <a:pathLst>
                  <a:path w="42" h="137">
                    <a:moveTo>
                      <a:pt x="0" y="137"/>
                    </a:moveTo>
                    <a:lnTo>
                      <a:pt x="0" y="137"/>
                    </a:lnTo>
                    <a:lnTo>
                      <a:pt x="0" y="119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25" y="60"/>
                    </a:lnTo>
                    <a:lnTo>
                      <a:pt x="34" y="43"/>
                    </a:lnTo>
                    <a:lnTo>
                      <a:pt x="34" y="9"/>
                    </a:lnTo>
                    <a:lnTo>
                      <a:pt x="42" y="9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403360" y="2700360"/>
              <a:ext cx="655560" cy="636480"/>
              <a:chOff x="2403360" y="2700360"/>
              <a:chExt cx="655560" cy="636480"/>
            </a:xfrm>
          </p:grpSpPr>
          <p:sp>
            <p:nvSpPr>
              <p:cNvPr id="203" name=""/>
              <p:cNvSpPr/>
              <p:nvPr/>
            </p:nvSpPr>
            <p:spPr>
              <a:xfrm>
                <a:off x="2403360" y="2700360"/>
                <a:ext cx="655560" cy="6350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30000" y="2967480"/>
                <a:ext cx="18000" cy="36936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9" y="307"/>
                    </a:moveTo>
                    <a:lnTo>
                      <a:pt x="9" y="298"/>
                    </a:lnTo>
                    <a:lnTo>
                      <a:pt x="17" y="290"/>
                    </a:lnTo>
                    <a:lnTo>
                      <a:pt x="9" y="281"/>
                    </a:lnTo>
                    <a:lnTo>
                      <a:pt x="9" y="273"/>
                    </a:lnTo>
                    <a:lnTo>
                      <a:pt x="0" y="256"/>
                    </a:lnTo>
                    <a:lnTo>
                      <a:pt x="9" y="247"/>
                    </a:lnTo>
                    <a:lnTo>
                      <a:pt x="9" y="205"/>
                    </a:lnTo>
                    <a:lnTo>
                      <a:pt x="0" y="196"/>
                    </a:lnTo>
                    <a:lnTo>
                      <a:pt x="17" y="179"/>
                    </a:lnTo>
                    <a:lnTo>
                      <a:pt x="17" y="170"/>
                    </a:lnTo>
                    <a:lnTo>
                      <a:pt x="0" y="153"/>
                    </a:lnTo>
                    <a:lnTo>
                      <a:pt x="0" y="136"/>
                    </a:lnTo>
                    <a:lnTo>
                      <a:pt x="9" y="12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9" y="94"/>
                    </a:lnTo>
                    <a:lnTo>
                      <a:pt x="9" y="85"/>
                    </a:lnTo>
                    <a:lnTo>
                      <a:pt x="0" y="77"/>
                    </a:lnTo>
                    <a:lnTo>
                      <a:pt x="9" y="68"/>
                    </a:lnTo>
                    <a:lnTo>
                      <a:pt x="9" y="34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21880" y="2700360"/>
                <a:ext cx="18000" cy="246600"/>
              </a:xfrm>
              <a:custGeom>
                <a:avLst/>
                <a:gdLst/>
                <a:ahLst/>
                <a:rect l="l" t="t" r="r" b="b"/>
                <a:pathLst>
                  <a:path w="17" h="205">
                    <a:moveTo>
                      <a:pt x="8" y="0"/>
                    </a:moveTo>
                    <a:lnTo>
                      <a:pt x="8" y="43"/>
                    </a:lnTo>
                    <a:lnTo>
                      <a:pt x="0" y="51"/>
                    </a:lnTo>
                    <a:lnTo>
                      <a:pt x="8" y="60"/>
                    </a:lnTo>
                    <a:lnTo>
                      <a:pt x="8" y="68"/>
                    </a:lnTo>
                    <a:lnTo>
                      <a:pt x="0" y="85"/>
                    </a:lnTo>
                    <a:lnTo>
                      <a:pt x="8" y="94"/>
                    </a:lnTo>
                    <a:lnTo>
                      <a:pt x="8" y="119"/>
                    </a:lnTo>
                    <a:lnTo>
                      <a:pt x="17" y="128"/>
                    </a:lnTo>
                    <a:lnTo>
                      <a:pt x="8" y="137"/>
                    </a:lnTo>
                    <a:lnTo>
                      <a:pt x="8" y="162"/>
                    </a:lnTo>
                    <a:lnTo>
                      <a:pt x="0" y="171"/>
                    </a:lnTo>
                    <a:lnTo>
                      <a:pt x="0" y="179"/>
                    </a:lnTo>
                    <a:lnTo>
                      <a:pt x="8" y="188"/>
                    </a:lnTo>
                    <a:lnTo>
                      <a:pt x="0" y="196"/>
                    </a:lnTo>
                    <a:lnTo>
                      <a:pt x="0" y="2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85960" y="2895120"/>
                <a:ext cx="36000" cy="43056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0" y="358"/>
                    </a:moveTo>
                    <a:lnTo>
                      <a:pt x="8" y="350"/>
                    </a:lnTo>
                    <a:lnTo>
                      <a:pt x="8" y="341"/>
                    </a:lnTo>
                    <a:lnTo>
                      <a:pt x="17" y="333"/>
                    </a:lnTo>
                    <a:lnTo>
                      <a:pt x="8" y="316"/>
                    </a:lnTo>
                    <a:lnTo>
                      <a:pt x="8" y="307"/>
                    </a:lnTo>
                    <a:lnTo>
                      <a:pt x="25" y="273"/>
                    </a:lnTo>
                    <a:lnTo>
                      <a:pt x="25" y="265"/>
                    </a:lnTo>
                    <a:lnTo>
                      <a:pt x="34" y="256"/>
                    </a:lnTo>
                    <a:lnTo>
                      <a:pt x="25" y="248"/>
                    </a:lnTo>
                    <a:lnTo>
                      <a:pt x="25" y="230"/>
                    </a:lnTo>
                    <a:lnTo>
                      <a:pt x="17" y="213"/>
                    </a:lnTo>
                    <a:lnTo>
                      <a:pt x="17" y="205"/>
                    </a:lnTo>
                    <a:lnTo>
                      <a:pt x="25" y="196"/>
                    </a:lnTo>
                    <a:lnTo>
                      <a:pt x="25" y="179"/>
                    </a:lnTo>
                    <a:lnTo>
                      <a:pt x="17" y="162"/>
                    </a:lnTo>
                    <a:lnTo>
                      <a:pt x="17" y="154"/>
                    </a:lnTo>
                    <a:lnTo>
                      <a:pt x="25" y="145"/>
                    </a:lnTo>
                    <a:lnTo>
                      <a:pt x="25" y="85"/>
                    </a:lnTo>
                    <a:lnTo>
                      <a:pt x="8" y="68"/>
                    </a:lnTo>
                    <a:lnTo>
                      <a:pt x="8" y="60"/>
                    </a:lnTo>
                    <a:lnTo>
                      <a:pt x="17" y="51"/>
                    </a:lnTo>
                    <a:lnTo>
                      <a:pt x="17" y="43"/>
                    </a:lnTo>
                    <a:lnTo>
                      <a:pt x="25" y="34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22480" y="3008160"/>
                <a:ext cx="18000" cy="317520"/>
              </a:xfrm>
              <a:custGeom>
                <a:avLst/>
                <a:gdLst/>
                <a:ahLst/>
                <a:rect l="l" t="t" r="r" b="b"/>
                <a:pathLst>
                  <a:path w="17" h="264">
                    <a:moveTo>
                      <a:pt x="8" y="264"/>
                    </a:moveTo>
                    <a:lnTo>
                      <a:pt x="8" y="239"/>
                    </a:lnTo>
                    <a:lnTo>
                      <a:pt x="17" y="222"/>
                    </a:lnTo>
                    <a:lnTo>
                      <a:pt x="8" y="205"/>
                    </a:lnTo>
                    <a:lnTo>
                      <a:pt x="8" y="60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8" y="2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58400" y="2700360"/>
                <a:ext cx="18000" cy="267120"/>
              </a:xfrm>
              <a:custGeom>
                <a:avLst/>
                <a:gdLst/>
                <a:ahLst/>
                <a:rect l="l" t="t" r="r" b="b"/>
                <a:pathLst>
                  <a:path w="17" h="222">
                    <a:moveTo>
                      <a:pt x="17" y="0"/>
                    </a:moveTo>
                    <a:lnTo>
                      <a:pt x="17" y="17"/>
                    </a:lnTo>
                    <a:lnTo>
                      <a:pt x="8" y="26"/>
                    </a:lnTo>
                    <a:lnTo>
                      <a:pt x="8" y="145"/>
                    </a:lnTo>
                    <a:lnTo>
                      <a:pt x="0" y="154"/>
                    </a:lnTo>
                    <a:lnTo>
                      <a:pt x="0" y="171"/>
                    </a:lnTo>
                    <a:lnTo>
                      <a:pt x="8" y="179"/>
                    </a:lnTo>
                    <a:lnTo>
                      <a:pt x="8" y="2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12240" y="3223440"/>
                <a:ext cx="54360" cy="113040"/>
              </a:xfrm>
              <a:custGeom>
                <a:avLst/>
                <a:gdLst/>
                <a:ahLst/>
                <a:rect l="l" t="t" r="r" b="b"/>
                <a:pathLst>
                  <a:path w="51" h="94">
                    <a:moveTo>
                      <a:pt x="0" y="0"/>
                    </a:moveTo>
                    <a:lnTo>
                      <a:pt x="0" y="26"/>
                    </a:lnTo>
                    <a:lnTo>
                      <a:pt x="9" y="26"/>
                    </a:lnTo>
                    <a:lnTo>
                      <a:pt x="9" y="34"/>
                    </a:lnTo>
                    <a:lnTo>
                      <a:pt x="17" y="34"/>
                    </a:lnTo>
                    <a:lnTo>
                      <a:pt x="17" y="43"/>
                    </a:lnTo>
                    <a:lnTo>
                      <a:pt x="26" y="43"/>
                    </a:lnTo>
                    <a:lnTo>
                      <a:pt x="26" y="60"/>
                    </a:lnTo>
                    <a:lnTo>
                      <a:pt x="34" y="68"/>
                    </a:lnTo>
                    <a:lnTo>
                      <a:pt x="43" y="68"/>
                    </a:lnTo>
                    <a:lnTo>
                      <a:pt x="43" y="85"/>
                    </a:lnTo>
                    <a:lnTo>
                      <a:pt x="51" y="85"/>
                    </a:lnTo>
                    <a:lnTo>
                      <a:pt x="5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12240" y="3275280"/>
                <a:ext cx="27720" cy="612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17" y="0"/>
                    </a:moveTo>
                    <a:lnTo>
                      <a:pt x="17" y="8"/>
                    </a:lnTo>
                    <a:lnTo>
                      <a:pt x="26" y="8"/>
                    </a:lnTo>
                    <a:lnTo>
                      <a:pt x="17" y="17"/>
                    </a:lnTo>
                    <a:lnTo>
                      <a:pt x="9" y="17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666880" y="327528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26" y="0"/>
                    </a:moveTo>
                    <a:lnTo>
                      <a:pt x="26" y="0"/>
                    </a:lnTo>
                    <a:lnTo>
                      <a:pt x="18" y="8"/>
                    </a:lnTo>
                    <a:lnTo>
                      <a:pt x="18" y="25"/>
                    </a:lnTo>
                    <a:lnTo>
                      <a:pt x="9" y="25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30520" y="2700360"/>
                <a:ext cx="63720" cy="61200"/>
              </a:xfrm>
              <a:custGeom>
                <a:avLst/>
                <a:gdLst/>
                <a:ahLst/>
                <a:rect l="l" t="t" r="r" b="b"/>
                <a:pathLst>
                  <a:path w="60" h="51">
                    <a:moveTo>
                      <a:pt x="0" y="51"/>
                    </a:moveTo>
                    <a:lnTo>
                      <a:pt x="26" y="51"/>
                    </a:lnTo>
                    <a:lnTo>
                      <a:pt x="26" y="43"/>
                    </a:lnTo>
                    <a:lnTo>
                      <a:pt x="34" y="34"/>
                    </a:lnTo>
                    <a:lnTo>
                      <a:pt x="34" y="26"/>
                    </a:lnTo>
                    <a:lnTo>
                      <a:pt x="43" y="26"/>
                    </a:lnTo>
                    <a:lnTo>
                      <a:pt x="43" y="17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603520" y="2700360"/>
                <a:ext cx="26640" cy="3132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26"/>
                    </a:moveTo>
                    <a:lnTo>
                      <a:pt x="17" y="26"/>
                    </a:lnTo>
                    <a:lnTo>
                      <a:pt x="17" y="17"/>
                    </a:lnTo>
                    <a:lnTo>
                      <a:pt x="8" y="17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39360" y="3275280"/>
                <a:ext cx="63720" cy="61200"/>
              </a:xfrm>
              <a:custGeom>
                <a:avLst/>
                <a:gdLst/>
                <a:ahLst/>
                <a:rect l="l" t="t" r="r" b="b"/>
                <a:pathLst>
                  <a:path w="60" h="51">
                    <a:moveTo>
                      <a:pt x="0" y="0"/>
                    </a:moveTo>
                    <a:lnTo>
                      <a:pt x="17" y="0"/>
                    </a:lnTo>
                    <a:lnTo>
                      <a:pt x="17" y="8"/>
                    </a:lnTo>
                    <a:lnTo>
                      <a:pt x="25" y="8"/>
                    </a:lnTo>
                    <a:lnTo>
                      <a:pt x="25" y="17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42" y="25"/>
                    </a:lnTo>
                    <a:lnTo>
                      <a:pt x="42" y="34"/>
                    </a:lnTo>
                    <a:lnTo>
                      <a:pt x="51" y="34"/>
                    </a:lnTo>
                    <a:lnTo>
                      <a:pt x="51" y="42"/>
                    </a:lnTo>
                    <a:lnTo>
                      <a:pt x="60" y="42"/>
                    </a:lnTo>
                    <a:lnTo>
                      <a:pt x="6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40480" y="3285000"/>
                <a:ext cx="27720" cy="5184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17" y="26"/>
                    </a:lnTo>
                    <a:lnTo>
                      <a:pt x="26" y="34"/>
                    </a:lnTo>
                    <a:lnTo>
                      <a:pt x="26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67040" y="2956320"/>
                <a:ext cx="55080" cy="123840"/>
              </a:xfrm>
              <a:custGeom>
                <a:avLst/>
                <a:gdLst/>
                <a:ahLst/>
                <a:rect l="l" t="t" r="r" b="b"/>
                <a:pathLst>
                  <a:path w="52" h="103">
                    <a:moveTo>
                      <a:pt x="0" y="0"/>
                    </a:moveTo>
                    <a:lnTo>
                      <a:pt x="26" y="26"/>
                    </a:lnTo>
                    <a:lnTo>
                      <a:pt x="26" y="51"/>
                    </a:lnTo>
                    <a:lnTo>
                      <a:pt x="35" y="51"/>
                    </a:lnTo>
                    <a:lnTo>
                      <a:pt x="35" y="69"/>
                    </a:lnTo>
                    <a:lnTo>
                      <a:pt x="43" y="69"/>
                    </a:lnTo>
                    <a:lnTo>
                      <a:pt x="43" y="94"/>
                    </a:lnTo>
                    <a:lnTo>
                      <a:pt x="52" y="94"/>
                    </a:lnTo>
                    <a:lnTo>
                      <a:pt x="52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31120" y="2905920"/>
                <a:ext cx="27720" cy="122760"/>
              </a:xfrm>
              <a:custGeom>
                <a:avLst/>
                <a:gdLst/>
                <a:ahLst/>
                <a:rect l="l" t="t" r="r" b="b"/>
                <a:pathLst>
                  <a:path w="26" h="102">
                    <a:moveTo>
                      <a:pt x="0" y="102"/>
                    </a:moveTo>
                    <a:lnTo>
                      <a:pt x="9" y="102"/>
                    </a:lnTo>
                    <a:lnTo>
                      <a:pt x="9" y="93"/>
                    </a:lnTo>
                    <a:lnTo>
                      <a:pt x="17" y="85"/>
                    </a:lnTo>
                    <a:lnTo>
                      <a:pt x="17" y="68"/>
                    </a:lnTo>
                    <a:lnTo>
                      <a:pt x="26" y="59"/>
                    </a:lnTo>
                    <a:lnTo>
                      <a:pt x="17" y="51"/>
                    </a:lnTo>
                    <a:lnTo>
                      <a:pt x="26" y="34"/>
                    </a:lnTo>
                    <a:lnTo>
                      <a:pt x="17" y="34"/>
                    </a:lnTo>
                    <a:lnTo>
                      <a:pt x="26" y="34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39880" y="2843280"/>
                <a:ext cx="54360" cy="112680"/>
              </a:xfrm>
              <a:custGeom>
                <a:avLst/>
                <a:gdLst/>
                <a:ahLst/>
                <a:rect l="l" t="t" r="r" b="b"/>
                <a:pathLst>
                  <a:path w="51" h="94">
                    <a:moveTo>
                      <a:pt x="0" y="0"/>
                    </a:moveTo>
                    <a:lnTo>
                      <a:pt x="0" y="18"/>
                    </a:lnTo>
                    <a:lnTo>
                      <a:pt x="8" y="18"/>
                    </a:lnTo>
                    <a:lnTo>
                      <a:pt x="8" y="35"/>
                    </a:lnTo>
                    <a:lnTo>
                      <a:pt x="17" y="35"/>
                    </a:lnTo>
                    <a:lnTo>
                      <a:pt x="17" y="52"/>
                    </a:lnTo>
                    <a:lnTo>
                      <a:pt x="25" y="52"/>
                    </a:lnTo>
                    <a:lnTo>
                      <a:pt x="25" y="60"/>
                    </a:lnTo>
                    <a:lnTo>
                      <a:pt x="34" y="60"/>
                    </a:lnTo>
                    <a:lnTo>
                      <a:pt x="34" y="69"/>
                    </a:lnTo>
                    <a:lnTo>
                      <a:pt x="43" y="69"/>
                    </a:lnTo>
                    <a:lnTo>
                      <a:pt x="43" y="77"/>
                    </a:lnTo>
                    <a:lnTo>
                      <a:pt x="51" y="77"/>
                    </a:lnTo>
                    <a:lnTo>
                      <a:pt x="5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12240" y="2833920"/>
                <a:ext cx="54360" cy="101880"/>
              </a:xfrm>
              <a:custGeom>
                <a:avLst/>
                <a:gdLst/>
                <a:ahLst/>
                <a:rect l="l" t="t" r="r" b="b"/>
                <a:pathLst>
                  <a:path w="51" h="85">
                    <a:moveTo>
                      <a:pt x="0" y="85"/>
                    </a:moveTo>
                    <a:lnTo>
                      <a:pt x="9" y="77"/>
                    </a:lnTo>
                    <a:lnTo>
                      <a:pt x="17" y="77"/>
                    </a:lnTo>
                    <a:lnTo>
                      <a:pt x="26" y="68"/>
                    </a:lnTo>
                    <a:lnTo>
                      <a:pt x="26" y="51"/>
                    </a:lnTo>
                    <a:lnTo>
                      <a:pt x="34" y="51"/>
                    </a:lnTo>
                    <a:lnTo>
                      <a:pt x="43" y="34"/>
                    </a:lnTo>
                    <a:lnTo>
                      <a:pt x="51" y="8"/>
                    </a:lnTo>
                    <a:lnTo>
                      <a:pt x="51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439360" y="2874600"/>
                <a:ext cx="44640" cy="164880"/>
              </a:xfrm>
              <a:custGeom>
                <a:avLst/>
                <a:gdLst/>
                <a:ahLst/>
                <a:rect l="l" t="t" r="r" b="b"/>
                <a:pathLst>
                  <a:path w="42" h="137">
                    <a:moveTo>
                      <a:pt x="0" y="137"/>
                    </a:moveTo>
                    <a:lnTo>
                      <a:pt x="0" y="137"/>
                    </a:lnTo>
                    <a:lnTo>
                      <a:pt x="0" y="119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25" y="60"/>
                    </a:lnTo>
                    <a:lnTo>
                      <a:pt x="34" y="43"/>
                    </a:lnTo>
                    <a:lnTo>
                      <a:pt x="34" y="9"/>
                    </a:lnTo>
                    <a:lnTo>
                      <a:pt x="42" y="9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3052800" y="2700360"/>
              <a:ext cx="655560" cy="636480"/>
              <a:chOff x="3052800" y="2700360"/>
              <a:chExt cx="655560" cy="636480"/>
            </a:xfrm>
          </p:grpSpPr>
          <p:sp>
            <p:nvSpPr>
              <p:cNvPr id="222" name=""/>
              <p:cNvSpPr/>
              <p:nvPr/>
            </p:nvSpPr>
            <p:spPr>
              <a:xfrm>
                <a:off x="3052800" y="2700360"/>
                <a:ext cx="655560" cy="6350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79440" y="2967480"/>
                <a:ext cx="18000" cy="36936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9" y="307"/>
                    </a:moveTo>
                    <a:lnTo>
                      <a:pt x="9" y="298"/>
                    </a:lnTo>
                    <a:lnTo>
                      <a:pt x="17" y="290"/>
                    </a:lnTo>
                    <a:lnTo>
                      <a:pt x="9" y="281"/>
                    </a:lnTo>
                    <a:lnTo>
                      <a:pt x="9" y="273"/>
                    </a:lnTo>
                    <a:lnTo>
                      <a:pt x="0" y="256"/>
                    </a:lnTo>
                    <a:lnTo>
                      <a:pt x="9" y="247"/>
                    </a:lnTo>
                    <a:lnTo>
                      <a:pt x="9" y="205"/>
                    </a:lnTo>
                    <a:lnTo>
                      <a:pt x="0" y="196"/>
                    </a:lnTo>
                    <a:lnTo>
                      <a:pt x="17" y="179"/>
                    </a:lnTo>
                    <a:lnTo>
                      <a:pt x="17" y="170"/>
                    </a:lnTo>
                    <a:lnTo>
                      <a:pt x="0" y="153"/>
                    </a:lnTo>
                    <a:lnTo>
                      <a:pt x="0" y="136"/>
                    </a:lnTo>
                    <a:lnTo>
                      <a:pt x="9" y="12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9" y="94"/>
                    </a:lnTo>
                    <a:lnTo>
                      <a:pt x="9" y="85"/>
                    </a:lnTo>
                    <a:lnTo>
                      <a:pt x="0" y="77"/>
                    </a:lnTo>
                    <a:lnTo>
                      <a:pt x="9" y="68"/>
                    </a:lnTo>
                    <a:lnTo>
                      <a:pt x="9" y="34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71320" y="2700360"/>
                <a:ext cx="18000" cy="246600"/>
              </a:xfrm>
              <a:custGeom>
                <a:avLst/>
                <a:gdLst/>
                <a:ahLst/>
                <a:rect l="l" t="t" r="r" b="b"/>
                <a:pathLst>
                  <a:path w="17" h="205">
                    <a:moveTo>
                      <a:pt x="8" y="0"/>
                    </a:moveTo>
                    <a:lnTo>
                      <a:pt x="8" y="43"/>
                    </a:lnTo>
                    <a:lnTo>
                      <a:pt x="0" y="51"/>
                    </a:lnTo>
                    <a:lnTo>
                      <a:pt x="8" y="60"/>
                    </a:lnTo>
                    <a:lnTo>
                      <a:pt x="8" y="68"/>
                    </a:lnTo>
                    <a:lnTo>
                      <a:pt x="0" y="85"/>
                    </a:lnTo>
                    <a:lnTo>
                      <a:pt x="8" y="94"/>
                    </a:lnTo>
                    <a:lnTo>
                      <a:pt x="8" y="119"/>
                    </a:lnTo>
                    <a:lnTo>
                      <a:pt x="17" y="128"/>
                    </a:lnTo>
                    <a:lnTo>
                      <a:pt x="8" y="137"/>
                    </a:lnTo>
                    <a:lnTo>
                      <a:pt x="8" y="162"/>
                    </a:lnTo>
                    <a:lnTo>
                      <a:pt x="0" y="171"/>
                    </a:lnTo>
                    <a:lnTo>
                      <a:pt x="0" y="179"/>
                    </a:lnTo>
                    <a:lnTo>
                      <a:pt x="8" y="188"/>
                    </a:lnTo>
                    <a:lnTo>
                      <a:pt x="0" y="196"/>
                    </a:lnTo>
                    <a:lnTo>
                      <a:pt x="0" y="2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35400" y="2895120"/>
                <a:ext cx="36000" cy="43056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0" y="358"/>
                    </a:moveTo>
                    <a:lnTo>
                      <a:pt x="8" y="350"/>
                    </a:lnTo>
                    <a:lnTo>
                      <a:pt x="8" y="341"/>
                    </a:lnTo>
                    <a:lnTo>
                      <a:pt x="17" y="333"/>
                    </a:lnTo>
                    <a:lnTo>
                      <a:pt x="8" y="316"/>
                    </a:lnTo>
                    <a:lnTo>
                      <a:pt x="8" y="307"/>
                    </a:lnTo>
                    <a:lnTo>
                      <a:pt x="25" y="273"/>
                    </a:lnTo>
                    <a:lnTo>
                      <a:pt x="25" y="265"/>
                    </a:lnTo>
                    <a:lnTo>
                      <a:pt x="34" y="256"/>
                    </a:lnTo>
                    <a:lnTo>
                      <a:pt x="25" y="248"/>
                    </a:lnTo>
                    <a:lnTo>
                      <a:pt x="25" y="230"/>
                    </a:lnTo>
                    <a:lnTo>
                      <a:pt x="17" y="213"/>
                    </a:lnTo>
                    <a:lnTo>
                      <a:pt x="17" y="205"/>
                    </a:lnTo>
                    <a:lnTo>
                      <a:pt x="25" y="196"/>
                    </a:lnTo>
                    <a:lnTo>
                      <a:pt x="25" y="179"/>
                    </a:lnTo>
                    <a:lnTo>
                      <a:pt x="17" y="162"/>
                    </a:lnTo>
                    <a:lnTo>
                      <a:pt x="17" y="154"/>
                    </a:lnTo>
                    <a:lnTo>
                      <a:pt x="25" y="145"/>
                    </a:lnTo>
                    <a:lnTo>
                      <a:pt x="25" y="85"/>
                    </a:lnTo>
                    <a:lnTo>
                      <a:pt x="8" y="68"/>
                    </a:lnTo>
                    <a:lnTo>
                      <a:pt x="8" y="60"/>
                    </a:lnTo>
                    <a:lnTo>
                      <a:pt x="17" y="51"/>
                    </a:lnTo>
                    <a:lnTo>
                      <a:pt x="17" y="43"/>
                    </a:lnTo>
                    <a:lnTo>
                      <a:pt x="25" y="34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71920" y="3008160"/>
                <a:ext cx="18000" cy="317520"/>
              </a:xfrm>
              <a:custGeom>
                <a:avLst/>
                <a:gdLst/>
                <a:ahLst/>
                <a:rect l="l" t="t" r="r" b="b"/>
                <a:pathLst>
                  <a:path w="17" h="264">
                    <a:moveTo>
                      <a:pt x="8" y="264"/>
                    </a:moveTo>
                    <a:lnTo>
                      <a:pt x="8" y="239"/>
                    </a:lnTo>
                    <a:lnTo>
                      <a:pt x="17" y="222"/>
                    </a:lnTo>
                    <a:lnTo>
                      <a:pt x="8" y="205"/>
                    </a:lnTo>
                    <a:lnTo>
                      <a:pt x="8" y="60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8" y="2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07840" y="2700360"/>
                <a:ext cx="18000" cy="267120"/>
              </a:xfrm>
              <a:custGeom>
                <a:avLst/>
                <a:gdLst/>
                <a:ahLst/>
                <a:rect l="l" t="t" r="r" b="b"/>
                <a:pathLst>
                  <a:path w="17" h="222">
                    <a:moveTo>
                      <a:pt x="17" y="0"/>
                    </a:moveTo>
                    <a:lnTo>
                      <a:pt x="17" y="17"/>
                    </a:lnTo>
                    <a:lnTo>
                      <a:pt x="8" y="26"/>
                    </a:lnTo>
                    <a:lnTo>
                      <a:pt x="8" y="145"/>
                    </a:lnTo>
                    <a:lnTo>
                      <a:pt x="0" y="154"/>
                    </a:lnTo>
                    <a:lnTo>
                      <a:pt x="0" y="171"/>
                    </a:lnTo>
                    <a:lnTo>
                      <a:pt x="8" y="179"/>
                    </a:lnTo>
                    <a:lnTo>
                      <a:pt x="8" y="2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361680" y="3223440"/>
                <a:ext cx="54360" cy="113040"/>
              </a:xfrm>
              <a:custGeom>
                <a:avLst/>
                <a:gdLst/>
                <a:ahLst/>
                <a:rect l="l" t="t" r="r" b="b"/>
                <a:pathLst>
                  <a:path w="51" h="94">
                    <a:moveTo>
                      <a:pt x="0" y="0"/>
                    </a:moveTo>
                    <a:lnTo>
                      <a:pt x="0" y="26"/>
                    </a:lnTo>
                    <a:lnTo>
                      <a:pt x="9" y="26"/>
                    </a:lnTo>
                    <a:lnTo>
                      <a:pt x="9" y="34"/>
                    </a:lnTo>
                    <a:lnTo>
                      <a:pt x="17" y="34"/>
                    </a:lnTo>
                    <a:lnTo>
                      <a:pt x="17" y="43"/>
                    </a:lnTo>
                    <a:lnTo>
                      <a:pt x="26" y="43"/>
                    </a:lnTo>
                    <a:lnTo>
                      <a:pt x="26" y="60"/>
                    </a:lnTo>
                    <a:lnTo>
                      <a:pt x="34" y="68"/>
                    </a:lnTo>
                    <a:lnTo>
                      <a:pt x="43" y="68"/>
                    </a:lnTo>
                    <a:lnTo>
                      <a:pt x="43" y="85"/>
                    </a:lnTo>
                    <a:lnTo>
                      <a:pt x="51" y="85"/>
                    </a:lnTo>
                    <a:lnTo>
                      <a:pt x="5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61680" y="3275280"/>
                <a:ext cx="27720" cy="612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17" y="0"/>
                    </a:moveTo>
                    <a:lnTo>
                      <a:pt x="17" y="8"/>
                    </a:lnTo>
                    <a:lnTo>
                      <a:pt x="26" y="8"/>
                    </a:lnTo>
                    <a:lnTo>
                      <a:pt x="17" y="17"/>
                    </a:lnTo>
                    <a:lnTo>
                      <a:pt x="9" y="17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16320" y="327528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26" y="0"/>
                    </a:moveTo>
                    <a:lnTo>
                      <a:pt x="26" y="0"/>
                    </a:lnTo>
                    <a:lnTo>
                      <a:pt x="18" y="8"/>
                    </a:lnTo>
                    <a:lnTo>
                      <a:pt x="18" y="25"/>
                    </a:lnTo>
                    <a:lnTo>
                      <a:pt x="9" y="25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79960" y="2700360"/>
                <a:ext cx="63720" cy="61200"/>
              </a:xfrm>
              <a:custGeom>
                <a:avLst/>
                <a:gdLst/>
                <a:ahLst/>
                <a:rect l="l" t="t" r="r" b="b"/>
                <a:pathLst>
                  <a:path w="60" h="51">
                    <a:moveTo>
                      <a:pt x="0" y="51"/>
                    </a:moveTo>
                    <a:lnTo>
                      <a:pt x="26" y="51"/>
                    </a:lnTo>
                    <a:lnTo>
                      <a:pt x="26" y="43"/>
                    </a:lnTo>
                    <a:lnTo>
                      <a:pt x="34" y="34"/>
                    </a:lnTo>
                    <a:lnTo>
                      <a:pt x="34" y="26"/>
                    </a:lnTo>
                    <a:lnTo>
                      <a:pt x="43" y="26"/>
                    </a:lnTo>
                    <a:lnTo>
                      <a:pt x="43" y="17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252960" y="2700360"/>
                <a:ext cx="26640" cy="3132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26"/>
                    </a:moveTo>
                    <a:lnTo>
                      <a:pt x="17" y="26"/>
                    </a:lnTo>
                    <a:lnTo>
                      <a:pt x="17" y="17"/>
                    </a:lnTo>
                    <a:lnTo>
                      <a:pt x="8" y="17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88800" y="3275280"/>
                <a:ext cx="63720" cy="61200"/>
              </a:xfrm>
              <a:custGeom>
                <a:avLst/>
                <a:gdLst/>
                <a:ahLst/>
                <a:rect l="l" t="t" r="r" b="b"/>
                <a:pathLst>
                  <a:path w="60" h="51">
                    <a:moveTo>
                      <a:pt x="0" y="0"/>
                    </a:moveTo>
                    <a:lnTo>
                      <a:pt x="17" y="0"/>
                    </a:lnTo>
                    <a:lnTo>
                      <a:pt x="17" y="8"/>
                    </a:lnTo>
                    <a:lnTo>
                      <a:pt x="25" y="8"/>
                    </a:lnTo>
                    <a:lnTo>
                      <a:pt x="25" y="17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42" y="25"/>
                    </a:lnTo>
                    <a:lnTo>
                      <a:pt x="42" y="34"/>
                    </a:lnTo>
                    <a:lnTo>
                      <a:pt x="51" y="34"/>
                    </a:lnTo>
                    <a:lnTo>
                      <a:pt x="51" y="42"/>
                    </a:lnTo>
                    <a:lnTo>
                      <a:pt x="60" y="42"/>
                    </a:lnTo>
                    <a:lnTo>
                      <a:pt x="6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89920" y="3285000"/>
                <a:ext cx="27720" cy="5184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17" y="26"/>
                    </a:lnTo>
                    <a:lnTo>
                      <a:pt x="26" y="34"/>
                    </a:lnTo>
                    <a:lnTo>
                      <a:pt x="26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16480" y="2956320"/>
                <a:ext cx="55080" cy="123840"/>
              </a:xfrm>
              <a:custGeom>
                <a:avLst/>
                <a:gdLst/>
                <a:ahLst/>
                <a:rect l="l" t="t" r="r" b="b"/>
                <a:pathLst>
                  <a:path w="52" h="103">
                    <a:moveTo>
                      <a:pt x="0" y="0"/>
                    </a:moveTo>
                    <a:lnTo>
                      <a:pt x="26" y="26"/>
                    </a:lnTo>
                    <a:lnTo>
                      <a:pt x="26" y="51"/>
                    </a:lnTo>
                    <a:lnTo>
                      <a:pt x="35" y="51"/>
                    </a:lnTo>
                    <a:lnTo>
                      <a:pt x="35" y="69"/>
                    </a:lnTo>
                    <a:lnTo>
                      <a:pt x="43" y="69"/>
                    </a:lnTo>
                    <a:lnTo>
                      <a:pt x="43" y="94"/>
                    </a:lnTo>
                    <a:lnTo>
                      <a:pt x="52" y="94"/>
                    </a:lnTo>
                    <a:lnTo>
                      <a:pt x="52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80560" y="2905920"/>
                <a:ext cx="27720" cy="122760"/>
              </a:xfrm>
              <a:custGeom>
                <a:avLst/>
                <a:gdLst/>
                <a:ahLst/>
                <a:rect l="l" t="t" r="r" b="b"/>
                <a:pathLst>
                  <a:path w="26" h="102">
                    <a:moveTo>
                      <a:pt x="0" y="102"/>
                    </a:moveTo>
                    <a:lnTo>
                      <a:pt x="9" y="102"/>
                    </a:lnTo>
                    <a:lnTo>
                      <a:pt x="9" y="93"/>
                    </a:lnTo>
                    <a:lnTo>
                      <a:pt x="17" y="85"/>
                    </a:lnTo>
                    <a:lnTo>
                      <a:pt x="17" y="68"/>
                    </a:lnTo>
                    <a:lnTo>
                      <a:pt x="26" y="59"/>
                    </a:lnTo>
                    <a:lnTo>
                      <a:pt x="17" y="51"/>
                    </a:lnTo>
                    <a:lnTo>
                      <a:pt x="26" y="34"/>
                    </a:lnTo>
                    <a:lnTo>
                      <a:pt x="17" y="34"/>
                    </a:lnTo>
                    <a:lnTo>
                      <a:pt x="26" y="34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89320" y="2843280"/>
                <a:ext cx="54360" cy="112680"/>
              </a:xfrm>
              <a:custGeom>
                <a:avLst/>
                <a:gdLst/>
                <a:ahLst/>
                <a:rect l="l" t="t" r="r" b="b"/>
                <a:pathLst>
                  <a:path w="51" h="94">
                    <a:moveTo>
                      <a:pt x="0" y="0"/>
                    </a:moveTo>
                    <a:lnTo>
                      <a:pt x="0" y="18"/>
                    </a:lnTo>
                    <a:lnTo>
                      <a:pt x="8" y="18"/>
                    </a:lnTo>
                    <a:lnTo>
                      <a:pt x="8" y="35"/>
                    </a:lnTo>
                    <a:lnTo>
                      <a:pt x="17" y="35"/>
                    </a:lnTo>
                    <a:lnTo>
                      <a:pt x="17" y="52"/>
                    </a:lnTo>
                    <a:lnTo>
                      <a:pt x="25" y="52"/>
                    </a:lnTo>
                    <a:lnTo>
                      <a:pt x="25" y="60"/>
                    </a:lnTo>
                    <a:lnTo>
                      <a:pt x="34" y="60"/>
                    </a:lnTo>
                    <a:lnTo>
                      <a:pt x="34" y="69"/>
                    </a:lnTo>
                    <a:lnTo>
                      <a:pt x="43" y="69"/>
                    </a:lnTo>
                    <a:lnTo>
                      <a:pt x="43" y="77"/>
                    </a:lnTo>
                    <a:lnTo>
                      <a:pt x="51" y="77"/>
                    </a:lnTo>
                    <a:lnTo>
                      <a:pt x="5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361680" y="2833920"/>
                <a:ext cx="54360" cy="101880"/>
              </a:xfrm>
              <a:custGeom>
                <a:avLst/>
                <a:gdLst/>
                <a:ahLst/>
                <a:rect l="l" t="t" r="r" b="b"/>
                <a:pathLst>
                  <a:path w="51" h="85">
                    <a:moveTo>
                      <a:pt x="0" y="85"/>
                    </a:moveTo>
                    <a:lnTo>
                      <a:pt x="9" y="77"/>
                    </a:lnTo>
                    <a:lnTo>
                      <a:pt x="17" y="77"/>
                    </a:lnTo>
                    <a:lnTo>
                      <a:pt x="26" y="68"/>
                    </a:lnTo>
                    <a:lnTo>
                      <a:pt x="26" y="51"/>
                    </a:lnTo>
                    <a:lnTo>
                      <a:pt x="34" y="51"/>
                    </a:lnTo>
                    <a:lnTo>
                      <a:pt x="43" y="34"/>
                    </a:lnTo>
                    <a:lnTo>
                      <a:pt x="51" y="8"/>
                    </a:lnTo>
                    <a:lnTo>
                      <a:pt x="51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88800" y="2874600"/>
                <a:ext cx="44640" cy="164880"/>
              </a:xfrm>
              <a:custGeom>
                <a:avLst/>
                <a:gdLst/>
                <a:ahLst/>
                <a:rect l="l" t="t" r="r" b="b"/>
                <a:pathLst>
                  <a:path w="42" h="137">
                    <a:moveTo>
                      <a:pt x="0" y="137"/>
                    </a:moveTo>
                    <a:lnTo>
                      <a:pt x="0" y="137"/>
                    </a:lnTo>
                    <a:lnTo>
                      <a:pt x="0" y="119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25" y="60"/>
                    </a:lnTo>
                    <a:lnTo>
                      <a:pt x="34" y="43"/>
                    </a:lnTo>
                    <a:lnTo>
                      <a:pt x="34" y="9"/>
                    </a:lnTo>
                    <a:lnTo>
                      <a:pt x="42" y="9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1216080" y="3348000"/>
            <a:ext cx="2452320" cy="1812600"/>
            <a:chOff x="1216080" y="3348000"/>
            <a:chExt cx="2452320" cy="1812600"/>
          </a:xfrm>
        </p:grpSpPr>
        <p:sp>
          <p:nvSpPr>
            <p:cNvPr id="241" name=""/>
            <p:cNvSpPr/>
            <p:nvPr/>
          </p:nvSpPr>
          <p:spPr>
            <a:xfrm>
              <a:off x="1241640" y="382896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42800" y="348912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94360" y="3649680"/>
              <a:ext cx="9468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59640" y="363996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1640" y="3537000"/>
              <a:ext cx="50040" cy="648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75280" y="3527280"/>
              <a:ext cx="5112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35160" y="33670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13440" y="33573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92840" y="337644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49280" y="3395520"/>
              <a:ext cx="1224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86720" y="34509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23720" y="34988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50440" y="347976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75280" y="34131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2000" y="35733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51960" y="35179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51960" y="35924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3760" y="37335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17240" y="360180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44320" y="37526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35160" y="37526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41640" y="36496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50440" y="35924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2000" y="374328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73760" y="3649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06960" y="34700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7880" y="363060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41640" y="3498840"/>
              <a:ext cx="115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49280" y="37717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69880" y="371628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2000" y="364968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2000" y="350820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63400" y="335736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42800" y="33480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22560" y="33573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22560" y="34797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72600" y="334800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06960" y="33573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12280" y="3357360"/>
              <a:ext cx="7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91680" y="37717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13440" y="37623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08480" y="33573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22560" y="360180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6080" y="368748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80240" y="379080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12280" y="363060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9000" y="3838320"/>
              <a:ext cx="50040" cy="5580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30200" y="388440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10760" y="38192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5160" y="39225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16080" y="382896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04280" y="391320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86720" y="39225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87880" y="39034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00840" y="383832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77520" y="380988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19920" y="391320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95520" y="3876480"/>
              <a:ext cx="648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89400" y="39225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4320" y="39225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59640" y="378144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61880" y="3809880"/>
              <a:ext cx="504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05800" y="376236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650960" y="3386160"/>
              <a:ext cx="5652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752120" y="36774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04040" y="352656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668960" y="352656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650960" y="367740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884600" y="3697200"/>
              <a:ext cx="5112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644480" y="37998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923120" y="38091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802520" y="384804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758960" y="387504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796040" y="38185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733040" y="377100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860120" y="379008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884600" y="38566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011320" y="36972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961280" y="37519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61280" y="36781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783080" y="35370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726920" y="366876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853640" y="35179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644480" y="35179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650960" y="36201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860120" y="36781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011320" y="351720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783080" y="36201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916280" y="38005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897200" y="3647160"/>
              <a:ext cx="648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650960" y="3771000"/>
              <a:ext cx="1152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758960" y="34988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1879200" y="355572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11320" y="362808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011320" y="377028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873080" y="391320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752120" y="39218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631880" y="3913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1631880" y="37900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681920" y="392184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916280" y="3913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821600" y="3913200"/>
              <a:ext cx="7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701360" y="34988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923120" y="35074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017800" y="391320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631880" y="366876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625400" y="358200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789920" y="337572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821600" y="3582720"/>
              <a:ext cx="57240" cy="669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948680" y="338616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739520" y="338616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720440" y="34502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644480" y="3348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625400" y="343116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713960" y="335664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796040" y="334800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897200" y="33670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910160" y="34311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987200" y="346068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929240" y="335664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004840" y="3395520"/>
              <a:ext cx="648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998720" y="3348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853640" y="334800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668960" y="347904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71560" y="3460680"/>
              <a:ext cx="504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815480" y="3507480"/>
              <a:ext cx="1224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60640" y="382896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1800" y="348912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3360" y="3649680"/>
              <a:ext cx="9468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78640" y="363996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60640" y="3537000"/>
              <a:ext cx="50040" cy="648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94280" y="3527280"/>
              <a:ext cx="5076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4160" y="33670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32440" y="33573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11840" y="337644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68280" y="339552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05720" y="34509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42720" y="34988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69440" y="347976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94280" y="34131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21000" y="35733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70960" y="35179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70960" y="35924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92760" y="37335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36240" y="360180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63320" y="37526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54160" y="37526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60640" y="3649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69440" y="35924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21000" y="374328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92760" y="3649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25960" y="34700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06880" y="363060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60640" y="3498840"/>
              <a:ext cx="115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68280" y="37717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88520" y="3716280"/>
              <a:ext cx="540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21000" y="364968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21000" y="3508200"/>
              <a:ext cx="648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82400" y="33573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61800" y="3348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41200" y="33573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41200" y="34797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91600" y="334800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25960" y="33573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30920" y="3357360"/>
              <a:ext cx="10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10680" y="37717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32440" y="37623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7480" y="33573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41200" y="360180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5080" y="368748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99240" y="379080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30920" y="363060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58000" y="3838320"/>
              <a:ext cx="50040" cy="5580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49200" y="388440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9760" y="38192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54160" y="39225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35080" y="382896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3280" y="391320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05720" y="39225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06880" y="39034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19480" y="383832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6520" y="380988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38920" y="391320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3876480"/>
              <a:ext cx="612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08040" y="39225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63320" y="39225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78640" y="378144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0880" y="3809880"/>
              <a:ext cx="504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24800" y="376236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469960" y="3386160"/>
              <a:ext cx="5652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571480" y="36774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722680" y="352656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487960" y="352656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2469960" y="367740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703600" y="3697200"/>
              <a:ext cx="5112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463840" y="37998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742120" y="38091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621520" y="384804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577960" y="3875040"/>
              <a:ext cx="1224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5040" y="38185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552040" y="377100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678760" y="379008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703600" y="38566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830680" y="36972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2780280" y="37519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780280" y="36781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602440" y="3537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545560" y="366876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672640" y="35179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463840" y="35179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469960" y="36201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678760" y="36781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830680" y="351720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602440" y="36201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735640" y="38005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716560" y="364716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469960" y="3771000"/>
              <a:ext cx="1152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577960" y="34988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98200" y="355572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830680" y="362808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830680" y="377028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691720" y="391320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571480" y="39218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450880" y="39132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450880" y="37900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500920" y="392184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735640" y="3913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640600" y="3913200"/>
              <a:ext cx="7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520000" y="34988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742120" y="35074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836800" y="391320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2450880" y="366876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444400" y="358200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608560" y="337572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40600" y="3582720"/>
              <a:ext cx="57240" cy="669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767320" y="338616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558520" y="338616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539440" y="34502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463840" y="3348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2444400" y="343116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532960" y="335664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615040" y="334800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716560" y="33670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2729160" y="34311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2805840" y="346068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748240" y="335664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823840" y="3395520"/>
              <a:ext cx="648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817720" y="3348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672640" y="334800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487960" y="347904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590560" y="3460680"/>
              <a:ext cx="504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634120" y="350748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79280" y="382896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80800" y="348912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32360" y="3649680"/>
              <a:ext cx="9468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97640" y="363996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79280" y="3537000"/>
              <a:ext cx="50040" cy="648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12920" y="3527280"/>
              <a:ext cx="5112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73160" y="33670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51440" y="33573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30840" y="337644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87280" y="339552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24360" y="34509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61720" y="34988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88440" y="347976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12920" y="34131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40000" y="35733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89960" y="35179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89960" y="35924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11760" y="37335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55240" y="360180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81960" y="37526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3160" y="37526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79280" y="36496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88440" y="35924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40000" y="374328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11760" y="36496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4960" y="34700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5880" y="363060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79280" y="3498840"/>
              <a:ext cx="115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87280" y="37717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07520" y="371628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40000" y="364968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40000" y="350820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01400" y="33573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80800" y="33480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60200" y="33573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60200" y="34797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10240" y="334800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44960" y="33573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50280" y="3357360"/>
              <a:ext cx="7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29680" y="37717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51440" y="37623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46120" y="33573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60200" y="360180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54080" y="368748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18240" y="379080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50280" y="363060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7000" y="3838320"/>
              <a:ext cx="50040" cy="5580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67840" y="388440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48760" y="38192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73160" y="39225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54080" y="382896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42640" y="391320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24360" y="392256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25880" y="39034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38480" y="383832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15520" y="380988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57560" y="391320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33520" y="3876480"/>
              <a:ext cx="648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27040" y="39225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81960" y="39225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97640" y="378144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00240" y="3809880"/>
              <a:ext cx="504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3800" y="3762360"/>
              <a:ext cx="1224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288960" y="3386160"/>
              <a:ext cx="5652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390480" y="36774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541680" y="352656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307320" y="352656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288960" y="367740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522600" y="3697200"/>
              <a:ext cx="5076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282480" y="37998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3560760" y="38091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3440520" y="384804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396600" y="387504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434040" y="38185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371040" y="377100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498120" y="379008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522600" y="38566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649320" y="3697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99280" y="37519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599280" y="36781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421440" y="3537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364560" y="366876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491640" y="35179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282480" y="35179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288960" y="36201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498120" y="36781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3649320" y="351720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421440" y="36201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554640" y="38005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535200" y="3647160"/>
              <a:ext cx="648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288960" y="3771000"/>
              <a:ext cx="1152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396600" y="34988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517200" y="3555720"/>
              <a:ext cx="540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3649320" y="3628080"/>
              <a:ext cx="648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649320" y="377028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510720" y="391320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390480" y="39218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3269520" y="3913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269520" y="37900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319920" y="392184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554640" y="39132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459600" y="3913200"/>
              <a:ext cx="10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339000" y="34988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560760" y="35074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655800" y="391320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3269520" y="366876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263400" y="358200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427560" y="337572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459600" y="3582720"/>
              <a:ext cx="57240" cy="669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586320" y="338616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3377520" y="338616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3358080" y="34502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282480" y="33480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263400" y="343116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3351960" y="335664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434040" y="334800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535200" y="33670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548160" y="343116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624840" y="346068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567240" y="335664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3643200" y="3395520"/>
              <a:ext cx="612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3636360" y="33480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3491640" y="334800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3307320" y="347904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409560" y="3460680"/>
              <a:ext cx="504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3453120" y="350748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46480" y="443844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47640" y="40989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99200" y="425916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64480" y="4249440"/>
              <a:ext cx="89280" cy="11304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46480" y="414648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80120" y="4136760"/>
              <a:ext cx="50760" cy="5580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40000" y="39765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18280" y="39672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97680" y="3985920"/>
              <a:ext cx="4464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54120" y="400500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91560" y="40608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28200" y="41083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55280" y="408924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80120" y="40226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06840" y="41828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56440" y="41274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6440" y="42019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78600" y="43434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22080" y="42116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49160" y="43624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0000" y="43624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6480" y="42591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55280" y="42019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06840" y="435276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578600" y="42591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711800" y="40798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92360" y="424008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46480" y="4108320"/>
              <a:ext cx="115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54120" y="438120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74360" y="4325760"/>
              <a:ext cx="540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06840" y="425916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06840" y="4117680"/>
              <a:ext cx="648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68240" y="396720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47640" y="39574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27040" y="3967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27040" y="40892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77440" y="395748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11800" y="39672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6760" y="3967200"/>
              <a:ext cx="10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96520" y="438120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18280" y="43718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13320" y="396720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27040" y="42116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20560" y="429732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85080" y="440028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16760" y="424008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43840" y="444816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35040" y="44942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15600" y="44290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40000" y="45320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20560" y="443844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09120" y="452268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91560" y="453204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92360" y="45129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05320" y="444816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82360" y="44193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24760" y="452268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00360" y="4486320"/>
              <a:ext cx="612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93880" y="45320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649160" y="453204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4480" y="439092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66720" y="4419360"/>
              <a:ext cx="504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610640" y="437184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855800" y="399492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956960" y="42868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108520" y="413604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1873800" y="413604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1855800" y="428688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2089440" y="4305960"/>
              <a:ext cx="51120" cy="5580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849320" y="44092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127960" y="441864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007000" y="445752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1963440" y="4483800"/>
              <a:ext cx="1224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2000880" y="44290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1937880" y="43804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2064600" y="43995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089440" y="44672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216160" y="43059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166120" y="43624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166120" y="42868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1987920" y="41464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931400" y="42782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058480" y="41274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849320" y="41274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855800" y="42307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2064600" y="42868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216160" y="412668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1987920" y="42307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121120" y="44100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2102040" y="425772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1855800" y="4380480"/>
              <a:ext cx="1152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1963440" y="41083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2084040" y="416556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2216160" y="423864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216160" y="437976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077560" y="452268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1956960" y="45313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1836720" y="4522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836720" y="43995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886760" y="453132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121120" y="45226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026440" y="4522680"/>
              <a:ext cx="7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1905840" y="41083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127960" y="41169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222640" y="452268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836720" y="42782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830240" y="419256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994400" y="3985920"/>
              <a:ext cx="89640" cy="11304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2026440" y="419184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2153160" y="399564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1944360" y="39956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925280" y="40608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1849320" y="39567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1830240" y="404100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1918800" y="396720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00880" y="39567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102040" y="39765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115000" y="404172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91680" y="406944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134080" y="396720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209680" y="4005000"/>
              <a:ext cx="648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2203560" y="39567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058480" y="39567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1873800" y="408852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976040" y="4069440"/>
              <a:ext cx="504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019960" y="41169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65120" y="443844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66640" y="40989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18200" y="425916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83480" y="4249440"/>
              <a:ext cx="89640" cy="11304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65120" y="414648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98760" y="4136760"/>
              <a:ext cx="51120" cy="5580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59000" y="39765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37280" y="39672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16680" y="3985920"/>
              <a:ext cx="4464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373120" y="400500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10200" y="40608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347560" y="41083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74280" y="408924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98760" y="40226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25840" y="41828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75800" y="41274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75800" y="42019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397600" y="43434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41080" y="42116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67800" y="43624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59000" y="43624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65120" y="42591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74280" y="42019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25840" y="435276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97600" y="42591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30800" y="40798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511720" y="424008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65120" y="4108320"/>
              <a:ext cx="115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73120" y="438120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493360" y="432576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25840" y="425916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25840" y="411768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87240" y="396720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66640" y="39574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46040" y="3967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246040" y="40892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96080" y="395748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530800" y="3967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35760" y="3967200"/>
              <a:ext cx="7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15520" y="438120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37280" y="43718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31960" y="396720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46040" y="42116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39920" y="429732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04080" y="440028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435760" y="424008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562840" y="444816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53680" y="44942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34600" y="44290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59000" y="45320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39920" y="443844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28120" y="452268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10200" y="453204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1720" y="45129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24320" y="444816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01360" y="44193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43400" y="452268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19360" y="4486320"/>
              <a:ext cx="648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12880" y="45320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67800" y="453204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83480" y="439092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85720" y="4419360"/>
              <a:ext cx="504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29640" y="4371840"/>
              <a:ext cx="1224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674800" y="399492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775960" y="42868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2927520" y="413604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692800" y="413604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2674800" y="428688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2908440" y="4305960"/>
              <a:ext cx="50760" cy="5580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68320" y="44092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2946600" y="441864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826360" y="445752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2782440" y="448380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819880" y="44290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756880" y="43804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2883600" y="43995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2908440" y="44672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035160" y="43059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985120" y="43624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2985120" y="42868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2806920" y="41464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750400" y="42782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877480" y="41274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2668320" y="41274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674800" y="42307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2883600" y="42868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3035160" y="412668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806920" y="42307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2940480" y="4410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2921040" y="425772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2674800" y="4380480"/>
              <a:ext cx="1152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2782440" y="41083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902680" y="4165560"/>
              <a:ext cx="540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3035160" y="423864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3035160" y="437976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896560" y="452268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775960" y="45313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655360" y="45226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2655360" y="43995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2705760" y="453132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940480" y="4522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2845440" y="4522680"/>
              <a:ext cx="10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2724840" y="41083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946600" y="41169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3041640" y="452268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2655360" y="42782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2649240" y="419256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813400" y="3985920"/>
              <a:ext cx="89280" cy="11304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845440" y="419184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972160" y="399564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2763360" y="39956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2743920" y="40608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2668320" y="39567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649240" y="404100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2737800" y="396720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819880" y="39567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2921040" y="39765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933640" y="404172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3010680" y="406944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953080" y="396720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028680" y="4005000"/>
              <a:ext cx="612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3022200" y="39567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2877480" y="39567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692800" y="408852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2795400" y="4069440"/>
              <a:ext cx="504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2838960" y="41169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4120" y="443844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85640" y="40989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36840" y="425916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02480" y="4249440"/>
              <a:ext cx="89640" cy="11304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4120" y="414648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17760" y="4136760"/>
              <a:ext cx="51120" cy="5580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78000" y="39765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56280" y="39672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35680" y="3985920"/>
              <a:ext cx="4464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92120" y="4005000"/>
              <a:ext cx="1224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29200" y="40608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66560" y="41083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93280" y="408924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17760" y="40226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44840" y="41828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94440" y="41274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94440" y="42019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16600" y="43434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160080" y="42116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6800" y="43624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78000" y="43624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084120" y="42591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93280" y="42019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44840" y="435276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16600" y="42591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9800" y="40798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330720" y="424008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84120" y="4108320"/>
              <a:ext cx="115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2120" y="438120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2360" y="432576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44840" y="425916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44840" y="411768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305880" y="396720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185640" y="39574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065040" y="39672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65040" y="40892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15080" y="395748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49800" y="3967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55120" y="3967200"/>
              <a:ext cx="7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34160" y="438120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56280" y="43718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50960" y="396720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65040" y="42116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58560" y="429732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22720" y="440028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55120" y="424008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81480" y="444816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172680" y="44942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53600" y="44290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78000" y="45320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58560" y="443844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147120" y="452268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29200" y="453204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30720" y="45129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43320" y="444816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20000" y="441936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62400" y="452268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38360" y="4486320"/>
              <a:ext cx="648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31880" y="45320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86800" y="453204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102480" y="439092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204720" y="4419360"/>
              <a:ext cx="504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248280" y="437184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1569960" y="461412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1671120" y="49060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1822680" y="475524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1587960" y="475524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1569960" y="490608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1803600" y="4925880"/>
              <a:ext cx="5112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842120" y="503784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1734120" y="505296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1677600" y="510372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1715040" y="50482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1652040" y="49996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1779120" y="50187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1803600" y="50853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930320" y="49258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1880280" y="498060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880280" y="49060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1702080" y="47656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1645560" y="48974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1772640" y="47466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1779120" y="49060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1930320" y="474588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1702080" y="48488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1835280" y="50292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1816200" y="487584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677600" y="47275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1798200" y="478476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930320" y="485676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1930320" y="499896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1792080" y="514188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1835280" y="51418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1620360" y="47275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1842120" y="47361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1936800" y="514188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1708560" y="460440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1740600" y="481104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1867680" y="461484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1658520" y="46148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1639440" y="4680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1632960" y="458532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1715040" y="457668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1816200" y="45957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1829160" y="466092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905840" y="468936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1848240" y="458532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1923840" y="4624200"/>
              <a:ext cx="648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1917720" y="4576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1772640" y="457668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1690560" y="4689360"/>
              <a:ext cx="504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1734120" y="47361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73160" y="5024160"/>
              <a:ext cx="50040" cy="7488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80800" y="47178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32360" y="4878360"/>
              <a:ext cx="9468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97640" y="486864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979640" y="4765680"/>
              <a:ext cx="50040" cy="648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12920" y="4755960"/>
              <a:ext cx="51120" cy="5580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73160" y="45957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51440" y="458604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30840" y="4605120"/>
              <a:ext cx="4464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87280" y="462420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24360" y="46800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61720" y="47275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88440" y="470844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12920" y="46418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40000" y="48020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89960" y="47466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289960" y="48211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11760" y="49622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055240" y="483048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82320" y="49813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73160" y="49813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79640" y="48783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188440" y="48211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40000" y="497196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11760" y="48783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44960" y="46987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25880" y="485928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79640" y="4727520"/>
              <a:ext cx="115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087280" y="500040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07520" y="494496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40000" y="487836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40000" y="4736880"/>
              <a:ext cx="648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201400" y="458604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080800" y="4576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960200" y="45860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960200" y="47084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10600" y="4576680"/>
              <a:ext cx="1224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244960" y="45860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49920" y="4586040"/>
              <a:ext cx="10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029680" y="500040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51440" y="49910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46480" y="458604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60200" y="483048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54080" y="491652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49920" y="485928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93840" y="499572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48760" y="50482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54080" y="505764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238480" y="506700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15520" y="503856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33520" y="5105160"/>
              <a:ext cx="612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997640" y="501012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99880" y="5038560"/>
              <a:ext cx="504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43800" y="499104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2388960" y="4614120"/>
              <a:ext cx="5652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2490480" y="49060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2641680" y="4755240"/>
              <a:ext cx="946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2406960" y="475524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2388960" y="490608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622600" y="4925880"/>
              <a:ext cx="5076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2382840" y="502848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540520" y="5076720"/>
              <a:ext cx="4464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2496600" y="510372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534040" y="50482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2471040" y="499968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2597760" y="50187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2622600" y="50853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749320" y="49258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699280" y="498060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699280" y="49060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521080" y="4765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2464560" y="48974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591640" y="47466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2382840" y="47466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2388960" y="48488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2597760" y="490608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2749320" y="474588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2521080" y="48488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2654640" y="50292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635560" y="487584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2388960" y="4999680"/>
              <a:ext cx="1152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496600" y="47275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617200" y="478476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749320" y="4856760"/>
              <a:ext cx="648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2749320" y="4998960"/>
              <a:ext cx="648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490480" y="51505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2369880" y="50187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2419920" y="515052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2559600" y="5141880"/>
              <a:ext cx="7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2439000" y="472752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2660760" y="47361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369880" y="48974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2363400" y="481176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2527560" y="460440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2559600" y="481104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686320" y="461484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477520" y="46148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458440" y="46800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2382840" y="4576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363400" y="466020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451960" y="458532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534040" y="457668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2635560" y="459576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2648160" y="466092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2724840" y="468936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2667240" y="4585320"/>
              <a:ext cx="1260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2742840" y="4624200"/>
              <a:ext cx="612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736720" y="45766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2591640" y="457668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406960" y="470772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509560" y="4689360"/>
              <a:ext cx="504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553120" y="473616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99800" y="471780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3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51000" y="4878360"/>
              <a:ext cx="9468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24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65"/>
                  </a:lnTo>
                  <a:lnTo>
                    <a:pt x="66" y="65"/>
                  </a:lnTo>
                  <a:lnTo>
                    <a:pt x="84" y="47"/>
                  </a:lnTo>
                  <a:lnTo>
                    <a:pt x="89" y="24"/>
                  </a:lnTo>
                  <a:lnTo>
                    <a:pt x="84" y="6"/>
                  </a:lnTo>
                  <a:lnTo>
                    <a:pt x="60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6640" y="4868640"/>
              <a:ext cx="8964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98280" y="4765680"/>
              <a:ext cx="50040" cy="648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31920" y="4755960"/>
              <a:ext cx="51120" cy="5580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792160" y="459576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17" y="12"/>
                  </a:moveTo>
                  <a:lnTo>
                    <a:pt x="0" y="24"/>
                  </a:lnTo>
                  <a:lnTo>
                    <a:pt x="0" y="59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7" y="53"/>
                  </a:lnTo>
                  <a:lnTo>
                    <a:pt x="83" y="29"/>
                  </a:lnTo>
                  <a:lnTo>
                    <a:pt x="77" y="12"/>
                  </a:lnTo>
                  <a:lnTo>
                    <a:pt x="53" y="0"/>
                  </a:lnTo>
                  <a:lnTo>
                    <a:pt x="23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70440" y="4586040"/>
              <a:ext cx="8820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24" y="12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7" y="53"/>
                  </a:lnTo>
                  <a:lnTo>
                    <a:pt x="83" y="30"/>
                  </a:lnTo>
                  <a:lnTo>
                    <a:pt x="77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49840" y="4605120"/>
              <a:ext cx="4464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8"/>
                  </a:moveTo>
                  <a:lnTo>
                    <a:pt x="0" y="35"/>
                  </a:lnTo>
                  <a:lnTo>
                    <a:pt x="36" y="35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906280" y="462420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943360" y="46800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80720" y="47275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007440" y="470844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031920" y="464184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59000" y="48020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08960" y="474660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08960" y="48211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930760" y="49622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874240" y="483048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000960" y="49813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92160" y="498132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98280" y="48783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07440" y="48211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159000" y="497196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30760" y="487836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63960" y="469872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44880" y="485928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798280" y="4727520"/>
              <a:ext cx="115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06280" y="500040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26520" y="4944960"/>
              <a:ext cx="5040" cy="7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59000" y="4878360"/>
              <a:ext cx="6120" cy="1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159000" y="4736880"/>
              <a:ext cx="612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20400" y="458604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99800" y="45766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79200" y="45860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779200" y="47084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829240" y="457668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63960" y="458604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69280" y="4586040"/>
              <a:ext cx="7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848680" y="500040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70440" y="499104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65120" y="4586040"/>
              <a:ext cx="1260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79200" y="483048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72720" y="491652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37240" y="501948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18" y="12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54" y="71"/>
                  </a:lnTo>
                  <a:lnTo>
                    <a:pt x="66" y="71"/>
                  </a:lnTo>
                  <a:lnTo>
                    <a:pt x="78" y="54"/>
                  </a:lnTo>
                  <a:lnTo>
                    <a:pt x="84" y="30"/>
                  </a:lnTo>
                  <a:lnTo>
                    <a:pt x="78" y="12"/>
                  </a:lnTo>
                  <a:lnTo>
                    <a:pt x="54" y="0"/>
                  </a:lnTo>
                  <a:lnTo>
                    <a:pt x="24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69280" y="4859280"/>
              <a:ext cx="572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8"/>
                  </a:moveTo>
                  <a:lnTo>
                    <a:pt x="12" y="36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83400" y="503388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86840" y="511308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67760" y="504828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772720" y="505764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44880" y="513216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57480" y="506700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134160" y="5038560"/>
              <a:ext cx="64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76560" y="5141880"/>
              <a:ext cx="1260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816640" y="5010120"/>
              <a:ext cx="64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918880" y="5038560"/>
              <a:ext cx="504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962440" y="499104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207960" y="4614120"/>
              <a:ext cx="5616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18"/>
                  </a:moveTo>
                  <a:lnTo>
                    <a:pt x="11" y="35"/>
                  </a:lnTo>
                  <a:lnTo>
                    <a:pt x="17" y="41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3226320" y="4755240"/>
              <a:ext cx="8928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24" y="6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6" y="53"/>
                  </a:lnTo>
                  <a:lnTo>
                    <a:pt x="54" y="71"/>
                  </a:lnTo>
                  <a:lnTo>
                    <a:pt x="66" y="65"/>
                  </a:lnTo>
                  <a:lnTo>
                    <a:pt x="78" y="53"/>
                  </a:lnTo>
                  <a:lnTo>
                    <a:pt x="84" y="24"/>
                  </a:lnTo>
                  <a:lnTo>
                    <a:pt x="78" y="6"/>
                  </a:lnTo>
                  <a:lnTo>
                    <a:pt x="54" y="0"/>
                  </a:lnTo>
                  <a:lnTo>
                    <a:pt x="24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3207960" y="4906080"/>
              <a:ext cx="5004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0" y="18"/>
                  </a:moveTo>
                  <a:lnTo>
                    <a:pt x="6" y="35"/>
                  </a:lnTo>
                  <a:lnTo>
                    <a:pt x="11" y="41"/>
                  </a:lnTo>
                  <a:lnTo>
                    <a:pt x="35" y="35"/>
                  </a:lnTo>
                  <a:lnTo>
                    <a:pt x="41" y="23"/>
                  </a:lnTo>
                  <a:lnTo>
                    <a:pt x="47" y="18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3283560" y="48974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3201480" y="47466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207960" y="4848840"/>
              <a:ext cx="612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3207960" y="4999680"/>
              <a:ext cx="1152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3188520" y="5018760"/>
              <a:ext cx="6480" cy="97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3258000" y="4727520"/>
              <a:ext cx="612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3188520" y="4897440"/>
              <a:ext cx="648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3182400" y="4811760"/>
              <a:ext cx="1260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296520" y="4614840"/>
              <a:ext cx="61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3277080" y="468000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201480" y="4576680"/>
              <a:ext cx="6480" cy="9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3182400" y="466020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3270960" y="4585320"/>
              <a:ext cx="61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3226320" y="4707720"/>
              <a:ext cx="61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094840" y="4991040"/>
              <a:ext cx="5004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8"/>
                  </a:moveTo>
                  <a:lnTo>
                    <a:pt x="6" y="35"/>
                  </a:lnTo>
                  <a:lnTo>
                    <a:pt x="36" y="35"/>
                  </a:lnTo>
                  <a:lnTo>
                    <a:pt x="47" y="12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855600" y="1836720"/>
            <a:ext cx="19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mm Wearing course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606480" y="2263680"/>
            <a:ext cx="24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 mm Crushed stone base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631680" y="285588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 mm Cemented subbase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668760" y="333360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 mm Granular upper selected subgrade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115160" y="4684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itu subgrade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371600" y="3357720"/>
            <a:ext cx="7772400" cy="0"/>
          </a:xfrm>
          <a:prstGeom prst="line">
            <a:avLst/>
          </a:prstGeom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371600" y="2106720"/>
            <a:ext cx="7772400" cy="0"/>
          </a:xfrm>
          <a:prstGeom prst="line">
            <a:avLst/>
          </a:prstGeom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1371600" y="1891800"/>
            <a:ext cx="7772400" cy="9720"/>
          </a:xfrm>
          <a:prstGeom prst="line">
            <a:avLst/>
          </a:prstGeom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1371600" y="2692440"/>
            <a:ext cx="7772400" cy="9360"/>
          </a:xfrm>
          <a:prstGeom prst="line">
            <a:avLst/>
          </a:prstGeom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1371600" y="3949200"/>
            <a:ext cx="7772400" cy="9720"/>
          </a:xfrm>
          <a:prstGeom prst="line">
            <a:avLst/>
          </a:prstGeom>
          <a:ln w="9360">
            <a:solidFill>
              <a:srgbClr val="afa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1371600" y="4568400"/>
            <a:ext cx="7772400" cy="9720"/>
          </a:xfrm>
          <a:prstGeom prst="line">
            <a:avLst/>
          </a:prstGeom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678120" y="3914640"/>
            <a:ext cx="232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 mm Granular lower selected subgrade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048360" y="1380960"/>
            <a:ext cx="0" cy="4048200"/>
          </a:xfrm>
          <a:prstGeom prst="line">
            <a:avLst/>
          </a:prstGeom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690200" y="114444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SA Pavement Structure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32560" y="1122480"/>
            <a:ext cx="197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ff"/>
                </a:solidFill>
                <a:latin typeface="Arial"/>
              </a:rPr>
              <a:t>Current ME </a:t>
            </a:r>
            <a:endParaRPr b="0" lang="en-US" sz="2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ff"/>
                </a:solidFill>
                <a:latin typeface="Arial"/>
              </a:rPr>
              <a:t>Damage Model</a:t>
            </a:r>
            <a:endParaRPr b="0" lang="en-US" sz="2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000840" y="18525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sphalt Fatigue – Freeme 1970s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045120" y="2173320"/>
            <a:ext cx="30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ermanent Deformation FOS 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ree 1970s to 1980s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2800" y="2725560"/>
            <a:ext cx="319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Effective Fatigue and Crushing Failure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 Beer 1980s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048360" y="335448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Vertical Strain Criteria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Dorman and Metcalf 1965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048360" y="396072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Vertical Strain Criteria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Dorman and Metcalf 1965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048360" y="457056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Vertical Strain Criteria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Dorman and Metcalf 1965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22240" y="560232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0000"/>
                </a:solidFill>
                <a:latin typeface="Arial"/>
              </a:rPr>
              <a:t>Current SAMDM has number of limitations, i.e. no damage models for plastic deformation in Asphalt layers, number of models outdated, etc, etc  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24040" y="151920"/>
            <a:ext cx="796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MDM - Current statu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0160" y="993240"/>
            <a:ext cx="790920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519840" indent="-1998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ical ME design method - single estimate of bear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layer approach – distress mechanisms dis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arated resilient response and damag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erial resilien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Poisson’s Rati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19960" indent="-15984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flict between slow and dynamic tes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Users are disillusioned with the method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519840" indent="-1998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er-intuitive and inadmissib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reme sensitivity of the method to in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nsistent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ilient response (FWD, MDD, Labora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ength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Statements made that ME-design is not possible due to: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519840" indent="-1998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o many unexplained effects (cha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etting the right answers for the wrong reasons (i.e. SAMDM correctly predicted expected life, but predicted failure layer as being subgrade, yet it actually is base !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12d50"/>
                </a:solidFill>
                <a:latin typeface="Arial"/>
              </a:rPr>
              <a:t>SAMDM require extensive revision !!!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14320" y="123480"/>
            <a:ext cx="76392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25480" y="1053720"/>
            <a:ext cx="785808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d50"/>
                </a:solidFill>
                <a:latin typeface="Arial"/>
              </a:rPr>
              <a:t>Overall objective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  <a:p>
            <a:pPr lvl="1" marL="505080" indent="-19404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velop a design method that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urate (theory must agree with real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rtial in terms of pavement typ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lnSpc>
                <a:spcPct val="100000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bound (Crushed stone, natural grav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lnSpc>
                <a:spcPct val="100000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bilised (Cement, Foamed-bitumen, Emulsified-bitu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lnSpc>
                <a:spcPct val="100000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lnSpc>
                <a:spcPct val="100000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crete (not included in flexible pavement design R&amp;D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2d50"/>
                </a:solidFill>
                <a:latin typeface="Arial"/>
              </a:rPr>
              <a:t>Pavement Design Task Group</a:t>
            </a:r>
            <a:endParaRPr b="0" lang="en-US" sz="2600" spc="-1" strike="noStrike">
              <a:solidFill>
                <a:srgbClr val="012d50"/>
              </a:solidFill>
              <a:latin typeface="Arial"/>
            </a:endParaRPr>
          </a:p>
          <a:p>
            <a:pPr lvl="1" marL="505080" indent="-19404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mitted R&amp;D framework in Novem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acteristics of new pavement design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&amp;D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lnSpc>
                <a:spcPct val="100000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analysis (Traffic and enviro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lnSpc>
                <a:spcPct val="100000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terial resilient response mod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lnSpc>
                <a:spcPct val="100000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vement resilient respons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lnSpc>
                <a:spcPct val="100000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mage mod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lnSpc>
                <a:spcPct val="100000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abilistic and recursive sc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R&amp;D topic have a number of identified R&amp;D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R&amp;D need translated into one or more detailed project briefs to address the need – Nov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6391440" y="1047600"/>
            <a:ext cx="1133280" cy="84636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2"/>
          <a:stretch/>
        </p:blipFill>
        <p:spPr>
          <a:xfrm>
            <a:off x="7905600" y="1066680"/>
            <a:ext cx="1122480" cy="78264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6546600" y="801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0000"/>
                </a:solidFill>
                <a:latin typeface="Arial"/>
              </a:rPr>
              <a:t>Theory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8096400" y="8082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0000"/>
                </a:solidFill>
                <a:latin typeface="Arial"/>
              </a:rPr>
              <a:t>Reality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544520" y="1208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14320" y="190440"/>
            <a:ext cx="8329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d50"/>
                </a:solidFill>
                <a:latin typeface="Arial"/>
              </a:rPr>
              <a:t>New South African Pavement Design Method (SAPDM)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10720" y="1125360"/>
            <a:ext cx="82155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ts val="2200"/>
              </a:lnSpc>
              <a:spcBef>
                <a:spcPts val="6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2d50"/>
                </a:solidFill>
                <a:latin typeface="Arial"/>
              </a:rPr>
              <a:t>Pavement Performance </a:t>
            </a:r>
            <a:r>
              <a:rPr b="0" lang="en-GB" sz="2600" spc="-1" strike="noStrike">
                <a:solidFill>
                  <a:srgbClr val="012d50"/>
                </a:solidFill>
                <a:latin typeface="Arial"/>
              </a:rPr>
              <a:t>Information </a:t>
            </a:r>
            <a:r>
              <a:rPr b="0" lang="en-US" sz="2600" spc="-1" strike="noStrike">
                <a:solidFill>
                  <a:srgbClr val="012d50"/>
                </a:solidFill>
                <a:latin typeface="Arial"/>
              </a:rPr>
              <a:t>S</a:t>
            </a:r>
            <a:r>
              <a:rPr b="0" lang="en-GB" sz="2600" spc="-1" strike="noStrike">
                <a:solidFill>
                  <a:srgbClr val="012d50"/>
                </a:solidFill>
                <a:latin typeface="Arial"/>
              </a:rPr>
              <a:t>ystem </a:t>
            </a:r>
            <a:r>
              <a:rPr b="0" lang="en-US" sz="2600" spc="-1" strike="noStrike">
                <a:solidFill>
                  <a:srgbClr val="012d50"/>
                </a:solidFill>
                <a:latin typeface="Arial"/>
              </a:rPr>
              <a:t>(LTPP)</a:t>
            </a:r>
            <a:endParaRPr b="0" lang="en-US" sz="2600" spc="-1" strike="noStrike">
              <a:solidFill>
                <a:srgbClr val="012d50"/>
              </a:solidFill>
              <a:latin typeface="Arial"/>
            </a:endParaRPr>
          </a:p>
          <a:p>
            <a:pPr lvl="1" marL="698400" indent="-268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Classification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ement Number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and Calibrate ME Analysi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ts val="1899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2200"/>
              </a:lnSpc>
              <a:spcBef>
                <a:spcPts val="6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2d50"/>
                </a:solidFill>
                <a:latin typeface="Arial"/>
              </a:rPr>
              <a:t>Mechanistic-Empirical </a:t>
            </a:r>
            <a:r>
              <a:rPr b="0" lang="en-US" sz="2600" spc="-1" strike="noStrike">
                <a:solidFill>
                  <a:srgbClr val="012d50"/>
                </a:solidFill>
                <a:latin typeface="Arial"/>
              </a:rPr>
              <a:t>A</a:t>
            </a:r>
            <a:r>
              <a:rPr b="0" lang="en-GB" sz="2600" spc="-1" strike="noStrike">
                <a:solidFill>
                  <a:srgbClr val="012d50"/>
                </a:solidFill>
                <a:latin typeface="Arial"/>
              </a:rPr>
              <a:t>nalysis </a:t>
            </a:r>
            <a:r>
              <a:rPr b="0" lang="en-US" sz="2600" spc="-1" strike="noStrike">
                <a:solidFill>
                  <a:srgbClr val="012d50"/>
                </a:solidFill>
                <a:latin typeface="Arial"/>
              </a:rPr>
              <a:t>S</a:t>
            </a:r>
            <a:r>
              <a:rPr b="0" lang="en-GB" sz="2600" spc="-1" strike="noStrike">
                <a:solidFill>
                  <a:srgbClr val="012d50"/>
                </a:solidFill>
                <a:latin typeface="Arial"/>
              </a:rPr>
              <a:t>ystem</a:t>
            </a:r>
            <a:endParaRPr b="0" lang="en-US" sz="2600" spc="-1" strike="noStrike">
              <a:solidFill>
                <a:srgbClr val="012d50"/>
              </a:solidFill>
              <a:latin typeface="Arial"/>
            </a:endParaRPr>
          </a:p>
          <a:p>
            <a:pPr lvl="1" marL="698400" indent="-268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ineering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ion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separated respons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ilient response and damag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c resilient pavement respons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mag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vement system as a whole contribute to permanent de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ffness reduction for bound layers – Reflective cracking ex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 resilient response and damage model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sed stress/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variables – Temp, MC, De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7639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Current Statu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15760" y="1053720"/>
            <a:ext cx="832788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South African Pavement Design Method Proces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ement Perform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T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Projects Complete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chanistic-Empiric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ly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1 – Develop Detailed Project Brie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– November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2 - Inception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2 Projects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– Jul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estigate available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lize project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lize cost and resource al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Inception Report Peer Review </a:t>
            </a:r>
            <a:r>
              <a:rPr b="0" lang="en-ZA" sz="1800" spc="-1" strike="noStrike">
                <a:solidFill>
                  <a:srgbClr val="ff0000"/>
                </a:solidFill>
                <a:latin typeface="Arial"/>
              </a:rPr>
              <a:t>– 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3 – Project Deli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mediate Deliverables (12 to 18 month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rt Term Deliverables (18 months to 3 years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dium Term Deliverabl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 to 5 years)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erm Deliverables &gt; 5 yea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7639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PPI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2343240" y="2252520"/>
            <a:ext cx="4819680" cy="263844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1114560" y="976320"/>
            <a:ext cx="771516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37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PPIS developed as Internet website 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12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000" spc="-1" strike="noStrike" u="sng">
                <a:solidFill>
                  <a:srgbClr val="be3232"/>
                </a:solidFill>
                <a:uFillTx/>
                <a:latin typeface="Arial"/>
                <a:ea typeface="ヒラギノ角ゴ Pro W3"/>
                <a:hlinkClick r:id="rId2"/>
              </a:rPr>
              <a:t>www.ppis.roadrehab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2000" spc="-1" strike="noStrike">
              <a:solidFill>
                <a:srgbClr val="afafaf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14320" y="142920"/>
            <a:ext cx="7639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PDM Revision – </a:t>
            </a: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PPI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1000080" y="1238400"/>
            <a:ext cx="7677360" cy="396216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2657520" y="4943520"/>
            <a:ext cx="6600960" cy="191448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996840" y="816120"/>
            <a:ext cx="1898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375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able View 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0:33:22Z</dcterms:created>
  <dc:creator>Tony</dc:creator>
  <dc:description/>
  <dc:language>en-US</dc:language>
  <cp:lastModifiedBy>administrator</cp:lastModifiedBy>
  <cp:lastPrinted>2005-12-08T11:33:35Z</cp:lastPrinted>
  <dcterms:modified xsi:type="dcterms:W3CDTF">2008-05-06T23:32:09Z</dcterms:modified>
  <cp:revision>248</cp:revision>
  <dc:subject/>
  <dc:title>PowerPoint Presentation</dc:title>
</cp:coreProperties>
</file>