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81F-9BF8-4D2A-905B-693EC6B5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761-FF7F-40F6-9FFE-C9AEE3FF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38B-7171-4F34-B68A-172D6044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0E6-DEF4-4DD2-9935-55609F51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4BC-0FBE-4CA4-AFE0-546F9359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60B-B2D9-474E-9DCA-0F8F3169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03D-FDE9-4A3B-B341-BAAEEA24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553-EC5F-4493-8948-9C3BF0D7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B55-3151-4126-9BAB-51F5FB3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CB4-61AD-4BD2-BE2D-D5564343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78E-C2B6-4FA4-BCFA-D9FEC5D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BC8-9A59-4C25-9497-7018A6F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071-4E3B-4FA2-B8A9-331862A83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1120" y="2276640"/>
            <a:ext cx="71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2680" y="4844880"/>
            <a:ext cx="346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Presented by:  Nico Pien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Director – Aspasa &amp; S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5120" y="281160"/>
            <a:ext cx="8013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ROAD PAVEMENT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Bookman Old Style"/>
              </a:rPr>
              <a:t>FOURTEENTH MEETING – 20 &amp; 21 NOV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SESSION:  TECHNOLOGY IN PRACTICE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Bookman Old Style"/>
              </a:rPr>
              <a:t>SETTING STANDARDS FOR READYM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Bookman Old Style"/>
              </a:rPr>
              <a:t>AND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ogo Colour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ookman Old Style"/>
              </a:rPr>
              <a:t>ABOUT FACE RSA -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This is an environmental au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Runs every second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ets uniform environmental management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ining industry under pressure to act respo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spasa Members are com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bout Face program started in 1993 in South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Great amount of experience has been gained in terms of Environmental standards at quar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Present program is not only in line with MPRDA, but also in line with ISO standards</a:t>
            </a: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611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ookman Old Style"/>
              </a:rPr>
              <a:t>ABOUT FACE RSA -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spects that are focussed on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Environment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Environmental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Leg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Documentation 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ookman Old Style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Both above programs are compulsory for Aspasa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-   In the past   - not compul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Illegal mining (includes quarries, borrow pits, sand pits) is being focussed on by the DME, Green Scorpions and D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Often found that guilty parties are big companies in construction industry, municipalities and government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84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Who May Join SAR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ducer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ssociate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Bookman Old Style"/>
              </a:rPr>
              <a:t>Producer Members of SARMA shall be boun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Bookman Old Style"/>
              </a:rPr>
              <a:t>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A member will have to be a fully paid up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A member shall participate in and abide by the rules of SARMA SHREQ Audit Program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The rules of the compulsory program as described above will be approved by EX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Logo Colour" descr=""/>
          <p:cNvPicPr/>
          <p:nvPr/>
        </p:nvPicPr>
        <p:blipFill>
          <a:blip r:embed="rId8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SARMA’S SHREQ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’s vision is to make readymix concrete the construction material of cho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s a service to its members, and indirectly to the public, Sarma promotes and monitors safety, health, road transport, and quality as a fundamental component of the readymix concrete service packag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 is committed to maintaining an effective SHREQ program that will monitor membership activ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’s SHREQ Policy therefore incorporates the issues of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LOD’s of product qua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control of the accuracy of production equipment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93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SARMA’S SHREQ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 and control of all environmental activities and princip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control of all transportation and delivery activ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control of all health and safety activities and princip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The objective is the achievement of member and custome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satisfaction consistent</a:t>
            </a: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 with professional standards and ethics, efficiency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effectiveness</a:t>
            </a: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, in the provision of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value adding serv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 SHREQ performance is managed via an independent auditing service that ensures member compliance with the requirements of SANS 878 and other requirements and Sarma will “arbitrate” should there be a problem with quality or related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97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Background – Dome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ARMA members produce in the region 80% of the total South African ready mix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 2007, SARMA so far audited over 190 plants for Health, Safety and Quality and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101" name="Logo Colour" descr=""/>
          <p:cNvPicPr/>
          <p:nvPr/>
        </p:nvPicPr>
        <p:blipFill>
          <a:blip r:embed="rId5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Some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35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 u="sng">
                <a:solidFill>
                  <a:srgbClr val="000000"/>
                </a:solidFill>
                <a:uFillTx/>
                <a:latin typeface="Arial"/>
              </a:rPr>
              <a:t>Metric tons (ready m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784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708280"/>
          <a:ext cx="8229600" cy="285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,7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,4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107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SH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Now all in 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one 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audit + Road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l SARMA member plants will be audited by an independent auditor. Expecting to audit 210 plant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esults will be available on the SARMA website as they are au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l temporary plants – 12 to 18 months projects will be au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111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3280" y="3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611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Thank you for listening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341360"/>
            <a:ext cx="741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SPASA / SAR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tact Details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+27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 498-72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x: +27 11 498-72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-Mail: npienaar@bullion.org.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.O. Box 618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shalltown, 21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ohanne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: http//www.aspasa.co.za/www.sarma.co.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SET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Bookman Old Style"/>
              </a:rPr>
              <a:t>Corporate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There are some companies that take pride in doing things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Corporate Governance is vital to business in South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High Standards are needed and these includ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Disciplin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King II and the JSE Securities Exchange (SA) Listing requirement are the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51" name="Logo Colour" descr=""/>
          <p:cNvPicPr/>
          <p:nvPr/>
        </p:nvPicPr>
        <p:blipFill>
          <a:blip r:embed="rId8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ASPASA /SARMA</a:t>
            </a:r>
            <a:r>
              <a:rPr b="1" lang="en-ZA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Both Associations contribute to SA industry by subscribing to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“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Striving to achieve excellence in ethical and legal conduct throughout the indust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The objectives of the Associations are</a:t>
            </a:r>
            <a:r>
              <a:rPr b="1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“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To Encourage the sound economic development of the indust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Promote the industry</a:t>
            </a:r>
            <a:r>
              <a:rPr b="1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Lobby government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Liaison with other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Attend to matters of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Set standards on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Improve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Market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56" name="Logo Colour" descr=""/>
          <p:cNvPicPr/>
          <p:nvPr/>
        </p:nvPicPr>
        <p:blipFill>
          <a:blip r:embed="rId5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ASPASA’S ENVIRONMENT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Bookman Old Style"/>
              </a:rPr>
              <a:t>Aspasa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recognises that environmental stewardship of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resources serves as the foundation of sustainable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Accordingly Aspasa and its members commit their operation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Optimize the recovery and use of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Responsible mining and rehabil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Compliance with applicable environmental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Provide relevant environmental training and awareness to the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Integrating environmental management in the day to day managemen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Maintain communication channels with authorities, neighbours and 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Participate in the Aspasa About Face RSA environmental management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8604360" y="0"/>
            <a:ext cx="539640" cy="431640"/>
          </a:xfrm>
          <a:prstGeom prst="rect">
            <a:avLst/>
          </a:prstGeom>
          <a:ln w="0">
            <a:noFill/>
          </a:ln>
        </p:spPr>
      </p:pic>
      <p:pic>
        <p:nvPicPr>
          <p:cNvPr id="60" name="Logo Colour" descr=""/>
          <p:cNvPicPr/>
          <p:nvPr/>
        </p:nvPicPr>
        <p:blipFill>
          <a:blip r:embed="rId10"/>
          <a:stretch/>
        </p:blipFill>
        <p:spPr>
          <a:xfrm>
            <a:off x="0" y="0"/>
            <a:ext cx="6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Bookman Old Style"/>
              </a:rPr>
              <a:t>ASPASA’S HEALTH AND SAFETY POLICY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man Old Style"/>
              </a:rPr>
              <a:t>ASPASA 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is fully committed to contribute and co-operate within the qu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and mining industry in order to provide safety information and systems,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ensure that no operating condition or situation can ever justify endang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the life or  health of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man Old Style"/>
              </a:rPr>
              <a:t>ASPASA’S objectiv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Compliance with applicable health and safety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Support efforts in improvement to health &amp; safety in the workplac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Promote health and safety training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Assist members in addressing health and safety risk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Maintain communication channels with authorities and affected partie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Participate in the Aspasa health and safety (ISHE) audit program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Integrate health and safety management in the day to day man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64" name="Logo Colour" descr=""/>
          <p:cNvPicPr/>
          <p:nvPr/>
        </p:nvPicPr>
        <p:blipFill>
          <a:blip r:embed="rId10"/>
          <a:stretch/>
        </p:blipFill>
        <p:spPr>
          <a:xfrm>
            <a:off x="0" y="0"/>
            <a:ext cx="6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TH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HEALTH AND SAFETY – ASP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ASPASA ISHE 18001 – AUD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Health and Safet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Runs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Totally new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Focus on prevention of fatalities &amp; inju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Audit looks at risk assessments at quarries, health &amp; welfare of persons, the working environ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The program was originally introduced in 1977 in Gauteng – called the Inland Regional Safety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Program as developed &amp; extensively revised in 1999/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In 2006 advanced program was put together to comply to OHSAS &amp; 18001 specif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Small and big operations are covered and bene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Includes ISO 14000 and 9000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547560"/>
          </a:xfrm>
          <a:prstGeom prst="rect">
            <a:avLst/>
          </a:prstGeom>
          <a:ln w="0">
            <a:noFill/>
          </a:ln>
        </p:spPr>
      </p:pic>
      <p:pic>
        <p:nvPicPr>
          <p:cNvPr id="68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TH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Based also on the MH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Program ha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specific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measures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gives insta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gives an action list to the operation to work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increases the awareness to members of  legi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raises stand of th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addresses  issues such as Silicosis &amp; NIH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is cost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Mining industry is under great pressure to attend to health and 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72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9:19:44Z</dcterms:created>
  <dc:creator>Diana</dc:creator>
  <dc:description/>
  <dc:language>en-US</dc:language>
  <cp:lastModifiedBy>ASPASA</cp:lastModifiedBy>
  <dcterms:modified xsi:type="dcterms:W3CDTF">2007-11-19T10:12:55Z</dcterms:modified>
  <cp:revision>66</cp:revision>
  <dc:subject/>
  <dc:title>Slide 1</dc:title>
</cp:coreProperties>
</file>