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6212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772812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837720" y="4223880"/>
            <a:ext cx="772812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212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377100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7720" y="1676520"/>
            <a:ext cx="377100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837720" y="4223880"/>
            <a:ext cx="377100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7720" y="4223880"/>
            <a:ext cx="377100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6212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248832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50960" y="1676520"/>
            <a:ext cx="248832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63840" y="1676520"/>
            <a:ext cx="248832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837720" y="4223880"/>
            <a:ext cx="248832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450960" y="4223880"/>
            <a:ext cx="248832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63840" y="4223880"/>
            <a:ext cx="248832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6212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837720" y="1676520"/>
            <a:ext cx="772812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6212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772812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6212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37710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7720" y="1676520"/>
            <a:ext cx="37710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212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762120" y="26640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6212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377100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7720" y="1676520"/>
            <a:ext cx="37710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837720" y="4223880"/>
            <a:ext cx="377100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212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37710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7720" y="1676520"/>
            <a:ext cx="377100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7720" y="4223880"/>
            <a:ext cx="377100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6212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377100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7720" y="1676520"/>
            <a:ext cx="377100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837720" y="4223880"/>
            <a:ext cx="772812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7720" y="1676520"/>
            <a:ext cx="772812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Design of Concrete Block Paving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40" name="" descr=""/>
          <p:cNvPicPr/>
          <p:nvPr/>
        </p:nvPicPr>
        <p:blipFill>
          <a:blip r:embed="rId1"/>
          <a:stretch/>
        </p:blipFill>
        <p:spPr>
          <a:xfrm>
            <a:off x="7596360" y="6237360"/>
            <a:ext cx="1547640" cy="620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atalogue Desig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772812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UTG 2 - Structural Design of            Concrete Block Pavements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UTG 3 – Structural Design of Urban Roads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7596360" y="6237360"/>
            <a:ext cx="1547640" cy="620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990880" cy="62928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429000" y="609480"/>
            <a:ext cx="5715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200400" y="1219320"/>
            <a:ext cx="38098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"/>
            <a:ext cx="6019920" cy="47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Arial"/>
              </a:rPr>
              <a:t>Mechanistic analys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Granular – Factor of safe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emented – Hor. tensile stra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Vertical compressive strain at the top of the lay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14400" y="1828800"/>
            <a:ext cx="1214280" cy="485640"/>
          </a:xfrm>
          <a:prstGeom prst="leftRightArrow">
            <a:avLst>
              <a:gd name="adj1" fmla="val 50000"/>
              <a:gd name="adj2" fmla="val 49776"/>
            </a:avLst>
          </a:prstGeom>
          <a:solidFill>
            <a:srgbClr val="f57b4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219320" y="2362320"/>
            <a:ext cx="485640" cy="442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57b4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3352680"/>
            <a:ext cx="485640" cy="4431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57b4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4267080"/>
            <a:ext cx="485640" cy="4431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57b4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066680" y="1143000"/>
            <a:ext cx="914400" cy="757080"/>
          </a:xfrm>
          <a:custGeom>
            <a:avLst/>
            <a:gdLst>
              <a:gd name="textAreaLeft" fmla="*/ 0 w 914400"/>
              <a:gd name="textAreaRight" fmla="*/ 914760 w 914400"/>
              <a:gd name="textAreaTop" fmla="*/ 0 h 757080"/>
              <a:gd name="textAreaBottom" fmla="*/ 757440 h 757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00" y="6500"/>
                </a:lnTo>
                <a:lnTo>
                  <a:pt x="4300" y="8600"/>
                </a:lnTo>
                <a:lnTo>
                  <a:pt x="8600" y="8600"/>
                </a:lnTo>
                <a:lnTo>
                  <a:pt x="8600" y="4300"/>
                </a:lnTo>
                <a:lnTo>
                  <a:pt x="6500" y="4300"/>
                </a:lnTo>
                <a:lnTo>
                  <a:pt x="10800" y="0"/>
                </a:lnTo>
                <a:lnTo>
                  <a:pt x="15100" y="4300"/>
                </a:lnTo>
                <a:lnTo>
                  <a:pt x="13000" y="4300"/>
                </a:lnTo>
                <a:lnTo>
                  <a:pt x="13000" y="8600"/>
                </a:lnTo>
                <a:lnTo>
                  <a:pt x="17300" y="8600"/>
                </a:lnTo>
                <a:lnTo>
                  <a:pt x="17300" y="6500"/>
                </a:lnTo>
                <a:lnTo>
                  <a:pt x="21600" y="10800"/>
                </a:lnTo>
                <a:lnTo>
                  <a:pt x="17300" y="15100"/>
                </a:lnTo>
                <a:lnTo>
                  <a:pt x="17300" y="13000"/>
                </a:lnTo>
                <a:lnTo>
                  <a:pt x="13000" y="13000"/>
                </a:lnTo>
                <a:lnTo>
                  <a:pt x="13000" y="17300"/>
                </a:lnTo>
                <a:lnTo>
                  <a:pt x="15100" y="17300"/>
                </a:lnTo>
                <a:lnTo>
                  <a:pt x="10800" y="21600"/>
                </a:lnTo>
                <a:lnTo>
                  <a:pt x="6500" y="17300"/>
                </a:lnTo>
                <a:lnTo>
                  <a:pt x="8600" y="17300"/>
                </a:lnTo>
                <a:lnTo>
                  <a:pt x="8600" y="13000"/>
                </a:lnTo>
                <a:lnTo>
                  <a:pt x="4300" y="13000"/>
                </a:lnTo>
                <a:lnTo>
                  <a:pt x="4300" y="15100"/>
                </a:lnTo>
                <a:close/>
              </a:path>
            </a:pathLst>
          </a:custGeom>
          <a:solidFill>
            <a:srgbClr val="f57b4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7596360" y="6237360"/>
            <a:ext cx="1547640" cy="620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Permeable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 Paving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7596360" y="6237360"/>
            <a:ext cx="1547640" cy="620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6212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772812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468360" y="0"/>
            <a:ext cx="7991280" cy="666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258920" y="0"/>
            <a:ext cx="6842160" cy="6858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1-22T22:17:06Z</dcterms:created>
  <dc:creator>Alex Visser</dc:creator>
  <dc:description/>
  <cp:keywords/>
  <dc:language>en-US</dc:language>
  <cp:lastModifiedBy>Verhaeghe</cp:lastModifiedBy>
  <cp:lastPrinted>1997-11-12T15:39:26Z</cp:lastPrinted>
  <dcterms:modified xsi:type="dcterms:W3CDTF">2008-05-08T11:50:28Z</dcterms:modified>
  <cp:revision>66</cp:revision>
  <dc:subject>presentation</dc:subject>
  <dc:title>Block pavt perf</dc:title>
</cp:coreProperties>
</file>