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74839-47BA-48A1-9A7B-737A7F526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35FE7-9E9C-42C2-BE1E-2A72B579C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B619F-6D18-4281-93C5-1F32A84C5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3F305-49E3-427F-9796-B6134B55E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C9540C-4091-42E0-A1EF-0005A0131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8F6CC-197B-4C84-AFD2-B5E4CD2E5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C1940-2D54-4888-9226-D5EFBCD7D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775B7-15B5-48CC-9C22-5CD89D82D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96B7A-B808-413F-8E3B-240A8D37E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42161-1F2C-43F1-8696-E1D4BF9A1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85727-A795-420D-8ACD-1D2D3095B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73B32-BDEB-44AA-A980-BCC8F0EFF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2B0DF-3BF5-473B-B6C0-B9A94311C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7E0CA-7AF6-456D-B537-CAFAF293E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9E3AA-99B3-43EF-9503-C66678DA5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7587C-B0D5-4B4A-958A-9182FADD3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5B924-1A18-4464-8687-C870EF3FC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82460-D722-4D20-9C80-91A0CD52F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3FFFE-606A-4BDB-8441-75C0B14D5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BC390-273C-42E7-B5E4-80748ABD3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4E431-232E-4B66-9D1B-946B23CD8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4CE2D-B10A-4714-AEDD-FFDF143E9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8CD67-9E27-4E50-88A7-6F2BE60FC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293D4-C1C9-427B-AA84-D4E006478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A6CC-6E21-4A12-A8DE-E9897EF4583F}"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F4C2-3BEB-495F-9596-672FB3CC5EFF}"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23640" y="990360"/>
            <a:ext cx="8134200" cy="5562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14</a:t>
            </a:r>
            <a:r>
              <a:rPr b="1" i="1" lang="en-US" sz="3200" spc="-1" strike="noStrike" baseline="30000">
                <a:solidFill>
                  <a:srgbClr val="ffcc66"/>
                </a:solidFill>
                <a:latin typeface="Times New Roman"/>
              </a:rPr>
              <a:t>th</a:t>
            </a:r>
            <a:r>
              <a:rPr b="1" i="1" lang="en-US" sz="3200" spc="-1" strike="noStrike">
                <a:solidFill>
                  <a:srgbClr val="ffcc66"/>
                </a:solidFill>
                <a:latin typeface="Times New Roman"/>
              </a:rPr>
              <a:t> ROAD PAVEMENTS FORUM</a:t>
            </a:r>
            <a:br>
              <a:rPr sz="3200"/>
            </a:br>
            <a:br>
              <a:rPr sz="3200"/>
            </a:br>
            <a:br>
              <a:rPr sz="3200"/>
            </a:br>
            <a:r>
              <a:rPr b="1" i="1" lang="en-US" sz="3200" spc="-1" strike="noStrike">
                <a:solidFill>
                  <a:srgbClr val="ffcc66"/>
                </a:solidFill>
                <a:latin typeface="Times New Roman"/>
              </a:rPr>
              <a:t>CSIR International Convention Centre</a:t>
            </a:r>
            <a:br>
              <a:rPr sz="2400"/>
            </a:br>
            <a:r>
              <a:rPr b="1" i="1" lang="en-US" sz="2400" spc="-1" strike="noStrike">
                <a:solidFill>
                  <a:srgbClr val="ffcc66"/>
                </a:solidFill>
                <a:latin typeface="Times New Roman"/>
              </a:rPr>
              <a:t>20-21 November 2007</a:t>
            </a:r>
            <a:br>
              <a:rPr sz="2400"/>
            </a:br>
            <a:br>
              <a:rPr sz="2400"/>
            </a:br>
            <a:r>
              <a:rPr b="1" i="1" lang="en-US" sz="4400" spc="-1" strike="noStrike">
                <a:solidFill>
                  <a:srgbClr val="ffcc66"/>
                </a:solidFill>
                <a:latin typeface="Times New Roman"/>
              </a:rPr>
              <a:t>Final Session:</a:t>
            </a:r>
            <a:br>
              <a:rPr sz="4400"/>
            </a:br>
            <a:r>
              <a:rPr b="1" i="1" lang="en-US" sz="4400" spc="-1" strike="noStrike">
                <a:solidFill>
                  <a:srgbClr val="ffcc66"/>
                </a:solidFill>
                <a:latin typeface="Times New Roman"/>
              </a:rPr>
              <a:t>Resolutions</a:t>
            </a:r>
            <a:br>
              <a:rPr sz="2000"/>
            </a:br>
            <a:br>
              <a:rPr sz="3200"/>
            </a:br>
            <a:br>
              <a:rPr sz="3200"/>
            </a:br>
            <a:endParaRPr b="0" i="1" lang="en-US" sz="4400" spc="-1" strike="noStrike">
              <a:solidFill>
                <a:srgbClr val="ffcc66"/>
              </a:solidFill>
              <a:latin typeface="Times New Roman"/>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lution #9</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Times New Roman"/>
              </a:rPr>
              <a:t>That the sponsors of the RPF should actively pursue the establishment of a Roads Academy in line with the RISFSA document approved by Cabinet and obtain a mandate from the Department of Transport to drive the initiative</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Next RPF Meeting</a:t>
            </a:r>
            <a:endParaRPr b="0" i="1" lang="en-US" sz="44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15</a:t>
            </a:r>
            <a:r>
              <a:rPr b="1" lang="en-US" sz="3200" spc="-1" strike="noStrike" baseline="30000">
                <a:solidFill>
                  <a:srgbClr val="ffffcc"/>
                </a:solidFill>
                <a:latin typeface="Times New Roman"/>
              </a:rPr>
              <a:t>th</a:t>
            </a:r>
            <a:r>
              <a:rPr b="1" lang="en-US" sz="3200" spc="-1" strike="noStrike">
                <a:solidFill>
                  <a:srgbClr val="ffffcc"/>
                </a:solidFill>
                <a:latin typeface="Times New Roman"/>
              </a:rPr>
              <a:t> RPF</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6-7 May 2008 (Eastern Cape)</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16</a:t>
            </a:r>
            <a:r>
              <a:rPr b="1" lang="en-US" sz="3200" spc="-1" strike="noStrike" baseline="30000">
                <a:solidFill>
                  <a:srgbClr val="ffffcc"/>
                </a:solidFill>
                <a:latin typeface="Times New Roman"/>
              </a:rPr>
              <a:t>th</a:t>
            </a:r>
            <a:r>
              <a:rPr b="1" lang="en-US" sz="3200" spc="-1" strike="noStrike">
                <a:solidFill>
                  <a:srgbClr val="ffffcc"/>
                </a:solidFill>
                <a:latin typeface="Times New Roman"/>
              </a:rPr>
              <a:t> RPF</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11-12 November 2008 (Gauteng)</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lution #1</a:t>
            </a:r>
            <a:endParaRPr b="0" i="1" lang="en-US" sz="4400" spc="-1" strike="noStrike">
              <a:solidFill>
                <a:srgbClr val="ffcc66"/>
              </a:solidFill>
              <a:latin typeface="Times New Roman"/>
            </a:endParaRPr>
          </a:p>
        </p:txBody>
      </p:sp>
      <p:sp>
        <p:nvSpPr>
          <p:cNvPr id="9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t an RPF task group be established under the leadership of Dennis Rossmann to assess and refine the input parameters for seal design</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lution #2</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t an RPF task group be established under the leadership of Arthur Taute to coordinate activities relating to HMA design, quality assurance, performance and specifications in line with the recommendations of CAPSA’07</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lution #3</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t an RPF task group be established under the leadership of Prof Fred Hugo to develop draft protocols for MMLS testing to address specific test objectives and to disseminate them to industr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lution #4</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t the RPF stabilisation working group be reactivated to provide guidelines on the appropriate use of cementitious materials under the leadership of Dr Phil Paige-Gree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t a cement-specific sub-task group be established for the development of a draft guideline on the selection and use of the various cement types in road construc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lution #5</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040"/>
            <a:ext cx="7989840" cy="446724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t the working group led by Piet Myburgh further investigates the implications for  adopting the ASTM/EN standards for bituminous materials as standard test methods for South Africa, and tables a firm proposal in this regard at the next RPF</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dopted, it needs to be supported by user-friendly bench methods (training manuals) fully aligned with the ASTM/EU standar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lution #6</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t an RPF task group be established under the leadership of Elzbieta Sadzik and Rob Lindsay to discuss a new structure and a way forward for the COTO Road Materials Committe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lution #7</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t an RPF task team be established under the leadership of Trevor Distin to develop best practice technical guidelines for the use of RAP in HM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lution #8</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t an RPF working group be established  under the leadership of Benoit Verhaeghe</a:t>
            </a:r>
            <a:r>
              <a:rPr b="0" lang="en-GB" sz="3200" spc="-1" strike="noStrike">
                <a:solidFill>
                  <a:srgbClr val="ffffff"/>
                </a:solidFill>
                <a:latin typeface="Times New Roman"/>
              </a:rPr>
              <a:t> </a:t>
            </a:r>
            <a:r>
              <a:rPr b="0" lang="en-US" sz="3200" spc="-1" strike="noStrike">
                <a:solidFill>
                  <a:srgbClr val="ffffff"/>
                </a:solidFill>
                <a:latin typeface="Times New Roman"/>
              </a:rPr>
              <a:t>to develop guidelines for environmentally sustainable practices in construction and maintenance of road pavement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8T08:22:14Z</dcterms:created>
  <dc:creator>Phil Hendricks</dc:creator>
  <dc:description/>
  <dc:language>en-US</dc:language>
  <cp:lastModifiedBy>User @</cp:lastModifiedBy>
  <dcterms:modified xsi:type="dcterms:W3CDTF">2007-11-27T12:51:54Z</dcterms:modified>
  <cp:revision>84</cp:revision>
  <dc:subject/>
  <dc:title>ROADS PAVEMENT FORUM  CSIR CONFERENCE CENTRE 7/8 August 2000  Final Session    </dc:title>
</cp:coreProperties>
</file>