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E29-07F0-4327-95A2-CDD6AB4E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37A-F9FD-4F6D-B160-A13270E9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6C6-FCAA-4D97-8EB5-67E1B2B3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2DE-73BB-4B1E-A46D-CBEAF71C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B42-4DA2-46AA-A1AE-13530EF3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B49-562F-4AC3-A9DC-61C2F9BD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7DF-79FA-4F0D-BB09-000BFB91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E12-BCEF-4EBF-A920-8AFC197A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587-6454-43F1-A9E5-00D4A1BB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F2B-744D-4A18-BFBB-0D15F51C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0D7-2FB9-467D-9E36-A21A0660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ADD-1D39-4D39-B2DD-C624C840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507D-9E52-4FBC-8F23-81579B508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0066ff"/>
                </a:solidFill>
                <a:latin typeface="Arial"/>
              </a:rPr>
              <a:t>Sabita</a:t>
            </a:r>
            <a:br>
              <a:rPr sz="6000"/>
            </a:br>
            <a:r>
              <a:rPr b="0" lang="en-ZA" sz="6000" spc="-1" strike="noStrike">
                <a:solidFill>
                  <a:srgbClr val="0066ff"/>
                </a:solidFill>
                <a:latin typeface="Arial"/>
              </a:rPr>
              <a:t>Bitumen</a:t>
            </a:r>
            <a:br>
              <a:rPr sz="6000"/>
            </a:br>
            <a:r>
              <a:rPr b="0" lang="en-ZA" sz="6000" spc="-1" strike="noStrike">
                <a:solidFill>
                  <a:srgbClr val="0066ff"/>
                </a:solidFill>
                <a:latin typeface="Arial"/>
              </a:rPr>
              <a:t>Durability</a:t>
            </a:r>
            <a:br>
              <a:rPr sz="6000"/>
            </a:br>
            <a:r>
              <a:rPr b="0" lang="en-ZA" sz="6000" spc="-1" strike="noStrike">
                <a:solidFill>
                  <a:srgbClr val="0066ff"/>
                </a:solidFill>
                <a:latin typeface="Arial"/>
              </a:rPr>
              <a:t>Proje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96520" y="5395680"/>
            <a:ext cx="692316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Johan Mu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6 May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NuweUSlogo" descr=""/>
          <p:cNvPicPr/>
          <p:nvPr/>
        </p:nvPicPr>
        <p:blipFill>
          <a:blip r:embed="rId2"/>
          <a:stretch/>
        </p:blipFill>
        <p:spPr>
          <a:xfrm>
            <a:off x="0" y="5877000"/>
            <a:ext cx="853920" cy="981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090000" y="0"/>
            <a:ext cx="816120" cy="12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28924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66ff"/>
                </a:solidFill>
                <a:latin typeface="Arial"/>
              </a:rPr>
              <a:t>What do we want to achie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28680" y="2514600"/>
            <a:ext cx="321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28680" y="2514600"/>
          <a:ext cx="5649840" cy="1035000"/>
        </p:xfrm>
        <a:graphic>
          <a:graphicData uri="http://schemas.openxmlformats.org/drawingml/2006/table">
            <a:tbl>
              <a:tblPr/>
              <a:tblGrid>
                <a:gridCol w="3219480"/>
                <a:gridCol w="24303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NuweUSlogo" descr=""/>
          <p:cNvPicPr/>
          <p:nvPr/>
        </p:nvPicPr>
        <p:blipFill>
          <a:blip r:embed="rId2"/>
          <a:stretch/>
        </p:blipFill>
        <p:spPr>
          <a:xfrm>
            <a:off x="0" y="5734080"/>
            <a:ext cx="977760" cy="1123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76160" y="1844640"/>
            <a:ext cx="84204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Develop an internationally acceptable durability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Relate Laboratory ageing to the actual ageing in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ltimately predict the difference in the behaviour of the GOOD, the BAD and the UG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9240" cy="717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090000" y="0"/>
            <a:ext cx="816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66ff"/>
                </a:solidFill>
                <a:latin typeface="Arial"/>
              </a:rPr>
              <a:t>How do we want to achieve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28680" y="2514600"/>
            <a:ext cx="321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28680" y="2514600"/>
          <a:ext cx="5649840" cy="1035000"/>
        </p:xfrm>
        <a:graphic>
          <a:graphicData uri="http://schemas.openxmlformats.org/drawingml/2006/table">
            <a:tbl>
              <a:tblPr/>
              <a:tblGrid>
                <a:gridCol w="3219480"/>
                <a:gridCol w="24303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NuweUSlogo" descr=""/>
          <p:cNvPicPr/>
          <p:nvPr/>
        </p:nvPicPr>
        <p:blipFill>
          <a:blip r:embed="rId2"/>
          <a:stretch/>
        </p:blipFill>
        <p:spPr>
          <a:xfrm>
            <a:off x="0" y="5734080"/>
            <a:ext cx="977760" cy="1123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776160" y="1844640"/>
            <a:ext cx="84204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onfirm CSIR durability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Refine the protocol where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9240" cy="71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090000" y="0"/>
            <a:ext cx="816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66ff"/>
                </a:solidFill>
                <a:latin typeface="Arial"/>
              </a:rPr>
              <a:t>What are the variabl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28680" y="2514600"/>
            <a:ext cx="321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28680" y="2514600"/>
          <a:ext cx="5649840" cy="1035000"/>
        </p:xfrm>
        <a:graphic>
          <a:graphicData uri="http://schemas.openxmlformats.org/drawingml/2006/table">
            <a:tbl>
              <a:tblPr/>
              <a:tblGrid>
                <a:gridCol w="3219480"/>
                <a:gridCol w="24303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NuweUSlogo" descr=""/>
          <p:cNvPicPr/>
          <p:nvPr/>
        </p:nvPicPr>
        <p:blipFill>
          <a:blip r:embed="rId2"/>
          <a:stretch/>
        </p:blipFill>
        <p:spPr>
          <a:xfrm>
            <a:off x="0" y="5734080"/>
            <a:ext cx="977760" cy="1123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776160" y="1844640"/>
            <a:ext cx="84204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emperatures / time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igher temperature faster ag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Longer time more ag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he optimum rate of ageing yiel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he same chemistry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AME STIFFNESS WHICH RESULTS IN BITUMEN BECOMING TOO BRI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9240" cy="717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9090000" y="0"/>
            <a:ext cx="816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260280"/>
            <a:ext cx="8420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66ff"/>
                </a:solidFill>
                <a:latin typeface="Arial"/>
              </a:rPr>
              <a:t>What is involv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28680" y="2514600"/>
            <a:ext cx="321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NuweUSlogo" descr=""/>
          <p:cNvPicPr/>
          <p:nvPr/>
        </p:nvPicPr>
        <p:blipFill>
          <a:blip r:embed="rId2"/>
          <a:stretch/>
        </p:blipFill>
        <p:spPr>
          <a:xfrm>
            <a:off x="0" y="5734080"/>
            <a:ext cx="977760" cy="1123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67160" y="909720"/>
            <a:ext cx="2332080" cy="50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 / Unmod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0440" y="1415880"/>
            <a:ext cx="582480" cy="633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269960" y="1415880"/>
            <a:ext cx="582840" cy="633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4160" y="2049480"/>
            <a:ext cx="1554120" cy="758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87840" y="2301840"/>
            <a:ext cx="971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13600" y="2049480"/>
            <a:ext cx="1554120" cy="758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04120" y="2301840"/>
            <a:ext cx="11667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56320" y="2681280"/>
            <a:ext cx="582480" cy="50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38520" y="4327560"/>
            <a:ext cx="1749600" cy="758880"/>
          </a:xfrm>
          <a:prstGeom prst="flowChartPreparat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41680" y="4452840"/>
            <a:ext cx="1846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mentation of age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3760" y="4327560"/>
            <a:ext cx="1747800" cy="758880"/>
          </a:xfrm>
          <a:prstGeom prst="flowChartPreparat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76920" y="4452840"/>
            <a:ext cx="1844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ure ageing effect with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6800" y="3187800"/>
            <a:ext cx="1554480" cy="758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30480" y="3314880"/>
            <a:ext cx="13114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7440" y="3187800"/>
            <a:ext cx="1554120" cy="758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64280" y="3314880"/>
            <a:ext cx="11667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45240" y="5332320"/>
            <a:ext cx="1554120" cy="760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79800" y="5338800"/>
            <a:ext cx="1554120" cy="7603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59480" y="6224760"/>
            <a:ext cx="2093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95520" y="3821040"/>
            <a:ext cx="4469040" cy="290988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21280" y="2681280"/>
            <a:ext cx="582840" cy="50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48280" y="2808360"/>
            <a:ext cx="582480" cy="50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0760" y="2808360"/>
            <a:ext cx="582840" cy="50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8800" y="2935440"/>
            <a:ext cx="58248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65800" y="3946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94640" y="394668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44560" y="2808360"/>
            <a:ext cx="2040120" cy="2784240"/>
          </a:xfrm>
          <a:custGeom>
            <a:avLst/>
            <a:gdLst>
              <a:gd name="textAreaLeft" fmla="*/ 0 w 2040120"/>
              <a:gd name="textAreaRight" fmla="*/ 2040480 w 2040120"/>
              <a:gd name="textAreaTop" fmla="*/ 0 h 2784240"/>
              <a:gd name="textAreaBottom" fmla="*/ 2784600 h 278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183" stAng="10800000" swAng="5400000"/>
                <a:lnTo>
                  <a:pt x="16266" y="2977"/>
                </a:lnTo>
                <a:lnTo>
                  <a:pt x="16266" y="0"/>
                </a:lnTo>
                <a:lnTo>
                  <a:pt x="21600" y="6079"/>
                </a:lnTo>
                <a:lnTo>
                  <a:pt x="16266" y="12158"/>
                </a:lnTo>
                <a:lnTo>
                  <a:pt x="16266" y="9181"/>
                </a:lnTo>
                <a:lnTo>
                  <a:pt x="12427" y="9181"/>
                </a:lnTo>
                <a:arcTo wR="6223" hR="2979" stAng="16200000" swAng="-5400000"/>
                <a:lnTo>
                  <a:pt x="6204" y="216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1751760" y="4339080"/>
            <a:ext cx="2025720" cy="3011400"/>
          </a:xfrm>
          <a:custGeom>
            <a:avLst/>
            <a:gdLst>
              <a:gd name="textAreaLeft" fmla="*/ 0 w 2025720"/>
              <a:gd name="textAreaRight" fmla="*/ 2026080 w 2025720"/>
              <a:gd name="textAreaTop" fmla="*/ 0 h 3011400"/>
              <a:gd name="textAreaBottom" fmla="*/ 3011760 h 3011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840" stAng="10800000" swAng="5400000"/>
                <a:lnTo>
                  <a:pt x="12429" y="3320"/>
                </a:lnTo>
                <a:lnTo>
                  <a:pt x="12429" y="0"/>
                </a:lnTo>
                <a:lnTo>
                  <a:pt x="21600" y="6079"/>
                </a:lnTo>
                <a:lnTo>
                  <a:pt x="12429" y="12158"/>
                </a:lnTo>
                <a:lnTo>
                  <a:pt x="12429" y="8838"/>
                </a:lnTo>
                <a:lnTo>
                  <a:pt x="12427" y="8838"/>
                </a:lnTo>
                <a:arcTo wR="6909" hR="3322" stAng="16200000" swAng="-5400000"/>
                <a:lnTo>
                  <a:pt x="5518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7400" y="6351480"/>
            <a:ext cx="18460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2640" y="5086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59480" y="5086440"/>
            <a:ext cx="968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6320" y="5086440"/>
            <a:ext cx="116496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03760" y="5086440"/>
            <a:ext cx="9828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8800" y="5086440"/>
            <a:ext cx="126360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24440" y="5592600"/>
            <a:ext cx="1360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-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0320" y="5592600"/>
            <a:ext cx="971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9240" cy="717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9090000" y="0"/>
            <a:ext cx="816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260280"/>
            <a:ext cx="8420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66ff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5800" y="980640"/>
            <a:ext cx="8564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RSA vs. USA and the rest of the gl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SUPERP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Sprayed Seals vs. H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Penetration vs. Performance gra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Ageing vs. Du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RTFOT vs. PAV vs. RCAT vs. RTFOT </a:t>
            </a:r>
            <a:r>
              <a:rPr b="0" lang="en-ZA" sz="3200" spc="-1" strike="noStrike" baseline="30000">
                <a:solidFill>
                  <a:srgbClr val="0066ff"/>
                </a:solidFill>
                <a:latin typeface="Arial"/>
              </a:rPr>
              <a:t>(exten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Lab vs. Field (tria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28680" y="2514600"/>
            <a:ext cx="321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uweUSlogo" descr=""/>
          <p:cNvPicPr/>
          <p:nvPr/>
        </p:nvPicPr>
        <p:blipFill>
          <a:blip r:embed="rId2"/>
          <a:stretch/>
        </p:blipFill>
        <p:spPr>
          <a:xfrm>
            <a:off x="0" y="5734080"/>
            <a:ext cx="97776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2128680" y="2514600"/>
          <a:ext cx="5649840" cy="1035000"/>
        </p:xfrm>
        <a:graphic>
          <a:graphicData uri="http://schemas.openxmlformats.org/drawingml/2006/table">
            <a:tbl>
              <a:tblPr/>
              <a:tblGrid>
                <a:gridCol w="3219480"/>
                <a:gridCol w="24303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9240" cy="717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9090000" y="0"/>
            <a:ext cx="816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260280"/>
            <a:ext cx="8420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66ff"/>
                </a:solidFill>
                <a:latin typeface="Arial"/>
              </a:rPr>
              <a:t>Ageing vs. Du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5800" y="980640"/>
            <a:ext cx="8564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8680" y="2514600"/>
            <a:ext cx="321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uweUSlogo" descr=""/>
          <p:cNvPicPr/>
          <p:nvPr/>
        </p:nvPicPr>
        <p:blipFill>
          <a:blip r:embed="rId2"/>
          <a:stretch/>
        </p:blipFill>
        <p:spPr>
          <a:xfrm>
            <a:off x="0" y="5734080"/>
            <a:ext cx="97776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2128680" y="2514600"/>
          <a:ext cx="5649840" cy="1035000"/>
        </p:xfrm>
        <a:graphic>
          <a:graphicData uri="http://schemas.openxmlformats.org/drawingml/2006/table">
            <a:tbl>
              <a:tblPr/>
              <a:tblGrid>
                <a:gridCol w="3219480"/>
                <a:gridCol w="24303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20880" y="907920"/>
            <a:ext cx="8064360" cy="534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289240" cy="717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9090000" y="0"/>
            <a:ext cx="816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6160" y="620640"/>
            <a:ext cx="8420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66ff"/>
                </a:solidFill>
                <a:latin typeface="Arial"/>
              </a:rPr>
              <a:t>Who is involved - Internal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5800" y="1557360"/>
            <a:ext cx="85647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Sabita funded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Trevor Di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Univ. Stellenbosch 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Prof Kim Jenk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Tosas (research leader) 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Johan Mu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Tosas (project executor) 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Tertius Jou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STFR (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Jacques van Hee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STFR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Gerhard Harm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Natref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allows us to utilise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CSIR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Esbe van Ass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CSIR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66ff"/>
                </a:solidFill>
                <a:latin typeface="Arial"/>
              </a:rPr>
              <a:t>Benoit Verhaeghe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28680" y="2514600"/>
            <a:ext cx="321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uweUSlogo" descr=""/>
          <p:cNvPicPr/>
          <p:nvPr/>
        </p:nvPicPr>
        <p:blipFill>
          <a:blip r:embed="rId2"/>
          <a:stretch/>
        </p:blipFill>
        <p:spPr>
          <a:xfrm>
            <a:off x="0" y="5734080"/>
            <a:ext cx="97776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2128680" y="2514600"/>
          <a:ext cx="5649840" cy="1035000"/>
        </p:xfrm>
        <a:graphic>
          <a:graphicData uri="http://schemas.openxmlformats.org/drawingml/2006/table">
            <a:tbl>
              <a:tblPr/>
              <a:tblGrid>
                <a:gridCol w="3219480"/>
                <a:gridCol w="24303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9240" cy="717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9090000" y="0"/>
            <a:ext cx="816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75800" y="1844640"/>
            <a:ext cx="85647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RSA vs. USA vs. Europe vs.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USA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Prof Hussain Bahia Univ. Wiscon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Europe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Prof Martin van de Ven TU Del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ARRB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John Oliver / Peter Tred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AAPA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Walter Holcroft / Rob V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28680" y="2514600"/>
            <a:ext cx="321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NuweUSlogo" descr=""/>
          <p:cNvPicPr/>
          <p:nvPr/>
        </p:nvPicPr>
        <p:blipFill>
          <a:blip r:embed="rId2"/>
          <a:stretch/>
        </p:blipFill>
        <p:spPr>
          <a:xfrm>
            <a:off x="0" y="5734080"/>
            <a:ext cx="97776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128680" y="2514600"/>
          <a:ext cx="5650200" cy="1547640"/>
        </p:xfrm>
        <a:graphic>
          <a:graphicData uri="http://schemas.openxmlformats.org/drawingml/2006/table">
            <a:tbl>
              <a:tblPr/>
              <a:tblGrid>
                <a:gridCol w="3219480"/>
                <a:gridCol w="243072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9240" cy="717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9090000" y="0"/>
            <a:ext cx="816120" cy="1224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776160" y="692280"/>
            <a:ext cx="8420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66ff"/>
                </a:solidFill>
                <a:latin typeface="Arial"/>
              </a:rPr>
              <a:t>Who is involved - External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28680" y="2514600"/>
            <a:ext cx="321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128680" y="2514600"/>
          <a:ext cx="5649840" cy="1035000"/>
        </p:xfrm>
        <a:graphic>
          <a:graphicData uri="http://schemas.openxmlformats.org/drawingml/2006/table">
            <a:tbl>
              <a:tblPr/>
              <a:tblGrid>
                <a:gridCol w="3219480"/>
                <a:gridCol w="24303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66840" y="549360"/>
          <a:ext cx="9539280" cy="597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49360"/>
                    <a:ext cx="953928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0"/>
          <a:ext cx="5794200" cy="408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9420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128680" y="2514600"/>
            <a:ext cx="321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128680" y="2514600"/>
          <a:ext cx="5649840" cy="1035000"/>
        </p:xfrm>
        <a:graphic>
          <a:graphicData uri="http://schemas.openxmlformats.org/drawingml/2006/table">
            <a:tbl>
              <a:tblPr/>
              <a:tblGrid>
                <a:gridCol w="3219480"/>
                <a:gridCol w="24303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92600" y="3182760"/>
          <a:ext cx="5213520" cy="3675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2600" y="3182760"/>
                    <a:ext cx="521352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260280"/>
            <a:ext cx="8420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66ff"/>
                </a:solidFill>
                <a:latin typeface="Arial"/>
              </a:rPr>
              <a:t>What is involv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75800" y="980640"/>
            <a:ext cx="8564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RTFOT, RTFOT, RTFOT 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66ff"/>
                </a:solidFill>
                <a:latin typeface="Arial"/>
              </a:rPr>
              <a:t>Natref, Tosas ST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Penetration, R&amp;B, Viscosity </a:t>
            </a:r>
            <a:r>
              <a:rPr b="0" lang="en-ZA" sz="2000" spc="-1" strike="noStrike">
                <a:solidFill>
                  <a:srgbClr val="0066ff"/>
                </a:solidFill>
                <a:latin typeface="Arial"/>
              </a:rPr>
              <a:t>Nat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PAV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66ff"/>
                </a:solidFill>
                <a:latin typeface="Arial"/>
              </a:rPr>
              <a:t>ST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RCAT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66ff"/>
                </a:solidFill>
                <a:latin typeface="Arial"/>
              </a:rPr>
              <a:t>TU DELF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DSR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66ff"/>
                </a:solidFill>
                <a:latin typeface="Arial"/>
              </a:rPr>
              <a:t>STFR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Bending Beam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66ff"/>
                </a:solidFill>
                <a:latin typeface="Arial"/>
              </a:rPr>
              <a:t>ST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FTIR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66ff"/>
                </a:solidFill>
                <a:latin typeface="Arial"/>
              </a:rPr>
              <a:t>Saste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SARA (</a:t>
            </a:r>
            <a:r>
              <a:rPr b="0" lang="en-ZA" sz="2000" spc="-1" strike="noStrike">
                <a:solidFill>
                  <a:srgbClr val="0066ff"/>
                </a:solidFill>
                <a:latin typeface="Arial"/>
              </a:rPr>
              <a:t>HPLC at CSIR or IATROSCAN at Natref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28680" y="2514600"/>
            <a:ext cx="321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NuweUSlogo" descr=""/>
          <p:cNvPicPr/>
          <p:nvPr/>
        </p:nvPicPr>
        <p:blipFill>
          <a:blip r:embed="rId2"/>
          <a:stretch/>
        </p:blipFill>
        <p:spPr>
          <a:xfrm>
            <a:off x="0" y="5734080"/>
            <a:ext cx="97776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2128680" y="2514600"/>
          <a:ext cx="5649840" cy="1035000"/>
        </p:xfrm>
        <a:graphic>
          <a:graphicData uri="http://schemas.openxmlformats.org/drawingml/2006/table">
            <a:tbl>
              <a:tblPr/>
              <a:tblGrid>
                <a:gridCol w="3219480"/>
                <a:gridCol w="24303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9240" cy="717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9090000" y="0"/>
            <a:ext cx="816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66ff"/>
                </a:solidFill>
                <a:latin typeface="Arial"/>
              </a:rPr>
              <a:t>What is involv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8680" y="2514600"/>
            <a:ext cx="321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128680" y="2514600"/>
          <a:ext cx="5649840" cy="1035000"/>
        </p:xfrm>
        <a:graphic>
          <a:graphicData uri="http://schemas.openxmlformats.org/drawingml/2006/table">
            <a:tbl>
              <a:tblPr/>
              <a:tblGrid>
                <a:gridCol w="3219480"/>
                <a:gridCol w="24303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60360" y="458640"/>
          <a:ext cx="8193240" cy="549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0360" y="458640"/>
                    <a:ext cx="8193240" cy="54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136520" y="5805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ourtesy of ARRB (John Oliv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NuweUSlogo" descr=""/>
          <p:cNvPicPr/>
          <p:nvPr/>
        </p:nvPicPr>
        <p:blipFill>
          <a:blip r:embed="rId4"/>
          <a:stretch/>
        </p:blipFill>
        <p:spPr>
          <a:xfrm>
            <a:off x="0" y="5734080"/>
            <a:ext cx="977760" cy="1123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289240" cy="717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9090000" y="0"/>
            <a:ext cx="816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1:07:58Z</dcterms:created>
  <dc:creator>Route 7`</dc:creator>
  <dc:description/>
  <dc:language>en-US</dc:language>
  <cp:lastModifiedBy>Johan Muller</cp:lastModifiedBy>
  <dcterms:modified xsi:type="dcterms:W3CDTF">2008-05-07T05:06:08Z</dcterms:modified>
  <cp:revision>16</cp:revision>
  <dc:subject/>
  <dc:title>PowerPoint Presentation</dc:title>
</cp:coreProperties>
</file>