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DC235-C102-469C-808F-DCC17E1C4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C385F-B1BF-4473-BF08-F114E64BE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EC8A1-9664-426F-B245-1DB405A2E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94913-C8DB-479B-B75A-929FD8FA3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12C35-F53E-4B16-B066-33B91CCFC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2901A-DBC0-46E3-8127-98FFBC2CD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26F9C-F739-4F77-8518-F6D7AEBB3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D28BC-F019-490E-A581-5C0BC9F5B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055F7-2734-4CD8-9D7E-4B3A18EEA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ED1AB-46AF-49B5-B225-E303CA769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69F3D-C4D0-4022-8289-C6FC81028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50C68-0A0D-474F-9225-888FD9F69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47A84-2483-41B4-B974-DBF777F35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F6D9C-B009-4FCF-A0EE-C2506C715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EF4E5-CC89-4515-9A2D-5A6C8D4AA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C0890-87BD-4CA5-AA52-757A2AE50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32E82-22E9-43AC-AAB7-9515B40C9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22637-4E33-468C-A87F-EA0EE516A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300D7-DF28-42A3-B3A4-9EE4D71AD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F6C4A-FEBF-47B2-B204-A661E62D0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4007D-0F2D-405E-8E2E-AEAAF9F8A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7A35A-80AB-46C4-B734-3DCD6AF13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8FBB-4DB9-4BE2-A5CC-A7109200C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53A0-B904-4EEB-A5E3-30A8253E4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DCD1-F26D-4E14-B9ED-A1A118EC023D}"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AAA8-7349-4C28-A320-09BA18E2CE96}"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990360"/>
            <a:ext cx="8134200" cy="5562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15</a:t>
            </a:r>
            <a:r>
              <a:rPr b="1" i="1" lang="en-US" sz="3200" spc="-1" strike="noStrike" baseline="30000">
                <a:solidFill>
                  <a:srgbClr val="ffcc66"/>
                </a:solidFill>
                <a:latin typeface="Times New Roman"/>
              </a:rPr>
              <a:t>th</a:t>
            </a:r>
            <a:r>
              <a:rPr b="1" i="1" lang="en-US" sz="3200" spc="-1" strike="noStrike">
                <a:solidFill>
                  <a:srgbClr val="ffcc66"/>
                </a:solidFill>
                <a:latin typeface="Times New Roman"/>
              </a:rPr>
              <a:t> ROAD PAVEMENTS FORUM</a:t>
            </a:r>
            <a:br>
              <a:rPr sz="3200"/>
            </a:br>
            <a:br>
              <a:rPr sz="3200"/>
            </a:br>
            <a:br>
              <a:rPr sz="3200"/>
            </a:br>
            <a:r>
              <a:rPr b="1" i="1" lang="en-US" sz="3200" spc="-1" strike="noStrike">
                <a:solidFill>
                  <a:srgbClr val="ffcc66"/>
                </a:solidFill>
                <a:latin typeface="Times New Roman"/>
              </a:rPr>
              <a:t>Mpekweni Beach Resort</a:t>
            </a:r>
            <a:br>
              <a:rPr sz="2400"/>
            </a:br>
            <a:r>
              <a:rPr b="1" i="1" lang="en-US" sz="2400" spc="-1" strike="noStrike">
                <a:solidFill>
                  <a:srgbClr val="ffcc66"/>
                </a:solidFill>
                <a:latin typeface="Times New Roman"/>
              </a:rPr>
              <a:t>6-7 May 2008</a:t>
            </a:r>
            <a:br>
              <a:rPr sz="2400"/>
            </a:br>
            <a:br>
              <a:rPr sz="2400"/>
            </a:br>
            <a:r>
              <a:rPr b="1" i="1" lang="en-US" sz="4400" spc="-1" strike="noStrike">
                <a:solidFill>
                  <a:srgbClr val="ffcc66"/>
                </a:solidFill>
                <a:latin typeface="Times New Roman"/>
              </a:rPr>
              <a:t>Final Session:</a:t>
            </a:r>
            <a:br>
              <a:rPr sz="4400"/>
            </a:br>
            <a:r>
              <a:rPr b="1" i="1" lang="en-US" sz="4400" spc="-1" strike="noStrike">
                <a:solidFill>
                  <a:srgbClr val="ffcc66"/>
                </a:solidFill>
                <a:latin typeface="Times New Roman"/>
              </a:rPr>
              <a:t>Resolutions</a:t>
            </a:r>
            <a:br>
              <a:rPr sz="2000"/>
            </a:br>
            <a:br>
              <a:rPr sz="3200"/>
            </a:br>
            <a:br>
              <a:rPr sz="3200"/>
            </a:br>
            <a:endParaRPr b="0" i="1" lang="en-US" sz="4400" spc="-1" strike="noStrike">
              <a:solidFill>
                <a:srgbClr val="ffcc66"/>
              </a:solidFill>
              <a:latin typeface="Times New Roman"/>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1</a:t>
            </a:r>
            <a:endParaRPr b="0" i="1" lang="en-US" sz="4400" spc="-1" strike="noStrike">
              <a:solidFill>
                <a:srgbClr val="ffcc66"/>
              </a:solidFill>
              <a:latin typeface="Times New Roman"/>
            </a:endParaRPr>
          </a:p>
        </p:txBody>
      </p:sp>
      <p:sp>
        <p:nvSpPr>
          <p:cNvPr id="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Times New Roman"/>
              </a:rPr>
              <a:t>That the sponsors of the RPF should continue to pursue the establishment of a Roads Engineering Coordinating Body (RECOB) in support of the Roads Coordinating Body (RCB) and RISFS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2</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a status report on the current condition of the road network be presented at the next meeting of the RPF by the RCB (to be championed by Ian McDonal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3</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54032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at the ‘</a:t>
            </a:r>
            <a:r>
              <a:rPr b="0" lang="en-US" sz="2800" spc="-1" strike="noStrike">
                <a:solidFill>
                  <a:srgbClr val="ffffff"/>
                </a:solidFill>
                <a:latin typeface="Times New Roman"/>
              </a:rPr>
              <a:t>ASTM/CEN standards for bituminous materials’</a:t>
            </a:r>
            <a:r>
              <a:rPr b="0" lang="en-GB" sz="2800" spc="-1" strike="noStrike">
                <a:solidFill>
                  <a:srgbClr val="ffffff"/>
                </a:solidFill>
                <a:latin typeface="Times New Roman"/>
              </a:rPr>
              <a:t> working group establishes </a:t>
            </a:r>
            <a:r>
              <a:rPr b="0" i="1" lang="en-GB" sz="2800" spc="-1" strike="noStrike">
                <a:solidFill>
                  <a:srgbClr val="ffff00"/>
                </a:solidFill>
                <a:latin typeface="Times New Roman"/>
              </a:rPr>
              <a:t>essential</a:t>
            </a:r>
            <a:r>
              <a:rPr b="0" lang="en-GB" sz="2800" spc="-1" strike="noStrike">
                <a:solidFill>
                  <a:srgbClr val="ffffff"/>
                </a:solidFill>
                <a:latin typeface="Times New Roman"/>
              </a:rPr>
              <a:t> revisions to the current draft 3001 AS methods for asphalt through:</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nalysis and evaluation of the current methods proposed in SANS vis-à-vis ASTM &amp; EN standard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dentification of amendments to current draft SANS methods in consultation with a panel of experts</a:t>
            </a:r>
            <a:endParaRPr b="0" lang="en-US" sz="2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at the agreed proposals be submitted to Dave Wright for further action as per the established protocol (RMC – SABS)</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4</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PF to support the self regulation initiatives of the bituminous, readymix concrete and aggregate materials industries in HSEQ</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5</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PF resolves to create and mandate an education and training task group in order to communicate the industry needs to the various industry training bodies, and actively co-ordinate and participate on these various bodies in order to achieve a set of qualifications that are in line with the needs of the country. This will be achieved by actively engaging as industry with ECSA, CETA, SAQA and others at their committee level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lution #6</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PF Accreditation Task group are to actively engage with SANAS in order to assist them in creating the necessary accreditation systems in order that the requirements of ISO 17025 are achie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Next RPF Meeting</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16</a:t>
            </a:r>
            <a:r>
              <a:rPr b="1" lang="en-US" sz="3200" spc="-1" strike="noStrike" baseline="30000">
                <a:solidFill>
                  <a:srgbClr val="ffffcc"/>
                </a:solidFill>
                <a:latin typeface="Times New Roman"/>
              </a:rPr>
              <a:t>th</a:t>
            </a:r>
            <a:r>
              <a:rPr b="1" lang="en-US" sz="3200" spc="-1" strike="noStrike">
                <a:solidFill>
                  <a:srgbClr val="ffffcc"/>
                </a:solidFill>
                <a:latin typeface="Times New Roman"/>
              </a:rPr>
              <a:t> RPF</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11-12 November 2008 </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CSIR Conference Centre, Gauteng)</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8T08:22:14Z</dcterms:created>
  <dc:creator>Phil Hendricks</dc:creator>
  <dc:description/>
  <dc:language>en-US</dc:language>
  <cp:lastModifiedBy>Verhaeghe</cp:lastModifiedBy>
  <dcterms:modified xsi:type="dcterms:W3CDTF">2008-05-13T06:29:21Z</dcterms:modified>
  <cp:revision>90</cp:revision>
  <dc:subject/>
  <dc:title>ROADS PAVEMENT FORUM  CSIR CONFERENCE CENTRE 7/8 August 2000  Final Session    </dc:title>
</cp:coreProperties>
</file>