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20DC-8621-4280-B4BF-0C327B1A8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D344-B886-41EA-9CB0-60D3D726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1C09-1B99-4FA8-8DEC-426589F96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B29A-CC34-4027-A409-EBFBABC8A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BB58-7205-4124-977D-C57FDA3F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A204-29FD-408C-955B-60EF3307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D8D7-9F12-4EDC-A505-136D9282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4D1D-D081-4A6A-81A7-29C977E2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F9F5-70F3-44DB-9E43-5D5DFAA4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72B6-8161-4BC9-A93B-9B54C11D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1475-15C6-46BF-93EC-4A7CC5E1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A173-663E-4201-9633-28871EF8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MVC-097S" descr=""/>
          <p:cNvPicPr/>
          <p:nvPr/>
        </p:nvPicPr>
        <p:blipFill>
          <a:blip r:embed="rId2">
            <a:lum bright="-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4F8F-8727-4B29-B108-B96D2CD49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vkelogo" descr=""/>
          <p:cNvPicPr/>
          <p:nvPr/>
        </p:nvPicPr>
        <p:blipFill>
          <a:blip r:embed="rId3"/>
          <a:stretch/>
        </p:blipFill>
        <p:spPr>
          <a:xfrm>
            <a:off x="7467480" y="6248520"/>
            <a:ext cx="97164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ROAD DOCUMENTATION MANAGEMENT IN SA</a:t>
            </a: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SOME VIEWPOINTS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NEEDS/SOLUTIONS</a:t>
            </a: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Need a Client Body to Manage Specs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OTO/DOT/??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Need an Industry Body to Manage Manuals &amp; Guidelines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RPF /AsAc/ C &amp; CI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Need funding for Research &amp; Documentation 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DOT/Industry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HISTORY</a:t>
            </a: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Road &amp; Bridgework Specifications: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60’s – 70’s  Provinces and NTC developed and Implemented Specs based on best practice &amp; overseas example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Mid 80’s CSRA produced single combined Spec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90’s CSRA spec replaced by COLTO spec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SABS 1200 series also developed in parallel and Updated Using SAICE &amp; Industry Committee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Some Local Authorities developed own specs based on SABS 1200 &amp; Provincial/CSRA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HISTORY</a:t>
            </a: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Other Specifications: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arious related Specs for Materials and Components used in Roads (primarily SABS)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Industry Bodies (BMLC) assisted Statutory bodies such as SABS to produce Specs ( Eg Bit Spec)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ommon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All standard specs have a Govt. body or Standards Authority as their “Owner”/Sponsor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HISTORY</a:t>
            </a: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Manuals/ Guidelines: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50’s – 90’s  Provinces and NTC developed and Implemented Guideline Docs  &amp; Codes of Procedure based on best practice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70’s – 90’s CSRA/CSIR  produced &amp; maintained many other generic guideline/manual docs such as TRH and TMH series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80’s – 90’s Industry Bodies such as Sabita &amp; C&amp;CI Produced Guidelines and Manuals for their member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DOCUMENT TYPES &amp; USES</a:t>
            </a: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Specifications – Client Requirements to be met during construction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Guidelines/Recommendations – Assist Practitioners to implement best practice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Manuals – Assist Practitioners in understanding of how to do things and why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odes and Methods – Tell Practitioners  how things shall be done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INTERESTS</a:t>
            </a: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General Specifications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lient – Ensure Functionality &amp; Uniformity and Minimize Risk &amp; Costs (Const &amp; Maint)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onsultant – Should be Applicable &amp; Measurable (Quality &amp; Quantity)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ontractor – Must be Constructable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Supplier – Must be Producable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INTERESTS</a:t>
            </a: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Manuals/Guidelines/Codes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Ensure Best Practice is Achieved by All and hence ensure Industry Viability/Efficiency/Effectiveness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UPDATING RESPONSIBILITIES </a:t>
            </a:r>
            <a:endParaRPr b="1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National Client Body/ Organ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nsure Uniformity of approach iro new issues/ materials/ practices/ criteria/ limit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Local Client Body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nsure its Unique Needs are met without re-inventing any wheel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Industry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nsure that Deficiencies iro current docs and new practices/materials are addressed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CURRENT PROBLEMS</a:t>
            </a: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Finding a Owner/Sponsor for: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Standard Specs &amp; amendments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TRH &amp; TMH Series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Sabita Series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SABS 1200 amendments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Other Guidelines  (HMA)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04:13:03Z</dcterms:created>
  <dc:creator>Arthur Taute</dc:creator>
  <dc:description/>
  <dc:language>en-US</dc:language>
  <cp:lastModifiedBy>User @</cp:lastModifiedBy>
  <dcterms:modified xsi:type="dcterms:W3CDTF">2002-05-07T10:10:00Z</dcterms:modified>
  <cp:revision>12</cp:revision>
  <dc:subject/>
  <dc:title>ROAD MANAGEMENT SYSTEMS</dc:title>
</cp:coreProperties>
</file>