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8" descr="PowerpointTemp2 1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5d9ed"/>
                </a:solidFill>
                <a:latin typeface="Arial"/>
              </a:rPr>
              <a:t>TOWARDS  NEW BITUMEN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RPF – 8/9 MA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Dennis Ross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2"/>
          <a:stretch/>
        </p:blipFill>
        <p:spPr>
          <a:xfrm>
            <a:off x="6200640" y="5651640"/>
            <a:ext cx="99072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Changes in Penetration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 ISO 4259 – Determination and application of precision data in relation to methods of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roducibility published by EN 1427 much better than that published by A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us EN norm being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6" descr="PowerpointTemp2 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Penetration Requirement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c5d9ed"/>
                          </a:solidFill>
                          <a:latin typeface="Arial"/>
                        </a:rPr>
                        <a:t>SANS 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5d9ed"/>
                      </a:solidFill>
                    </a:lnL>
                    <a:lnR w="5760">
                      <a:solidFill>
                        <a:srgbClr val="c5d9ed"/>
                      </a:solidFill>
                    </a:lnR>
                    <a:lnT w="5760">
                      <a:solidFill>
                        <a:srgbClr val="c5d9ed"/>
                      </a:solidFill>
                    </a:lnT>
                    <a:lnB w="18720">
                      <a:solidFill>
                        <a:srgbClr val="c5d9ed"/>
                      </a:solidFill>
                    </a:lnB>
                    <a:solidFill>
                      <a:srgbClr val="f3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c5d9ed"/>
                          </a:solidFill>
                          <a:latin typeface="Arial"/>
                        </a:rPr>
                        <a:t>SANS 4001 B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5d9ed"/>
                      </a:solidFill>
                    </a:lnL>
                    <a:lnR w="5760">
                      <a:solidFill>
                        <a:srgbClr val="c5d9ed"/>
                      </a:solidFill>
                    </a:lnR>
                    <a:lnT w="5760">
                      <a:solidFill>
                        <a:srgbClr val="c5d9ed"/>
                      </a:solidFill>
                    </a:lnT>
                    <a:lnB w="18720">
                      <a:solidFill>
                        <a:srgbClr val="c5d9ed"/>
                      </a:solidFill>
                    </a:lnB>
                    <a:solidFill>
                      <a:srgbClr val="f3f6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-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5d9ed"/>
                      </a:solidFill>
                    </a:lnL>
                    <a:lnR w="5760">
                      <a:solidFill>
                        <a:srgbClr val="c5d9ed"/>
                      </a:solidFill>
                    </a:lnR>
                    <a:lnT w="18720">
                      <a:solidFill>
                        <a:srgbClr val="c5d9ed"/>
                      </a:solidFill>
                    </a:lnT>
                    <a:lnB w="5760">
                      <a:solidFill>
                        <a:srgbClr val="c5d9ed"/>
                      </a:solidFill>
                    </a:lnB>
                    <a:solidFill>
                      <a:srgbClr val="faf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-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5d9ed"/>
                      </a:solidFill>
                    </a:lnL>
                    <a:lnR w="5760">
                      <a:solidFill>
                        <a:srgbClr val="c5d9ed"/>
                      </a:solidFill>
                    </a:lnR>
                    <a:lnT w="18720">
                      <a:solidFill>
                        <a:srgbClr val="c5d9ed"/>
                      </a:solidFill>
                    </a:lnT>
                    <a:lnB w="5760">
                      <a:solidFill>
                        <a:srgbClr val="c5d9ed"/>
                      </a:solidFill>
                    </a:lnB>
                    <a:solidFill>
                      <a:srgbClr val="fafb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- 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5d9ed"/>
                      </a:solidFill>
                    </a:lnL>
                    <a:lnR w="5760">
                      <a:solidFill>
                        <a:srgbClr val="c5d9ed"/>
                      </a:solidFill>
                    </a:lnR>
                    <a:lnT w="5760">
                      <a:solidFill>
                        <a:srgbClr val="c5d9ed"/>
                      </a:solidFill>
                    </a:lnT>
                    <a:lnB w="5760">
                      <a:solidFill>
                        <a:srgbClr val="c5d9ed"/>
                      </a:solidFill>
                    </a:lnB>
                    <a:solidFill>
                      <a:srgbClr val="fdf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- 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5d9ed"/>
                      </a:solidFill>
                    </a:lnL>
                    <a:lnR w="5760">
                      <a:solidFill>
                        <a:srgbClr val="c5d9ed"/>
                      </a:solidFill>
                    </a:lnR>
                    <a:lnT w="5760">
                      <a:solidFill>
                        <a:srgbClr val="c5d9ed"/>
                      </a:solidFill>
                    </a:lnT>
                    <a:lnB w="5760">
                      <a:solidFill>
                        <a:srgbClr val="c5d9ed"/>
                      </a:solidFill>
                    </a:lnB>
                    <a:solidFill>
                      <a:srgbClr val="fdfd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-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5d9ed"/>
                      </a:solidFill>
                    </a:lnL>
                    <a:lnR w="5760">
                      <a:solidFill>
                        <a:srgbClr val="c5d9ed"/>
                      </a:solidFill>
                    </a:lnR>
                    <a:lnT w="5760">
                      <a:solidFill>
                        <a:srgbClr val="c5d9ed"/>
                      </a:solidFill>
                    </a:lnT>
                    <a:lnB w="5760">
                      <a:solidFill>
                        <a:srgbClr val="c5d9ed"/>
                      </a:solidFill>
                    </a:lnB>
                    <a:solidFill>
                      <a:srgbClr val="faf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-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5d9ed"/>
                      </a:solidFill>
                    </a:lnL>
                    <a:lnR w="5760">
                      <a:solidFill>
                        <a:srgbClr val="c5d9ed"/>
                      </a:solidFill>
                    </a:lnR>
                    <a:lnT w="5760">
                      <a:solidFill>
                        <a:srgbClr val="c5d9ed"/>
                      </a:solidFill>
                    </a:lnT>
                    <a:lnB w="5760">
                      <a:solidFill>
                        <a:srgbClr val="c5d9ed"/>
                      </a:solidFill>
                    </a:lnB>
                    <a:solidFill>
                      <a:srgbClr val="fafb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-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5d9ed"/>
                      </a:solidFill>
                    </a:lnL>
                    <a:lnR w="5760">
                      <a:solidFill>
                        <a:srgbClr val="c5d9ed"/>
                      </a:solidFill>
                    </a:lnR>
                    <a:lnT w="5760">
                      <a:solidFill>
                        <a:srgbClr val="c5d9ed"/>
                      </a:solidFill>
                    </a:lnT>
                    <a:lnB w="5760">
                      <a:solidFill>
                        <a:srgbClr val="c5d9ed"/>
                      </a:solidFill>
                    </a:lnB>
                    <a:solidFill>
                      <a:srgbClr val="fdf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-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5d9ed"/>
                      </a:solidFill>
                    </a:lnL>
                    <a:lnR w="5760">
                      <a:solidFill>
                        <a:srgbClr val="c5d9ed"/>
                      </a:solidFill>
                    </a:lnR>
                    <a:lnT w="5760">
                      <a:solidFill>
                        <a:srgbClr val="c5d9ed"/>
                      </a:solidFill>
                    </a:lnT>
                    <a:lnB w="5760">
                      <a:solidFill>
                        <a:srgbClr val="c5d9ed"/>
                      </a:solidFill>
                    </a:lnB>
                    <a:solidFill>
                      <a:srgbClr val="fdfd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Viscosit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cosity @ 60°c  - removal of upper limit (submitted but not yet publis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Viscosit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cosity @ 60°c  - removal of upper li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cosity @ 135°c - un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Viscosit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cosity @ 60°c  - removal of upper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cosity @ 135°c – un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of Dynamic Viscosity (Brookfield) to broaden field testing. Kinematic viscosity remains “Mandatory”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Bitumen Durabilit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Durability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TFOT – indication of short term ageing  (manufacture/application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term age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Bitumen Dur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projects under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ed RTF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blem with modified binder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s for HMA/surface se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of Europe RCAT method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6" descr="PowerpointTemp2 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Durability Predi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o next Dr Spo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Durabilit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NRAL has decided to follow the PAV route (after RTFOT conditi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New - Improved ”Midnight”?? </a:t>
            </a:r>
            <a:br>
              <a:rPr sz="4400"/>
            </a:b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(circa 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2"/>
          <a:stretch/>
        </p:blipFill>
        <p:spPr>
          <a:xfrm>
            <a:off x="587520" y="1512720"/>
            <a:ext cx="734832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Performance Grade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Performance Grade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spec has no link to “performance”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Performance Grade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spec has no link to “performance”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order to link with SAPDM – we have to go the DSR rout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NRAL has made the decision to follow this route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Performance Grade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spec has no link to “performance”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order to link with SAPDM – we have to go the DSR rout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Bitumen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 of having interim “dual” specs: i.e “industrial grade bitumen” and “performance grade” currently being consi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Cost of new testing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afford NOT to invest in more accurate performance prediction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6" descr="PowerpointTemp2 5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we taking the right ro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2"/>
          <a:stretch/>
        </p:blipFill>
        <p:spPr>
          <a:xfrm>
            <a:off x="2727360" y="2743200"/>
            <a:ext cx="37306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specs more in line with international n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linked to test reproducibility re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RAL has decided to follow the PG spec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br>
              <a:rPr sz="4400"/>
            </a:b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rossing the Rubic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esar undecided! The term has survived to refer to any individual or group committing itself to a risky or revolutionary course of action i.e passing the point of no retu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6" descr="PowerpointTemp2 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7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 - 19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2"/>
          <a:stretch/>
        </p:blipFill>
        <p:spPr>
          <a:xfrm>
            <a:off x="2770200" y="1244520"/>
            <a:ext cx="37209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8" descr="PowerpointTemp2 1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5d9ed"/>
                </a:solidFill>
                <a:latin typeface="Arial"/>
              </a:rPr>
              <a:t>Aka CROSSING THE RUB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RPF – 8/9 MA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Dennis Ross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6200640" y="5651640"/>
            <a:ext cx="99072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he Rubic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2"/>
          <a:stretch/>
        </p:blipFill>
        <p:spPr>
          <a:xfrm>
            <a:off x="711360" y="1150920"/>
            <a:ext cx="68976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Crossing the Rubic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diom - “Crossing the Rubicon” – means to pass a point of no return and refers to Julius Caesar’s army crossing of the river in 49 BC, which was considered an act of insurrectio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BITUM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ack and st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iginally a “residue” (or naturally occuring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w a “manufactured “ produ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specs do not guarante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ility of local bitumen err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in crude sources due to “international sanction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for supplementary imports (at a cost premiu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Roles &amp; Responsibilities of various parties in providing road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ent - Identification (a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ultant/contractor- (the midwife - bi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ent – (the foster parent- for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6" descr="PowerpointTemp2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New SANS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NS 307 ---- SANS 4001 BT1 (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NS 308 ---- SANS 4001 BT2 (cutb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5:31:33Z</dcterms:created>
  <dc:creator>Marx</dc:creator>
  <dc:description/>
  <dc:language>en-US</dc:language>
  <cp:lastModifiedBy>rossmannd</cp:lastModifiedBy>
  <dcterms:modified xsi:type="dcterms:W3CDTF">2012-05-08T06:59:20Z</dcterms:modified>
  <cp:revision>553</cp:revision>
  <dc:subject/>
  <dc:title>CONSULTANTS TENDER DOCUMENT</dc:title>
</cp:coreProperties>
</file>